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E702-758C-46BB-B692-DB73D8C7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A68E-3EE6-4AA4-81C5-00E1ED846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63EC-E935-4DD7-A59B-E5A7B5A7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4C60-67E5-4E59-8A39-2CCF1B3C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4C6-73B7-42F2-95D4-ADAF12D6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B384-A92E-4EC6-B2D7-4863596C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6275-5F8F-4EDB-89B0-56838D94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CF78-E71A-41E3-8405-2E82EDB6B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F6A-05A4-4C8D-A59D-713065BD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4F28-043B-4F2E-9361-F159D76F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771E-E0F2-4B61-9B18-610454D0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70FE-5BF4-4B92-813C-309D76170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F064-6CA9-4AC8-8E18-802CBBA1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AAE5-17D3-41B9-A6E6-D97BD8FC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6C4E-5638-46A8-AD4F-2F6BF2D5A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7EE0-08F7-4361-A7E4-ECB203203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DF84-4FDC-4EC2-B9DA-9BA3BE4C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C1AF-9837-4E78-A614-404749041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1B05-1A6F-48A7-A54E-DE16AA9E0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8B4E-322C-4345-828F-EC518C601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0758-E7E4-466F-AC50-F36A7DAB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F556-982F-45EF-AC51-69624E2E7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D910-1663-4A7F-807D-475D2E302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VERNE ON "LAVERNE AND SHIRLEY", BEFORE BECOMING A DIRECTORIAL POWER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9 LIVE-ACTION COMPUTER ANIMATED FILM ABOUT A FAMILY OF MICE CONTAINS THE VOICES OF MICHAEL J. FOX, GEENA DAVIS, HUGH LAURIE, AND NATHAN L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, WHO STARRED IN "AIRPLANE" AND "THE NAKED GUN" FRANCHISE, HAS BEEN CALLED "THE LAURENCE OLIVIER OF SPOOF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942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588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YOU'RE MY FIRST, MY LAST, MY EVERYTHING" AND "CAN'T GET ENOUGH OF YOUR LOVE BABE", AND HAS SOLD MORE THAN 100 MILLION RECO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WINE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RIT WHO DIED YOUNG SANG "STRONGER THAN ME", "REHAB", AND "LOVE IS A LOSING 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ADETTE  P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WITH STEVE MARTIN IN "THE JERK" AND "PENNIES FROM HEAVEN", BUT IS PRIMARILY KNOWN FOR THE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5000"/>
            <a:ext cx="739152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"SHOCK JOCK", AND NOW HAS A RADIO SHOW ON SIRIUS XM RA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DON  AD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PERSON IN THE WORLD, AND WAS THE LARGEST POLITICAL DONOR IN THE 2012 AND 2016 U.S. 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9 LIVE-ACTION COMPUTER ANIMATED FILM ABOUT A FAMILY OF MICE CONTAINS THE VOICES OF MICHAEL J. FOX, GEENA DAVIS, HUGH LAURIE, AND NATHAN LA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NIM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ON THE ORIGINAL SERIES OF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VERNE ON "LAVERNE AND SHIRLEY", BEFORE BECOMING A DIRECTORIAL POWER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NAMES  ARE  ALL  "BIG  BANG  THEORY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, WHO STARRED IN "AIRPLANE" AND "THE NAKED GUN" FRANCHISE, HAS BEEN CALLED "THE LAURENCE OLIVIER OF SPOOF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YOU'RE MY FIRST, MY LAST, MY EVERYTHING" AND "CAN'T GET ENOUGH OF YOUR LOVE BABE", AND HAS SOLD MORE THAN 100 MILLION RECO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RIT WHO DIED YOUNG SANG "STRONGER THAN ME", "REHAB", AND "LOVE IS A LOSING 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WITH STEVE MARTIN IN "THE JERK" AND "PENNIES FROM HEAVEN", BUT IS PRIMARILY KNOWN FOR THE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"SHOCK JOCK", AND NOW HAS A RADIO SHOW ON SIRIUS XM RA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PERSON IN THE WORLD, AND WAS THE LARGEST POLITICAL DONOR IN THE 2012 AND 2016 U.S. ELEC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ON THE ORIGINAL SERIES OF "STAR TR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8T23:21:25Z</dcterms:created>
  <dc:creator>Jennifer Budzinski</dc:creator>
  <dc:description/>
  <dc:language>en-US</dc:language>
  <cp:lastModifiedBy>Erich Friedman</cp:lastModifiedBy>
  <dcterms:modified xsi:type="dcterms:W3CDTF">2020-08-24T17:31:45Z</dcterms:modified>
  <cp:revision>401</cp:revision>
  <dc:subject/>
  <dc:title>Slide 1</dc:title>
</cp:coreProperties>
</file>