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0EAD9-C772-473C-8880-B270C8AB9E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0EA3E-B3FE-49C0-8ECE-75BF37E41F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94EF8-CC41-46B4-9A51-7B01D86001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A5B4B-D900-4972-A6FA-7449D5908F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8CBEF-094F-40E4-8F89-CEB8FF23C1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63A9C-3814-4647-BAA0-2547E9965A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4BB81-FB3D-4D2D-92EB-112BBEC64E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5D860-7C25-497A-81B7-01E327DA34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04A86-7B33-49A1-B911-7678F8C21B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18859-733E-47FF-BC18-E24C2DF400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4B165-8883-4CE7-916B-24DDAE5CD9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3400D-9FB7-411B-B651-9BDA6989F4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CB4B9-44A7-444C-B0B7-F8274B1D2C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DAF33-22E1-4C4F-9072-C7E54BD8E6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7E497-D699-4795-B331-453B0D64F4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B2FA6-9316-440D-A92B-3AAEF45F2D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B8CF1-AA65-4F84-9907-6231096CA2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A5EDC-3D23-42AB-B06D-D45802318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40A83-3EA9-44D4-BA15-BE6E70BF4F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F8F15-CE4A-4352-943E-8FDCD0620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0CB0E-F0E5-47BB-874B-10B820D695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4DFD9-C1A0-4581-865E-F016AD017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CD189-9C2D-4169-9D7A-29D005D758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52388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LAVERNE ON "LAVERNE AND SHIRLEY", BEFORE BECOMING A DIRECTORIAL POWERHOU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UART  LIT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304920" y="76212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1999 LIVE-ACTION COMPUTER ANIMATED FILM ABOUT A FAMILY OF MICE CONTAINS THE VOICES OF MICHAEL J. FOX, GEENA DAVIS, HUGH LAURIE, AND NATHAN LAN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SLIE  NIELS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57200" y="7621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, WHO STARRED IN "AIRPLANE" AND "THE NAKED GUN" FRANCHISE, HAS BEEN CALLED "THE LAURENCE OLIVIER OF SPOOF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94200"/>
            <a:ext cx="8382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RRY  WH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343080" y="75888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SANG "YOU'RE MY FIRST, MY LAST, MY EVERYTHING" AND "CAN'T GET ENOUGH OF YOUR LOVE BABE", AND HAS SOLD MORE THAN 100 MILLION RECORD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MY  WINEHO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47640" y="76212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EMALE BRIT WHO DIED YOUNG SANG "STRONGER THAN ME", "REHAB", AND "LOVE IS A LOSING GA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RNADETTE  P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STARRED WITH STEVE MARTIN IN "THE JERK" AND "PENNIES FROM HEAVEN", BUT IS PRIMARILY KNOWN FOR THEA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90440" y="4876920"/>
            <a:ext cx="8763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WARD  STE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76240" y="765000"/>
            <a:ext cx="7391520" cy="34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ORIGINAL "SHOCK JOCK", AND NOW HAS A RADIO SHOW ON SIRIUS XM RADI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ELDON  ADEL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95360" y="762120"/>
            <a:ext cx="81532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16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RICHEST PERSON IN THE WORLD, AND WAS THE LARGEST POLITICAL DONOR IN THE 2012 AND 2016 U.S. ELEC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868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1999 LIVE-ACTION COMPUTER ANIMATED FILM ABOUT A FAMILY OF MICE CONTAINS THE VOICES OF MICHAEL J. FOX, GEENA DAVIS, HUGH LAURIE, AND NATHAN LAN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ONARD  NIMO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371600" y="762120"/>
            <a:ext cx="6400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SPOCK ON THE ORIGINAL SERIES OF "STAR TRE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NNY  MARSH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33520" y="762120"/>
            <a:ext cx="80769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LAVERNE ON "LAVERNE AND SHIRLEY", BEFORE BECOMING A DIRECTORIAL POWERHOU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533520" y="4343400"/>
            <a:ext cx="80769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RST  NAMES  ARE  ALL  "BIG  BANG  THEORY"  CHARAC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, WHO STARRED IN "AIRPLANE" AND "THE NAKED GUN" FRANCHISE, HAS BEEN CALLED "THE LAURENCE OLIVIER OF SPOOF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04920" y="762120"/>
            <a:ext cx="8534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SANG "YOU'RE MY FIRST, MY LAST, MY EVERYTHING" AND "CAN'T GET ENOUGH OF YOUR LOVE BABE", AND HAS SOLD MORE THAN 100 MILLION RECORD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EMALE BRIT WHO DIED YOUNG SANG "STRONGER THAN ME", "REHAB", AND "LOVE IS A LOSING GAM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STARRED WITH STEVE MARTIN IN "THE JERK" AND "PENNIES FROM HEAVEN", BUT IS PRIMARILY KNOWN FOR THEA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ORIGINAL "SHOCK JOCK", AND NOW HAS A RADIO SHOW ON SIRIUS XM RADI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16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RICHEST PERSON IN THE WORLD, AND WAS THE LARGEST POLITICAL DONOR IN THE 2012 AND 2016 U.S. ELECTIO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181160" y="762120"/>
            <a:ext cx="67816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SPOCK ON THE ORIGINAL SERIES OF "STAR TREK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8T23:21:25Z</dcterms:created>
  <dc:creator>Jennifer Budzinski</dc:creator>
  <dc:description/>
  <dc:language>en-US</dc:language>
  <cp:lastModifiedBy>Erich Friedman</cp:lastModifiedBy>
  <dcterms:modified xsi:type="dcterms:W3CDTF">2020-08-24T17:31:45Z</dcterms:modified>
  <cp:revision>401</cp:revision>
  <dc:subject/>
  <dc:title>Slide 1</dc:title>
</cp:coreProperties>
</file>