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128E-CAC1-41A4-9CBE-4CFB73F20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A1DB-F550-4065-98E3-01DAE77B4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B05F-0174-4A0E-8D51-FF0FB5C5B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3AE8-AFE0-4068-882B-0B74CF4C0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B2E2-DCB8-4743-8EF9-02A3BC0C5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2113-A1C1-4359-B413-BFE8815A4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F0F7-92A8-4796-B61D-69FD6E4C4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B983-6C36-46E5-BFC5-E3A211A83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07AF-356C-423E-8545-B5530803A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0BCA-7F60-4DF2-AC6D-C47A6BF05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C8C9-3BA3-4667-B11C-8B0A08C02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8614-186F-4619-A8BC-BDBE851F9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0DC0-BFBA-494B-8FEC-492A1180E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0229-3197-4307-9A27-B6533DC15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F5F4-E716-4614-81FB-01BE4E65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CB3C-E6F6-4CA2-AFC3-1EE8020FF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55DD-297E-49C0-B493-5D5333B8C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2E55-B3B5-400F-B24B-CC62A6992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AAAF-8900-4754-A4B6-DE13F9EAB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D394-114A-430C-9507-1FF760883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2167-2732-47D1-93B1-00DEDA1DA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7D2A-FAC1-4B37-BB67-E437E0165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0A05-6E93-4194-BA18-6D7F95C13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VERNE ON "LAVERNE AND SHIRLEY", BEFORE BECOMING A DIRECTORIAL POWERH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ART  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04920" y="76212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99 LIVE-ACTION COMPUTER ANIMATED FILM ABOUT A FAMILY OF MICE CONTAINS THE VOICES OF MICHAEL J. FOX, GEENA DAVIS, HUGH LAURIE, AND NATHAN LA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SLIE  NIEL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, WHO STARRED IN "AIRPLANE" AND "THE NAKED GUN" FRANCHISE, HAS BEEN CALLED "THE LAURENCE OLIVIER OF SPOOF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942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Y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588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SANG "YOU'RE MY FIRST, MY LAST, MY EVERYTHING" AND "CAN'T GET ENOUGH OF YOUR LOVE BABE", AND HAS SOLD MORE THAN 100 MILLION RECOR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Y  WINE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BRIT WHO DIED YOUNG SANG "STRONGER THAN ME", "REHAB", AND "LOVE IS A LOSING G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ADETTE  P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WITH STEVE MARTIN IN "THE JERK" AND "PENNIES FROM HEAVEN", BUT IS PRIMARILY KNOWN FOR THE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44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S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5000"/>
            <a:ext cx="7391520" cy="34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"SHOCK JOCK", AND NOW HAS A RADIO SHOW ON SIRIUS XM RAD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LDON  AD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ICHEST PERSON IN THE WORLD, AND WAS THE LARGEST POLITICAL DONOR IN THE 2012 AND 2016 U.S. E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99 LIVE-ACTION COMPUTER ANIMATED FILM ABOUT A FAMILY OF MICE CONTAINS THE VOICES OF MICHAEL J. FOX, GEENA DAVIS, HUGH LAURIE, AND NATHAN LAN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  NIM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ON THE ORIGINAL SERIES OF "STAR TR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Y  MARS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VERNE ON "LAVERNE AND SHIRLEY", BEFORE BECOMING A DIRECTORIAL POWER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343400"/>
            <a:ext cx="8076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NAMES  ARE  ALL  "BIG  BANG  THEORY"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, WHO STARRED IN "AIRPLANE" AND "THE NAKED GUN" FRANCHISE, HAS BEEN CALLED "THE LAURENCE OLIVIER OF SPOOF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SANG "YOU'RE MY FIRST, MY LAST, MY EVERYTHING" AND "CAN'T GET ENOUGH OF YOUR LOVE BABE", AND HAS SOLD MORE THAN 100 MILLION RECOR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BRIT WHO DIED YOUNG SANG "STRONGER THAN ME", "REHAB", AND "LOVE IS A LOSING GA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WITH STEVE MARTIN IN "THE JERK" AND "PENNIES FROM HEAVEN", BUT IS PRIMARILY KNOWN FOR THE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"SHOCK JOCK", AND NOW HAS A RADIO SHOW ON SIRIUS XM RAD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ICHEST PERSON IN THE WORLD, AND WAS THE LARGEST POLITICAL DONOR IN THE 2012 AND 2016 U.S. ELEC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OCK ON THE ORIGINAL SERIES OF "STAR TRE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8T23:21:25Z</dcterms:created>
  <dc:creator>Jennifer Budzinski</dc:creator>
  <dc:description/>
  <dc:language>en-US</dc:language>
  <cp:lastModifiedBy>Erich Friedman</cp:lastModifiedBy>
  <dcterms:modified xsi:type="dcterms:W3CDTF">2020-08-24T17:31:45Z</dcterms:modified>
  <cp:revision>401</cp:revision>
  <dc:subject/>
  <dc:title>Slide 1</dc:title>
</cp:coreProperties>
</file>