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ED9-E26B-447E-AF2A-256D43E08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D02-13E6-4AA1-B8EF-9F0EE5A2C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D322-77F1-44A4-8BF8-F14C486D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42A-7FD9-4E88-9E4D-4C016F38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BD27-FC24-4B79-ACB1-FB306AF95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888-4580-42CD-B2DA-25EB3D86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D82A-8776-4019-B1DB-B6AA8738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6A9-94FD-4C3C-BB54-8C1A99F2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7E11-B072-4B06-AB55-B70FE2635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8A1A-F376-4561-973B-3D64E4CD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0B1D-9D90-4757-9C3F-3F82D23AC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4D7D-4421-4627-B831-C7CB8B64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3497-4B0A-4372-8CA9-459C95E2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D593-C379-43BE-9761-ACA5D8C2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898B-F5D8-4BA6-9F91-449419B4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F86B-BC05-4126-AE91-444EB99D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80DF-568C-4906-A798-81C0D3E31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39F-C256-46BF-9767-FB0E630D7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E5E-028C-4AB8-A7DE-90EC74DE5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9532-2CB0-4975-AF0E-90B84D87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1CBC-B8BF-4745-A569-D8EC4E86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2A83-9D4A-4ABB-9F1D-CC9E1E9E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F394-BD72-4020-985D-E16C3A56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WORD IN THE TITLE OF THE 1988 REMAKE OF "HIS GIRL FRIDAY", STARRING BURT REYNOLDS, KATHLEEN TURNER, AND CHRISTOPHER REE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HELEN KELLER QUOTE: "WE COULD NEVER LEARN TO BE BRAVE AND ____ IF THERE WERE ONLY JOY IN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L APPEARS IN A KURT VONNEGUT NOVEL TITLE AND A SUPERTRAMP ALBUM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OLLEYBALL, WHO USUALLY GIVES THE BALL ITS PENULTIMATE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VIL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38400" y="762120"/>
            <a:ext cx="666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WAR DID THE U.S. FIRST USE AERIAL RECONNAISS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38360" y="762120"/>
            <a:ext cx="766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OEM IS "HOW DO I LOVE THEE?   LET ME COUNT THE W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S OF THE UNIVERSITY OF GEORGIA  AND MISSISSIPPI STATE UNIVERSITY ARE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ETHIOPIA AND SOMALIA COMPRISE THE WHAT OF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HELEN KELLER QUOTE: "WE COULD NEVER LEARN TO BE BRAVE AND ____ IF THERE WERE ONLY JOY IN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1120" y="762120"/>
            <a:ext cx="778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LY 3 STATES HAVE AN OFFICIAL ONE OF?  (MINNESOTA = BLUEBERRY, MASSACHUSETTS = CORN,  &amp; NEW YORK = APP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WITCHING) 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72880" y="762120"/>
            <a:ext cx="8566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WORD IN THE TITLE OF THE 1988 REMAKE OF "HIS GIRL FRIDAY", STARRING BURT REYNOLDS, KATHLEEN TURNER, AND CHRISTOPHER REE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90840" y="4343400"/>
            <a:ext cx="5962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ENGLIS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L APPEARS IN A KURT VONNEGUT NOVEL TITLE AND A SUPERTRAMP ALBUM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OLLEYBALL, WHO USUALLY GIVES THE BALL ITS PENULTIMATE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WAR DID THE U.S. FIRST USE AERIAL RECONNAISS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OEM IS "HOW DO I LOVE THEE?   LET ME COUNT THE W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S OF THE UNIVERSITY OF GEORGIA  AND MISSISSIPPI STATE UNIVERSITY ARE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ETHIOPIA AND SOMALIA COMPRISE THE WHAT OF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LY 3 STATES HAVE AN OFFICIAL ONE OF?  (MINNESOTA = BLUEBERRY, MASSACHUSETTS = CORN,  &amp; NEW YORK = APP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6:44:46Z</dcterms:modified>
  <cp:revision>414</cp:revision>
  <dc:subject/>
  <dc:title>Slide 1</dc:title>
</cp:coreProperties>
</file>