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7534-133E-4E02-801B-B44E7C76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775-7407-4705-B7FA-A3D0488EA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F04C-1FF5-4D64-8CA1-DA621E976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89A7-B04F-46BE-A1BA-5563B858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43E-F384-441A-AAD8-C8C7A55E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D72-3EDD-4666-ABE1-5ED0275D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951-31C5-4115-BB9A-F06D273A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6531-54DB-4AFF-B365-464746FAE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D04C-9A05-439F-B06E-14A454D9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D9F-5073-4CA4-871D-D02D996A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259C-0C5C-4537-A58B-6C21AA97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F0BA-AA3D-417E-B985-A33FD207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D6E2-AC59-46AE-9B33-78FBB839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7FB-F895-41A7-AC76-E7F4672C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F85-C204-4455-A010-ECFF3219B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646-F9AC-4674-9AA3-E5543689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BAFA-82A0-45F0-AA85-B44FCD41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D12B-A888-4F8D-932F-351E3D6F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1887-10B2-4BF0-8F26-A70C9763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863-4A4E-415E-9068-E9E164E7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870-E344-40EB-B829-B22EE350E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6CC-C82C-4030-80CD-C9F19572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464A-72FB-47CC-8F92-D5E621AF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WORD IN THE TITLE OF THE 1988 REMAKE OF "HIS GIRL FRIDAY", STARRING BURT REYNOLDS, KATHLEEN TURNER, AND CHRISTOPHER REE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HELEN KELLER QUOTE: "WE COULD NEVER LEARN TO BE BRAVE AND ____ IF THERE WERE ONLY JOY IN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L APPEARS IN A KURT VONNEGUT NOVEL TITLE AND A SUPERTRAMP ALBUM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OLLEYBALL, WHO USUALLY GIVES THE BALL ITS PENULTIMATE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L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38400" y="762120"/>
            <a:ext cx="666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WAR DID THE U.S. FIRST USE AERIAL RECONNAISS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38360" y="762120"/>
            <a:ext cx="766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OEM IS "HOW DO I LOVE THEE?   LET ME COUNT THE W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S OF THE UNIVERSITY OF GEORGIA  AND MISSISSIPPI STATE UNIVERSITY ARE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ETHIOPIA AND SOMALIA COMPRISE THE WHAT OF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HELEN KELLER QUOTE: "WE COULD NEVER LEARN TO BE BRAVE AND ____ IF THERE WERE ONLY JOY IN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1120" y="762120"/>
            <a:ext cx="77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LY 3 STATES HAVE AN OFFICIAL ONE OF?  (MINNESOTA = BLUEBERRY, MASSACHUSETTS = CORN,  &amp; NEW YORK = APP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WITCHING) 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72880" y="762120"/>
            <a:ext cx="8566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WORD IN THE TITLE OF THE 1988 REMAKE OF "HIS GIRL FRIDAY", STARRING BURT REYNOLDS, KATHLEEN TURNER, AND CHRISTOPHER REE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90840" y="4343400"/>
            <a:ext cx="5962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ENGLIS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L APPEARS IN A KURT VONNEGUT NOVEL TITLE AND A SUPERTRAMP ALBUM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OLLEYBALL, WHO USUALLY GIVES THE BALL ITS PENULTIMATE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WAR DID THE U.S. FIRST USE AERIAL RECONNAISS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OEM IS "HOW DO I LOVE THEE?   LET ME COUNT THE W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S OF THE UNIVERSITY OF GEORGIA  AND MISSISSIPPI STATE UNIVERSITY ARE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ETHIOPIA AND SOMALIA COMPRISE THE WHAT OF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LY 3 STATES HAVE AN OFFICIAL ONE OF?  (MINNESOTA = BLUEBERRY, MASSACHUSETTS = CORN,  &amp; NEW YORK = AP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6:44:46Z</dcterms:modified>
  <cp:revision>414</cp:revision>
  <dc:subject/>
  <dc:title>Slide 1</dc:title>
</cp:coreProperties>
</file>