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42331-2FCF-476F-B058-0BCC24BA0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6ED08-08E7-4A6B-95F4-D888297E2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B1B9-F6EF-4F77-8390-60FBC08E0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C219-43D9-4E8E-8E93-4640260B2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8151-15A1-4864-AA58-E52E0E1A0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60C4-4D84-4451-99DB-5B3ABADD2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44AD-DE60-4024-A223-C4C27BA8D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7B8F-7658-42C9-ABD2-C4D7B6733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C061-CF1A-4977-9F77-0E09E2AE8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B015-C4CD-4790-8598-E26A9C20A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C86F-8704-4C97-B58D-1F39432EF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6C5A-6F56-49E6-BDCA-CC2E98478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BA34-5F2D-40C1-A533-D18954F2A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21438-DBA1-4306-BCD3-85BB2C08C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FDD1-9F03-4E7A-9124-70083A665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5ABE-EBCC-4E34-A71E-BF9DC05AF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6E57-8948-4D6B-BBCF-F21C02EA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375D-4923-490F-9E96-F6326F51E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2C66-39F1-4EA1-B83B-9F0B6399C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8C16-BC06-411C-9204-F8443CCD3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4630-DA4A-412E-A67F-B271D0F25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AE83-4B93-4997-A9FE-BB915D1D4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D0C2-4E1D-4D87-AC90-7ED90B230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028520" y="15238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276120" y="761760"/>
            <a:ext cx="85917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11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EAKF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762120"/>
            <a:ext cx="7200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VIL  W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238400" y="762120"/>
            <a:ext cx="6667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NN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38360" y="762120"/>
            <a:ext cx="7667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LLDO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314280" y="762120"/>
            <a:ext cx="8515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47600" y="762120"/>
            <a:ext cx="7048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IS HELEN KELLER QUOTE: "WE COULD NEVER LEARN TO BE BRAVE AND ____ IF THERE WERE ONLY JOY IN THE WORL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UFF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81120" y="762120"/>
            <a:ext cx="7781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SWITCHING)  CHANN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272880" y="762120"/>
            <a:ext cx="8566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LAST WORD IN THE TITLE OF THE 1988 REMAKE OF "HIS GIRL FRIDAY", STARRING BURT REYNOLDS, KATHLEEN TURNER, AND CHRISTOPHER REEV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590840" y="4343400"/>
            <a:ext cx="5962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THE  WORD  "ENGLISH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5480" indent="-195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AL APPEARS IN A KURT VONNEGUT NOVEL TITLE AND A SUPERTRAMP ALBUM TIT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VOLLEYBALL, WHO USUALLY GIVES THE BALL ITS PENULTIMATE H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238400" y="762120"/>
            <a:ext cx="666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WHAT WAR DID THE U.S. FIRST USE AERIAL RECONNAISSAN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OEM IS "HOW DO I LOVE THEE?   LET ME COUNT THE WAY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3840" y="761760"/>
            <a:ext cx="8896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MASCOTS OF THE UNIVERSITY OF GEORGIA  AND MISSISSIPPI STATE UNIVERSITY ARE WHAT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OGETHER, ETHIOPIA AND SOMALIA COMPRISE THE WHAT OF AFRIC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ONLY 3 STATES HAVE AN OFFICIAL ONE OF?  (MINNESOTA = BLUEBERRY, MASSACHUSETTS = CORN,  &amp; NEW YORK = APP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1T17:38:12Z</dcterms:created>
  <dc:creator>Jennifer Budzinski</dc:creator>
  <dc:description/>
  <dc:language>en-US</dc:language>
  <cp:lastModifiedBy>Erich Friedman</cp:lastModifiedBy>
  <dcterms:modified xsi:type="dcterms:W3CDTF">2020-08-31T16:44:46Z</dcterms:modified>
  <cp:revision>414</cp:revision>
  <dc:subject/>
  <dc:title>Slide 1</dc:title>
</cp:coreProperties>
</file>