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E444-5D62-49E8-BC89-23A212BD2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BB54-D660-4931-9B82-B88B66878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F513-0E1F-43B2-9545-0D0BDF7E2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B39F-D023-437C-B6AA-5E8D06E13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3143-0121-4F87-8024-8707D5A3F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D571-AD22-4EFE-87D7-5B5E51E34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0232-49C6-4BBF-AFCF-17D92A84B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BB1A-2F7F-42E0-8033-B4D574F60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0B73-E4A6-4EB7-A68A-8DA5C6412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1458-1199-4E74-BC9A-DD0BAEFDD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B5E0-8C63-4D55-B81E-FE4E503A8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4BC7-1DA8-4597-81E3-1541CB2E8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C751-A7A2-467C-B087-5D6CEAC36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E904-B0E4-4244-B76A-0B0581519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1911-84F1-49B9-9BE4-577829695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B1DD-E896-4989-AF92-6EA70EFC7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F552-49F9-4C3D-B77F-8CC0F0BFA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18D1-4F1A-447D-876C-3F1E2F26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DB35-EECB-4835-857D-E363FA1E1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485B-5C54-480A-B251-C1EBC3734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EA8E-7446-4334-8FD4-8E1136A70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4C43-A465-4622-9D59-073E3376E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E2F0-C441-4295-990A-63DE60813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12-SEASON TV SHOW DID EMILY DESCHANEL PLAY A FORENSIC ANTHROPOLOG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B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603360" y="762120"/>
            <a:ext cx="7926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notesstaff.gif"/>
          <p:cNvPicPr/>
          <p:nvPr/>
        </p:nvPicPr>
        <p:blipFill>
          <a:blip r:embed="rId1"/>
          <a:stretch/>
        </p:blipFill>
        <p:spPr>
          <a:xfrm>
            <a:off x="1066680" y="1981080"/>
            <a:ext cx="699948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IC – TAC –)  D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228600" y="838080"/>
            <a:ext cx="41720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  THE LAST      WORD IN THE    NAME OF THIS 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4776840" y="12286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ATERIAL RECYCLED, IN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04920" y="488304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D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19200" y="762120"/>
            <a:ext cx="79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YPE OF CHEESE IN THE U.K. AND THE SECOND MOST POPULA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NINE CENTRAL CHARACTER OF "THE CALL OF TH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ALLACE &amp; GROMIT", WHAT FOOD IS WALLACE ESPECIALLY FOND O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52280" y="893880"/>
            <a:ext cx="4581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IS THIS PETER GABRIEL ALBUM USUALLY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54168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1276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notesstaff.gif"/>
          <p:cNvPicPr/>
          <p:nvPr/>
        </p:nvPicPr>
        <p:blipFill>
          <a:blip r:embed="rId1"/>
          <a:stretch/>
        </p:blipFill>
        <p:spPr>
          <a:xfrm>
            <a:off x="1066680" y="1981080"/>
            <a:ext cx="6999480" cy="2895840"/>
          </a:xfrm>
          <a:prstGeom prst="rect">
            <a:avLst/>
          </a:prstGeom>
          <a:ln w="0">
            <a:noFill/>
          </a:ln>
        </p:spPr>
      </p:pic>
      <p:sp>
        <p:nvSpPr>
          <p:cNvPr id="494" name="TextBox 1"/>
          <p:cNvSpPr/>
          <p:nvPr/>
        </p:nvSpPr>
        <p:spPr>
          <a:xfrm>
            <a:off x="4876920" y="-5508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1084320" y="762120"/>
            <a:ext cx="6972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UITA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12-SEASON TV SHOW DID EMILY DESCHANEL PLAY A FORENSIC ANTHROPOLOG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1000080" y="4876920"/>
            <a:ext cx="7143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NG  TERMS  FOR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7880" y="914040"/>
            <a:ext cx="4228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  THE LAST      WORD IN THE    NAME OF THIS 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776840" y="12286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1238400" y="762120"/>
            <a:ext cx="6667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ATERIAL RECYCLED, IN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YPE OF CHEESE IN THE U.K. AND THE SECOND MOST POPULA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NINE CENTRAL CHARACTER OF "THE CALL OF THE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ALLACE &amp; GROMIT", WHAT FOOD IS WALLACE ESPECIALLY FOND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5960" y="91440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IS THIS PETER GABRIEL ALBUM USUALLY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54168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UITA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5:37Z</dcterms:modified>
  <cp:revision>441</cp:revision>
  <dc:subject/>
  <dc:title>Slide 1</dc:title>
</cp:coreProperties>
</file>