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C3DC-DD82-4323-B360-D671C40CA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1AE4-ADA3-418C-BE58-626730AA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CF66-BBAE-496A-93CD-34279ECD5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6A01-11A0-43D0-AA45-70E90272A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273C-40B3-43AB-A132-BA9208A6A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7BAF-6C2B-4B35-8682-782EEC8E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553D-29BE-47AD-A4FF-87D9BEAE9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B931-B58A-4D05-A2E9-FD5766469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2AE2-2219-4FAB-978E-1C45CDB29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8774-3FA4-450A-B42E-02B7F2959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935E-3574-43DD-93D0-D1D11CABA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0462-376D-40DF-A800-66240B728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1BA2-CD56-4458-9CFC-8ED5C4A36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E836-EDAC-4080-A127-24B7F9FCD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9E54-3AEE-49E4-9987-5DD9CB91F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D03F-E362-46E2-8951-D4560B986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F44C-5A31-4538-AFEB-38EDECD3D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0AC4-FA93-4317-91F8-F5587F383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1413-F7D1-4275-A6CE-96CBA9119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2420-173B-4447-9484-82B5F7B69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15C9-43A9-4EFB-A718-12AB2BABE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C281-6D2D-4BD8-B2E4-7296B8EE2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4DAA-DFCB-4FF0-9891-8B01E223A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12-SEASON TV SHOW DID EMILY DESCHANEL PLAY A FORENSIC ANTHROPOLOG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B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603360" y="762120"/>
            <a:ext cx="7926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notesstaff.gif"/>
          <p:cNvPicPr/>
          <p:nvPr/>
        </p:nvPicPr>
        <p:blipFill>
          <a:blip r:embed="rId1"/>
          <a:stretch/>
        </p:blipFill>
        <p:spPr>
          <a:xfrm>
            <a:off x="1066680" y="1981080"/>
            <a:ext cx="699948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IC – TAC –)  D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228600" y="838080"/>
            <a:ext cx="41720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  THE LAST      WORD IN THE    NAME OF THIS 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4776840" y="12286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ATERIAL RECYCLED, IN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04920" y="488304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D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19200" y="762120"/>
            <a:ext cx="79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YPE OF CHEESE IN THE U.K. AND THE SECOND MOST POPULA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NINE CENTRAL CHARACTER OF "THE CALL OF TH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ALLACE &amp; GROMIT", WHAT FOOD IS WALLACE ESPECIALLY FOND O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52280" y="893880"/>
            <a:ext cx="4581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IS THIS PETER GABRIEL ALBUM USUALLY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54168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1276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notesstaff.gif"/>
          <p:cNvPicPr/>
          <p:nvPr/>
        </p:nvPicPr>
        <p:blipFill>
          <a:blip r:embed="rId1"/>
          <a:stretch/>
        </p:blipFill>
        <p:spPr>
          <a:xfrm>
            <a:off x="1066680" y="1981080"/>
            <a:ext cx="6999480" cy="2895840"/>
          </a:xfrm>
          <a:prstGeom prst="rect">
            <a:avLst/>
          </a:prstGeom>
          <a:ln w="0">
            <a:noFill/>
          </a:ln>
        </p:spPr>
      </p:pic>
      <p:sp>
        <p:nvSpPr>
          <p:cNvPr id="494" name="TextBox 1"/>
          <p:cNvSpPr/>
          <p:nvPr/>
        </p:nvSpPr>
        <p:spPr>
          <a:xfrm>
            <a:off x="4876920" y="-5508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1084320" y="762120"/>
            <a:ext cx="6972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UITA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12-SEASON TV SHOW DID EMILY DESCHANEL PLAY A FORENSIC ANTHROPOLOG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1000080" y="4876920"/>
            <a:ext cx="7143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NG  TERMS  FOR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7880" y="914040"/>
            <a:ext cx="4228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  THE LAST      WORD IN THE    NAME OF THIS 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776840" y="12286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1238400" y="762120"/>
            <a:ext cx="6667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ATERIAL RECYCLED, IN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YPE OF CHEESE IN THE U.K. AND THE SECOND MOST POPULA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NINE CENTRAL CHARACTER OF "THE CALL OF THE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ALLACE &amp; GROMIT", WHAT FOOD IS WALLACE ESPECIALLY FOND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5960" y="91440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IS THIS PETER GABRIEL ALBUM USUALLY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54168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UITA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5:37Z</dcterms:modified>
  <cp:revision>441</cp:revision>
  <dc:subject/>
  <dc:title>Slide 1</dc:title>
</cp:coreProperties>
</file>