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35BD3-40F7-4C92-ACAD-19F9047A0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67DA-777C-4AB8-BE10-AEA5551F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E155-F7AB-43EA-8A6B-A8A747F6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3973-F1FB-4F10-ADDF-198B945CA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0231-1341-467E-9065-CA3AD87F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6225-D588-4D2B-8911-B790E6538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020-024E-465F-9D8C-0E264DFAF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B731-58C1-4029-9221-4B922C366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17FA-CBB4-4DCF-AB6F-865397AE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F09B-F147-4B6E-A863-12DE77996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EC8E-6715-41B2-A7B4-5CFCF5874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EFF8-237A-45B1-A2D4-52E5D8601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ED40-2EB4-47DB-BE77-F05E11D5D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5273-CA9D-4855-B2C9-2782A81A3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DD38-ADB8-4C77-9196-2206D9BF8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FDD9-E8FD-46A5-B4FA-6C11099C1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52251-8F55-4516-8C2D-6917ECB89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F759-0F15-4658-86F9-93D20222E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9A03-8543-407B-8351-9804FBF2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0894-E7EC-4017-89B4-48EDA111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9C1F-08D6-4FFA-9014-270D90134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2B3-9CBD-418F-8D39-3BD0E723D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AA86-26CD-4E5A-8E10-65B50E813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603360" y="762120"/>
            <a:ext cx="7926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IC – TAC –)  D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838080"/>
            <a:ext cx="417204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04920" y="488304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D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19200" y="76212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2280" y="893880"/>
            <a:ext cx="4581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12760" y="762120"/>
            <a:ext cx="693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TES ARE THE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notesstaff.gif"/>
          <p:cNvPicPr/>
          <p:nvPr/>
        </p:nvPicPr>
        <p:blipFill>
          <a:blip r:embed="rId1"/>
          <a:stretch/>
        </p:blipFill>
        <p:spPr>
          <a:xfrm>
            <a:off x="1066680" y="1981080"/>
            <a:ext cx="6999480" cy="28958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1"/>
          <p:cNvSpPr/>
          <p:nvPr/>
        </p:nvSpPr>
        <p:spPr>
          <a:xfrm>
            <a:off x="4876920" y="-550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1084320" y="762120"/>
            <a:ext cx="6972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12-SEASON TV SHOW DID EMILY DESCHANEL PLAY A FORENSIC ANTHROPOLOG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1000080" y="4876920"/>
            <a:ext cx="7143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ANG  TERMS  FOR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880" y="914040"/>
            <a:ext cx="4228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  THE LAST      WORD IN THE    NAME OF THIS 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776840" y="122868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1238400" y="762120"/>
            <a:ext cx="6667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MATERIAL RECYCLED, IN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JA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YPE OF CHEESE IN THE U.K. AND THE SECOND MOST POPULA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CANINE CENTRAL CHARACTER OF "THE CALL OF THE WI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WALLACE &amp; GROMIT", WHAT FOOD IS WALLACE ESPECIALLY FOND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5960" y="914400"/>
            <a:ext cx="4647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Y WHAT NAME IS THIS PETER GABRIEL ALBUM USUALLY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5105520" y="990720"/>
            <a:ext cx="354168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GUIT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5:37Z</dcterms:modified>
  <cp:revision>441</cp:revision>
  <dc:subject/>
  <dc:title>Slide 1</dc:title>
</cp:coreProperties>
</file>