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78CF-0492-4697-BEE8-C9A9F0A5A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EAA1-6AB9-4834-AE64-FF9DB4FA2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B415-C42F-4A99-91F8-789889F4D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D4AA-7027-4C39-BC68-034DF4A5F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7ED9-37CA-4300-8B64-A2F0C7840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952C-462D-45BD-A9C7-8161B8953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52FF-185E-45A3-B5CF-1CD1A728F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8AB7-9699-456B-8801-90E0449A8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C0A1-828D-4DE4-8A72-8A3C6F803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6B67-D552-40E7-84EC-893EBAEDB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3532-2066-4C86-AE8E-5F19D8B4A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680D-934A-4E29-8F66-50F8545BF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EB4D-120D-4834-BF03-35FB6FF19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CE9B-E8DD-4CEA-B4D2-9374A6BFB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4119-995C-45BC-8ADE-84C3540C7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41F8-1E96-4B23-942E-C6425C45B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03E7-94B7-44F5-803E-5B8448990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3F5D-5724-40AF-BAB0-0F7787865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D899-E768-457E-B840-933CB0158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A25D-724E-453F-8EF7-C02DD04BD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3DF7-C610-4B9B-9F01-13FCE7A6A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25C2-008A-44D1-8330-6D41B0C49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D91A-73FC-47FB-B307-F264223FD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724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COMEDY FILM HAD THIS MOVIE PO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5410080" y="838080"/>
            <a:ext cx="314496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 PAL  TRI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33240" y="762120"/>
            <a:ext cx="7877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6 WESTERN MUSICAL IS ABOUT HOW ROY ROGERS GOT HIS HO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LOWS  P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74800" y="762120"/>
            <a:ext cx="7394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DITIONAL      BLUES SONG ABOUT A CONDEMNED MAN IS THE ONLY LED ZEPPELIN SONG THAT FEATURES A BANJ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MAN  VINCENT  PE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914400" y="7621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POWER OF POSITIVE THINK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838080" y="4886280"/>
            <a:ext cx="746784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GGED  LITTLE  P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371520" y="762120"/>
            <a:ext cx="8399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BUM OF ALANIS MORISSETTE WAS NOMINATED FOR 9 GRAMMYS, WINNING 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LE  R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CLINT EASTWOOD WESTERN HAS A TITLE THAT REFERENCES THE FOUR HORSEMEN     OF THE APOCALYP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EAD  P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352440" y="762120"/>
            <a:ext cx="8439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 FILM IS THE LAST OF THE 5 "DIRTY HARRY" FILMS, STARRING CLINT EASTWOOD, PATRICIA CLARKSON, LIAM NEESON, AND JIM CARR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MA  P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536400" y="762120"/>
            <a:ext cx="8071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"THE AVENGERS", WHO WAS JOHN STEED'S PARTNER FOR THE LONG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57280" y="762120"/>
            <a:ext cx="8029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6 WESTERN MUSICAL IS ABOUT HOW ROY ROGERS GOT HIS HO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BAGE  PAIL  K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ES OF STICKER TRADING CARDS PARODIED THE CABBAGE PATCH KIDS DOLLS THAT WERE POPULAR AT TH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BLART:  MALL  C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76320" y="838080"/>
            <a:ext cx="4800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COMEDY FILM HAD THIS MOVIE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5410080" y="838080"/>
            <a:ext cx="3144960" cy="344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04920" y="4267080"/>
            <a:ext cx="8534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S  A  ONE–SYLLABLE  WORD  WITH  ONLY  P  &amp;  L  S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54200" y="761760"/>
            <a:ext cx="76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DITIONAL      BLUES SONG ABOUT A CONDEMNED MAN IS THE ONLY LED ZEPPELIN SONG THAT FEATURES A BANJ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43120" y="762120"/>
            <a:ext cx="7457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POWER OF POSITIVE THINK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92040" y="762120"/>
            <a:ext cx="8359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BUM OF ALANIS MORISSETTE WAS NOMINATED FOR 9 GRAMMYS, WINNING 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28720" y="762120"/>
            <a:ext cx="7486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CLINT EASTWOOD WESTERN HAS A TITLE THAT REFERENCES THE FOUR HORSEMEN     OF THE APOCALYP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5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 FILM IS THE LAST OF THE 5 "DIRTY HARRY" FILMS, STARRING CLINT EASTWOOD, PATRICIA CLARKSON, LIAM NEESON, AND JIM CARR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01120" y="762120"/>
            <a:ext cx="8139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"THE AVENGERS", WHO WAS JOHN STEED'S PARTNER FOR THE LONG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1640" y="762120"/>
            <a:ext cx="75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ES OF STICKER TRADING CARDS PARODIED THE CABBAGE PATCH KIDS DOLLS THAT WERE POPULAR AT THE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46:01Z</dcterms:modified>
  <cp:revision>460</cp:revision>
  <dc:subject/>
  <dc:title>Slide 1</dc:title>
</cp:coreProperties>
</file>