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C74B-7555-4F1E-BD82-3061723D7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B9E1-DF66-491B-8BC2-D9417E5C9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1C85-EC8F-4E72-82EB-B00BB9146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3C37-3CAF-474F-97CA-DFEFAD4D5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C3F0-E0A2-4B04-9364-F976CDAA1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6084-30B4-4E14-B335-4C7EBBD6A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B754-A60C-4CDF-8EFD-2C39874CE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4770A-7E69-4CCC-842E-5712532BE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5DF8-88D4-47BF-A027-7D30D26CD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597F-A526-472C-B61D-0B6218FFF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328C-EF3D-4A5E-AB4E-01F76968D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120B-E389-4F48-99FC-491049C26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4F45-9A24-4E82-AFAA-CA51B1B6B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BA19-0F29-478F-8B14-14C0268CF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FC74-7374-4DC5-A541-E518D372C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0D256-D49F-4AB6-A27E-7995722F5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65CB-CC40-4F76-AFBB-3366B7B8D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C6AD-949C-4D53-A3DA-813CF2485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B80C-513D-4855-A813-54A95C678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A046-7387-4703-99F8-824C74A58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AA25-3393-43F8-8DC3-334D9D75A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19EA-27DB-4AFE-8D05-D4AFCAB5F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2C33-6910-4F7D-BA71-68800D037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724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COMEDY FILM HAD THIS MOVIE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314496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PAL  TRI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33240" y="762120"/>
            <a:ext cx="787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6 WESTERN MUSICAL IS ABOUT HOW ROY ROGERS GOT HIS HO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LOWS  P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74800" y="762120"/>
            <a:ext cx="7394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     BLUES SONG ABOUT A CONDEMNED MAN IS THE ONLY LED ZEPPELIN SONG THAT FEATURES A BANJ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MAN  VINCENT  PE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POWER OF POSITIVE THIN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838080" y="4886280"/>
            <a:ext cx="74678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GGED  LITTLE  P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371520" y="762120"/>
            <a:ext cx="8399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BUM OF ALANIS MORISSETTE WAS NOMINATED FOR 9 GRAMMYS, WINNING 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LE  R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CLINT EASTWOOD WESTERN HAS A TITLE THAT REFERENCES THE FOUR HORSEMEN     OF THE APOCALYP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EAD  P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352440" y="762120"/>
            <a:ext cx="8439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FILM IS THE LAST OF THE 5 "DIRTY HARRY" FILMS, STARRING CLINT EASTWOOD, PATRICIA CLARKSON, LIAM NEESON, AND JIM CARR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MA  P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536400" y="762120"/>
            <a:ext cx="8071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THE AVENGERS", WHO WAS JOHN STEED'S PARTNER FOR THE LON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57280" y="762120"/>
            <a:ext cx="8029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6 WESTERN MUSICAL IS ABOUT HOW ROY ROGERS GOT HIS HO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BAGE  PAIL  K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OF STICKER TRADING CARDS PARODIED THE CABBAGE PATCH KIDS DOLLS THAT WERE POPULAR AT TH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BLART:  MALL  C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76320" y="838080"/>
            <a:ext cx="4800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COMEDY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5410080" y="838080"/>
            <a:ext cx="3144960" cy="344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04920" y="4267080"/>
            <a:ext cx="8534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S  A  ONE–SYLLABLE  WORD  WITH  ONLY  P  &amp;  L  S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54200" y="761760"/>
            <a:ext cx="76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     BLUES SONG ABOUT A CONDEMNED MAN IS THE ONLY LED ZEPPELIN SONG THAT FEATURES A BANJ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43120" y="762120"/>
            <a:ext cx="7457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POWER OF POSITIVE THIN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92040" y="762120"/>
            <a:ext cx="8359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BUM OF ALANIS MORISSETTE WAS NOMINATED FOR 9 GRAMMYS, WINNING 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28720" y="762120"/>
            <a:ext cx="7486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CLINT EASTWOOD WESTERN HAS A TITLE THAT REFERENCES THE FOUR HORSEMEN     OF THE APOCALYP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FILM IS THE LAST OF THE 5 "DIRTY HARRY" FILMS, STARRING CLINT EASTWOOD, PATRICIA CLARKSON, LIAM NEESON, AND JIM CARR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01120" y="762120"/>
            <a:ext cx="8139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THE AVENGERS", WHO WAS JOHN STEED'S PARTNER FOR THE LONG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1640" y="762120"/>
            <a:ext cx="75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OF STICKER TRADING CARDS PARODIED THE CABBAGE PATCH KIDS DOLLS THAT WERE POPULAR AT THE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46:01Z</dcterms:modified>
  <cp:revision>460</cp:revision>
  <dc:subject/>
  <dc:title>Slide 1</dc:title>
</cp:coreProperties>
</file>