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AEF2-9A49-4E28-8A2B-2B50F80F2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4B28-99FA-4226-8CA9-BEDD2A796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CABB-3178-4F27-8154-94624DE7E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42D1-AB44-4496-8BD0-B863A1862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B7D3-882C-45AC-91AA-2329D5CA3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204E-B605-40FA-B6C4-4CB75DE1B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32D4-8081-41DA-878E-F21EC763E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F221-4D1B-4864-9861-73D800C97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5838-33EA-4A21-906D-926D14530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045E-5E1D-4B41-BE8C-9DBF10A41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3A02-D894-41CD-9602-3E48F4FF7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80F0-DB15-474F-BD39-C332C14C6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C38E-DD0C-4311-AC12-0C01F3610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47E4-E256-4AE6-8FD5-04DF251CB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377D-7EF6-4654-ACB1-388CCD60A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B3E3-273C-4602-9C03-4780E41CB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4D06-3ABF-4E20-9B97-9F54F98A8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1AE3-9A9A-4AAF-A540-45E495B7A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8054-610B-4059-A719-156A68D8B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634D-7BE2-43B9-ACEA-797A44761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6FA7-FBDB-4462-85AC-CD61E5B13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CFA4-C50B-4AE0-97D4-4CA2E589D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F3FC-7DC2-4C07-9DA4-D44AFD32B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724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COMEDY FILM HAD THIS MOVIE PO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5410080" y="838080"/>
            <a:ext cx="314496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 PAL  TRI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33240" y="762120"/>
            <a:ext cx="7877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6 WESTERN MUSICAL IS ABOUT HOW ROY ROGERS GOT HIS HO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LOWS  P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74800" y="762120"/>
            <a:ext cx="7394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DITIONAL      BLUES SONG ABOUT A CONDEMNED MAN IS THE ONLY LED ZEPPELIN SONG THAT FEATURES A BANJ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MAN  VINCENT  PE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914400" y="7621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POWER OF POSITIVE THINK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838080" y="4886280"/>
            <a:ext cx="74678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GGED  LITTLE  P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371520" y="762120"/>
            <a:ext cx="8399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BUM OF ALANIS MORISSETTE WAS NOMINATED FOR 9 GRAMMYS, WINNING 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LE  R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CLINT EASTWOOD WESTERN HAS A TITLE THAT REFERENCES THE FOUR HORSEMEN     OF THE APOCALYP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EAD  P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352440" y="762120"/>
            <a:ext cx="8439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 FILM IS THE LAST OF THE 5 "DIRTY HARRY" FILMS, STARRING CLINT EASTWOOD, PATRICIA CLARKSON, LIAM NEESON, AND JIM CARR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MA  P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536400" y="762120"/>
            <a:ext cx="8071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THE AVENGERS", WHO WAS JOHN STEED'S PARTNER FOR THE LONG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57280" y="762120"/>
            <a:ext cx="8029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6 WESTERN MUSICAL IS ABOUT HOW ROY ROGERS GOT HIS HO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BAGE  PAIL  K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ES OF STICKER TRADING CARDS PARODIED THE CABBAGE PATCH KIDS DOLLS THAT WERE POPULAR AT TH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BLART:  MALL  C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76320" y="838080"/>
            <a:ext cx="4800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COMEDY FILM HAD THIS MOVIE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5410080" y="838080"/>
            <a:ext cx="3144960" cy="344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04920" y="4267080"/>
            <a:ext cx="8534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S  A  ONE–SYLLABLE  WORD  WITH  ONLY  P  &amp;  L  S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54200" y="761760"/>
            <a:ext cx="76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DITIONAL      BLUES SONG ABOUT A CONDEMNED MAN IS THE ONLY LED ZEPPELIN SONG THAT FEATURES A BANJ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43120" y="762120"/>
            <a:ext cx="7457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POWER OF POSITIVE THINK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92040" y="762120"/>
            <a:ext cx="8359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BUM OF ALANIS MORISSETTE WAS NOMINATED FOR 9 GRAMMYS, WINNING 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28720" y="762120"/>
            <a:ext cx="7486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CLINT EASTWOOD WESTERN HAS A TITLE THAT REFERENCES THE FOUR HORSEMEN     OF THE APOCALYP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 FILM IS THE LAST OF THE 5 "DIRTY HARRY" FILMS, STARRING CLINT EASTWOOD, PATRICIA CLARKSON, LIAM NEESON, AND JIM CARR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01120" y="762120"/>
            <a:ext cx="8139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THE AVENGERS", WHO WAS JOHN STEED'S PARTNER FOR THE LONG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1640" y="762120"/>
            <a:ext cx="75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ES OF STICKER TRADING CARDS PARODIED THE CABBAGE PATCH KIDS DOLLS THAT WERE POPULAR AT THE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46:01Z</dcterms:modified>
  <cp:revision>460</cp:revision>
  <dc:subject/>
  <dc:title>Slide 1</dc:title>
</cp:coreProperties>
</file>