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93C2-84D9-41E4-94EC-8CDFEAE3E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ED27-458A-4CE9-B4E6-5A58407F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A22-3898-4710-904B-6F3C84C5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B95A-04A4-43D6-A32E-A3F3CFF53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6CFD-D276-4BD3-A1A4-7DFAFA93F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DC8E-B2D7-4AA4-8D87-892C61BBD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64C1-CE7E-459C-A0BF-ACD05816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F32B-8CD0-4792-B730-4BA1ABF86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C367-6E23-435B-B36A-22085053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CAF4-06A3-4CCC-A23E-96C22D812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17EF-17B7-495D-BA6D-E08534250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264A-5757-4B40-96A4-A091D408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D0DA-FC26-499C-A030-37DCA086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213F-2916-4EC3-B8EE-8268687E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3933-D2A7-4AD1-A51B-95B739469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78AB-936D-4489-A09F-A00E1416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623B-6DBB-4C14-A6A3-C4A538EFD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6E2D-054B-4112-B28D-332D14885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84E1-952A-4F12-B947-83E218510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19D7-F973-49DA-BC0B-E43695AE4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28E9-E57A-4C62-A841-3DE7F6FA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704A-5955-4DB5-9C1D-50655BCA5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0E19-AD73-41D2-A4DE-9B9E4A0B6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TERRORIST GROUP FOE OF G.I. J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57080" y="762120"/>
            <a:ext cx="762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CHINESE ASTROLOGY, THOSE BORN BETWEEN JAN 25, 2020 AND FEB 11, 2021 ARE BORN IN THE YEAR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WAS THE CELSIUS TEMPERATURE SCALE BASED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66840" y="762120"/>
            <a:ext cx="8410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THE FIRST COLLEGE IN THE U.S. TO ADMIT STUDENTS REGARDLESS OF THEIR RELIGIOUS AFFIL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4920" y="762120"/>
            <a:ext cx="7272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GIFT TO CELEBRATE A  3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2560" y="762120"/>
            <a:ext cx="777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E 1988 U2 ALBUM "____ AND H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AC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5240" y="762120"/>
            <a:ext cx="701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OKER VARIANT DO PLAYERS PASS 3, THEN 2, THEN 1 CARDS TO THEIR NEIGHB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36560" y="762120"/>
            <a:ext cx="767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CHINESE ASTROLOGY, THOSE BORN BETWEEN JAN 25, 2020 AND FEB 11, 2021 ARE BORN IN THE YEAR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PURPOSE PROGRAMMING LANGUAGE IS KNOWN FOR ITS READABILITY AND EXTENSIVE LIBRA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38320" y="762120"/>
            <a:ext cx="686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AIN TERRORIST GROUP FOE OF G.I. JO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20760" y="4876920"/>
            <a:ext cx="670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WAS THE CELSIUS TEMPERATURE SCALE BASED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9600" y="762120"/>
            <a:ext cx="8524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VY LEAGUE UNIVERSITY WAS THE FIRST COLLEGE IN THE U.S. TO ADMIT STUDENTS REGARDLESS OF THEIR RELIGIOUS AFFIL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GIFT TO CELEBRATE A   3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32880" y="761760"/>
            <a:ext cx="787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EM OF CLOTHING DO MANY GROOMS REMOVE FROM THEIR BRIDE AT THE RECEPTION, SYMBOLIZING HER DEFLOWE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19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TITLE OF THE 1988 U2 ALBUM "____ AND H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OKER VARIANT DO PLAYERS PASS 3, THEN 2, THEN 1 CARDS TO THEIR NEIGH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PURPOSE PROGRAMMING LANGUAGE IS KNOWN FOR ITS READABILITY AND EXTENSIVE LIBR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08-31T16:46:18Z</dcterms:modified>
  <cp:revision>469</cp:revision>
  <dc:subject/>
  <dc:title>Slide 1</dc:title>
</cp:coreProperties>
</file>