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4868-99B8-427C-B6E1-4621761A4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9061-D5CA-44EC-8C30-68A787A82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BEC5-43B1-4362-BCA0-EF06DF2B4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3048-BAFB-4259-AD80-B40CF507E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C221-BBD9-4D8F-A983-537C371B7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1511-668F-43B0-A397-FDD539EF3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A468-B965-4F17-B4AC-8023A0EBA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A2BA-51CD-4960-8EC0-9B3ED2848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89E3-0883-4C04-99F5-D5CBAA155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3188-2A18-49D9-9C04-6E2492EBF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241B-1401-4679-84DB-7890FACAC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6A7B-0BE2-4701-9AC1-23C6D2869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FEA6-8C55-4265-9C18-F71F8D7F9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C069-D14D-429E-B85C-86360CF8F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482D-D027-49F2-AB98-4F43E28C3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B94C-9958-4548-91D7-5BC336A3C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0B2A-50EF-4E10-B0DA-A43D511D3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FF9F-F23E-495B-950D-ED19EECC2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A35B-67FE-4FB3-A98A-5D0A05D50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A90E-8AAD-4A59-9BC4-34F8891EE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F477-83E2-4017-958C-2DE6A1053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F742-39F2-473E-B9D8-812F5792B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93F1-5FAA-4C43-ACF3-498640439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AIN TERRORIST GROUP FOE OF G.I. JO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57080" y="762120"/>
            <a:ext cx="7629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CHINESE ASTROLOGY, THOSE BORN BETWEEN JAN 25, 2020 AND FEB 11, 2021 ARE BORN IN THE YEAR OF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228600" y="48769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4800" y="762120"/>
            <a:ext cx="7394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BSTANCE WAS THE CELSIUS TEMPERATURE SCALE BASED 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266760" y="4876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66840" y="762120"/>
            <a:ext cx="8410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VY LEAGUE UNIVERSITY WAS THE FIRST COLLEGE IN THE U.S. TO ADMIT STUDENTS REGARDLESS OF THEIR RELIGIOUS AFFILI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34920" y="762120"/>
            <a:ext cx="7272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RADITIONAL GIFT TO CELEBRATE A  3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NIVERS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8116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2560" y="762120"/>
            <a:ext cx="7778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EM OF CLOTHING DO MANY GROOMS REMOVE FROM THEIR BRIDE AT THE RECEPTION, SYMBOLIZING HER DEFLOWER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4960" y="762120"/>
            <a:ext cx="8074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E TITLE OF THE 1988 U2 ALBUM "____ AND HU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ACO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65240" y="762120"/>
            <a:ext cx="7013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POKER VARIANT DO PLAYERS PASS 3, THEN 2, THEN 1 CARDS TO THEIR NEIGHB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36560" y="762120"/>
            <a:ext cx="7670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CHINESE ASTROLOGY, THOSE BORN BETWEEN JAN 25, 2020 AND FEB 11, 2021 ARE BORN IN THE YEAR OF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YTH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11080" y="762120"/>
            <a:ext cx="7520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NERAL PURPOSE PROGRAMMING LANGUAGE IS KNOWN FOR ITS READABILITY AND EXTENSIVE LIBRA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38320" y="762120"/>
            <a:ext cx="6867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AIN TERRORIST GROUP FOE OF G.I. JO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20760" y="4876920"/>
            <a:ext cx="6701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SN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BSTANCE WAS THE CELSIUS TEMPERATURE SCALE BASED 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9600" y="762120"/>
            <a:ext cx="8524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VY LEAGUE UNIVERSITY WAS THE FIRST COLLEGE IN THE U.S. TO ADMIT STUDENTS REGARDLESS OF THEIR RELIGIOUS AFFILI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24040" y="762120"/>
            <a:ext cx="749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RADITIONAL GIFT TO CELEBRATE A   3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NIVERS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32880" y="761760"/>
            <a:ext cx="7875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EM OF CLOTHING DO MANY GROOMS REMOVE FROM THEIR BRIDE AT THE RECEPTION, SYMBOLIZING HER DEFLOWER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74840" y="761760"/>
            <a:ext cx="819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E TITLE OF THE 1988 U2 ALBUM "____ AND HU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47600" y="761760"/>
            <a:ext cx="7048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POKER VARIANT DO PLAYERS PASS 3, THEN 2, THEN 1 CARDS TO THEIR NEIGHB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58800" y="762120"/>
            <a:ext cx="7824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NERAL PURPOSE PROGRAMMING LANGUAGE IS KNOWN FOR ITS READABILITY AND EXTENSIVE LIBRA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0-08-31T16:46:18Z</dcterms:modified>
  <cp:revision>469</cp:revision>
  <dc:subject/>
  <dc:title>Slide 1</dc:title>
</cp:coreProperties>
</file>