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872F-517E-4481-B486-63B742881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3C72-55D5-4D88-85F6-903B4C0B4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6F39-408F-4197-A35B-8ED805978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7C86-B9C0-4F6D-8F56-84C83A987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3A14-5076-4DF6-A427-CE5234BBF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4DAF-6A9E-41BC-999E-DA376582F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9A6C-57B2-40B3-AC57-830EF02DD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793E-6EBA-4AFD-BC86-D8387D0F1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F6C6-4C78-4FAB-A536-6499406B3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272F-210C-49D4-B1BE-364E63675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B558-B00E-467E-A89C-467D6B8CF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35EE-9A20-4E6F-AF87-1623C2FA4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89C4-028A-431F-B9F0-29F1B7A72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F587-1220-426F-A6CA-6E635F7C5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39FD-3357-4D6F-AF37-7612AF9A3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9D1B-2919-45B2-A332-EF36A7EE0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C6C0-44FC-423B-BFDC-0629B073B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9991-61BB-4408-B8C2-0A73B94C4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13C7-2A83-4E78-AD3C-AA375308A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9B0E-922A-4829-B155-62E67429A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6DB9-29F4-41B7-8ABF-B7AF9FF49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3E47-3E41-42F0-A4AA-09294AA37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7155-27B9-4224-BAEA-D46B7AD5A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AIN TERRORIST GROUP FOE OF G.I. J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57080" y="762120"/>
            <a:ext cx="7629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CHINESE ASTROLOGY, THOSE BORN BETWEEN JAN 25, 2020 AND FEB 11, 2021 ARE BORN IN THE YEAR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4800" y="762120"/>
            <a:ext cx="739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WAS THE CELSIUS TEMPERATURE SCALE BASED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66840" y="762120"/>
            <a:ext cx="8410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VY LEAGUE UNIVERSITY WAS THE FIRST COLLEGE IN THE U.S. TO ADMIT STUDENTS REGARDLESS OF THEIR RELIGIOUS AFFIL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34920" y="762120"/>
            <a:ext cx="7272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RADITIONAL GIFT TO CELEBRATE A  3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2560" y="762120"/>
            <a:ext cx="777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OF CLOTHING DO MANY GROOMS REMOVE FROM THEIR BRIDE AT THE RECEPTION, SYMBOLIZING HER DEFLOWE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4960" y="762120"/>
            <a:ext cx="807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TITLE OF THE 1988 U2 ALBUM "____ AND H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AC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5240" y="762120"/>
            <a:ext cx="7013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OKER VARIANT DO PLAYERS PASS 3, THEN 2, THEN 1 CARDS TO THEIR NEIGHB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36560" y="762120"/>
            <a:ext cx="767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CHINESE ASTROLOGY, THOSE BORN BETWEEN JAN 25, 2020 AND FEB 11, 2021 ARE BORN IN THE YEAR OF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TH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11080" y="762120"/>
            <a:ext cx="7520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PURPOSE PROGRAMMING LANGUAGE IS KNOWN FOR ITS READABILITY AND EXTENSIVE LIBRA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38320" y="762120"/>
            <a:ext cx="686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AIN TERRORIST GROUP FOE OF G.I. JO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20760" y="4876920"/>
            <a:ext cx="670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N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WAS THE CELSIUS TEMPERATURE SCALE BASED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9600" y="762120"/>
            <a:ext cx="8524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VY LEAGUE UNIVERSITY WAS THE FIRST COLLEGE IN THE U.S. TO ADMIT STUDENTS REGARDLESS OF THEIR RELIGIOUS AFFIL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RADITIONAL GIFT TO CELEBRATE A   3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32880" y="761760"/>
            <a:ext cx="787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OF CLOTHING DO MANY GROOMS REMOVE FROM THEIR BRIDE AT THE RECEPTION, SYMBOLIZING HER DEFLOWE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74840" y="761760"/>
            <a:ext cx="819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TITLE OF THE 1988 U2 ALBUM "____ AND HU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OKER VARIANT DO PLAYERS PASS 3, THEN 2, THEN 1 CARDS TO THEIR NEIGHB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PURPOSE PROGRAMMING LANGUAGE IS KNOWN FOR ITS READABILITY AND EXTENSIVE LIBRA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16:46:18Z</dcterms:modified>
  <cp:revision>469</cp:revision>
  <dc:subject/>
  <dc:title>Slide 1</dc:title>
</cp:coreProperties>
</file>