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18EB-5E1A-4EF9-8A1B-708BD05A1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0852-A611-4A59-AABF-B7E9DDFD3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E059-CDB8-446B-A976-AF3594109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ACA5-9075-4758-9D72-501532350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9C46-D77F-42AC-9A17-F82935FAA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7447-A027-459D-9DEA-519FE4C0B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63EC-BBE8-48FB-81E8-79FA60D04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E905-B484-4329-9352-C8725D4D1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4D05-7553-49C2-8DFD-1C6C58B6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2B3C-6A60-446B-8202-34AE75431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1310-E042-45E0-90D6-367C51261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5793-1762-4733-BDA8-5AD8469F8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7F00-0736-4808-81DB-E6000817B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79C7-9F0B-43CF-80A2-B72685409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A52F-31EE-45AD-A05C-079E8D894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F44F-3C1A-49FB-B719-F974D5C27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6A46-D444-4380-9A3D-02A180AA4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7D5D-E5A0-4A67-BD54-FD35D342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DC51-5992-4D34-9B91-EE5F5FD87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FF2B-7BF6-461E-AA13-44997D07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8303-DE9F-489B-B625-E5D559B11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96C4-9E80-47DD-8383-39039EDBF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F6EF-C159-4AEC-962F-F29208B7E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IS THE MOST WATCHED SHOW ON HBO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PLAYING CARD HAS THE MOST WHITE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MAC OR SUN KEYBOARD, WHAT KEY IS RIGHT ABOVE THE RIGHTMOST "SHIFT"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DREAS  FA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S THE BOUNDARY BETWEEN THE PACIFIC AND NORTH AMERICAN TECTONIC PL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SH  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57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L STAR" AND "WALKIN' O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  NEUTR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INCIPLE THAT WEB PROVIDERS TREAT ALL DATA EQUALLY IS KNOWN A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DEUCE  CO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CAR SONG WAS THE BEACH BOYS' HIGHEST CHARTING B-SI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343400"/>
            <a:ext cx="518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JUST  CALLED  TO  SAY  I  LOV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EVIE WONDER'S BEST-SELLING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PLAYING CARD HAS THE MOST WHITE SP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DESERVE  A  BREAK 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VERTISING SLOGAN, WHICH HAS BEEN CALLED THE TOP JINGLE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DID MCDONALDS USE FROM 1971 TO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ME  OF  THR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IS THE MOST WATCHED SHOW ON HBO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ENNIS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MAC OR SUN KEYBOARD, WHAT KEY IS RIGHT ABOVE THE RIGHTMOST "SHIFT"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S THE BOUNDARY BETWEEN THE PACIFIC AND NORTH AMERICAN TECTONIC PL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L STAR" AND "WALKIN' ON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INCIPLE THAT WEB PROVIDERS TREAT ALL DATA EQUALLY IS KNOWN AS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CAR SONG WAS THE BEACH BOYS' HIGHEST CHARTING B-SID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EVIE WONDER'S BEST-SELLING S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VERTISING SLOGAN, WHICH HAS BEEN CALLED THE TOP JINGLE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DID MCDONALDS USE FROM 1971 TO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6:46:41Z</dcterms:modified>
  <cp:revision>350</cp:revision>
  <dc:subject/>
  <dc:title>Slide 1</dc:title>
</cp:coreProperties>
</file>