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E9BE-5238-4AC7-B9E9-E61FB0595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DFEF-82CF-432A-B89E-78ECA98A2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ABC9-81D5-478B-8841-6E89ED24A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5C4F-09AF-4D8C-8EE2-FCEA178BD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D896-3846-4538-B0D7-BB3CBD41E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46B0-8B08-4A86-9476-6586A525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3D2D-236C-495A-852F-AC506591D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B443-BF81-4991-9D9A-353E3206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968F-8490-4CF4-96D8-3E4AD47C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2E69-44E2-4912-92F4-DE5C330F8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A0A-C3CB-4C7C-A165-D39F82B1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DEA4-A630-4F23-934D-1F65B15C3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1BBA-A3F1-4E0C-ABEF-340C433BB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5365-BA2D-49D9-AE66-246E25FB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7DFC-0382-4F0F-85AA-80595AF1F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0694-278D-4014-8295-3E520161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E879-DBA4-43D5-9BF9-3F2E0B967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8384-670D-4EF2-8522-83A05E851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E597-00B6-43C2-9EA3-A7236B75D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B11D-FC7E-4C19-ABB3-B7885DA7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025A-9BB0-4AE9-9952-D3B28BF00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2CA2-BC65-4CE7-81B2-5AD50D5B7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0030-0397-45DA-810D-28B2C1F1F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IS THE MOST WATCHED SHOW ON HBO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PLAYING CARD HAS THE MOST WHITE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AC OR SUN KEYBOARD, WHAT KEY IS RIGHT ABOVE THE RIGHTMOST "SHIFT"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DREAS  FA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S THE BOUNDARY BETWEEN THE PACIFIC AND NORTH AMERICAN TECTONIC PL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SH  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57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L STAR" AND "WALKIN' O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  NEUTR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INCIPLE THAT WEB PROVIDERS TREAT ALL DATA EQUALLY IS KNOWN A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DEUCE  CO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CAR SONG WAS THE BEACH BOYS' HIGHEST CHARTING B-SI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343400"/>
            <a:ext cx="518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JUST  CALLED  TO  SAY  I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VIE WONDER'S BEST-SELLING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PLAYING CARD HAS THE MOST WHITE SP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DESERVE  A  BREAK 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VERTISING SLOGAN, WHICH HAS BEEN CALLED THE TOP JINGL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DID MCDONALDS USE FROM 1971 TO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  OF  THR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IS THE MOST WATCHED SHOW ON HBO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ENNIS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AC OR SUN KEYBOARD, WHAT KEY IS RIGHT ABOVE THE RIGHTMOST "SHIFT"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S THE BOUNDARY BETWEEN THE PACIFIC AND NORTH AMERICAN TECTONIC PL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L STAR" AND "WALKIN' O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INCIPLE THAT WEB PROVIDERS TREAT ALL DATA EQUALLY IS KNOWN AS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CAR SONG WAS THE BEACH BOYS' HIGHEST CHARTING B-SID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VIE WONDER'S BEST-SELLING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VERTISING SLOGAN, WHICH HAS BEEN CALLED THE TOP JINGL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DID MCDONALDS USE FROM 1971 TO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46:41Z</dcterms:modified>
  <cp:revision>350</cp:revision>
  <dc:subject/>
  <dc:title>Slide 1</dc:title>
</cp:coreProperties>
</file>