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97F7-85C2-47D2-B4B2-50D1B6799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EA2B-700E-4561-B11E-CA19CAE95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04FD-13E1-4D57-AE6C-CFBC0EBE5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89FF-0F5D-46C0-8CA9-44341F2E3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E127-1CCF-424F-87B9-A0FE24D7F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2B6A-85C1-416D-AE23-A9FEA9779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1F52-001D-4DD5-AE08-A9C8FDCB9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99B0-A9F8-459F-9698-406F69E0A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DD8B-F855-4B40-A389-6F0FDEC9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6C3B-657B-42FF-8A92-9425AD536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55A7-26DE-45C9-9D72-A3FB43C3E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1BCD-3456-4BC5-A29E-715AEC8CF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3B8F-3284-44B4-B9E4-EA21109F9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8325-9952-4701-BBC8-8E747053C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3212-8CAF-4A81-AD66-A2E7BCEED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A9E8-256F-4566-9777-18134E6D3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7141-943A-489F-A4E5-B652E3162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5E84-D11F-4F5E-B828-2EC77B868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313A-DDE1-42F9-973F-91F5804C1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FD80-D436-4B22-AFAC-C0BAF4573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A000-A0C1-422D-8A62-569F5FDD4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12F9-C54A-49F8-9599-8CF32CA64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A0DD-06E8-44E0-BEA2-60F8EC18A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IS THE MOST WATCHED SHOW ON HBO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PLAYING CARD HAS THE MOST WHITE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MAC OR SUN KEYBOARD, WHAT KEY IS RIGHT ABOVE THE RIGHTMOST "SHIFT"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DREAS  FA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S THE BOUNDARY BETWEEN THE PACIFIC AND NORTH AMERICAN TECTONIC PL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SH  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57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L STAR" AND "WALKIN' O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  NEUTR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INCIPLE THAT WEB PROVIDERS TREAT ALL DATA EQUALLY IS KNOWN A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DEUCE  CO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CAR SONG WAS THE BEACH BOYS' HIGHEST CHARTING B-SID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343400"/>
            <a:ext cx="518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JUST  CALLED  TO  SAY  I  LOV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EVIE WONDER'S BEST-SELLING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PLAYING CARD HAS THE MOST WHITE SP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DESERVE  A  BREAK 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VERTISING SLOGAN, WHICH HAS BEEN CALLED THE TOP JINGLE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DID MCDONALDS USE FROM 1971 TO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ME  OF  THR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IS THE MOST WATCHED SHOW ON HBO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ENNIS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MAC OR SUN KEYBOARD, WHAT KEY IS RIGHT ABOVE THE RIGHTMOST "SHIFT"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S THE BOUNDARY BETWEEN THE PACIFIC AND NORTH AMERICAN TECTONIC PL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L STAR" AND "WALKIN' ON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INCIPLE THAT WEB PROVIDERS TREAT ALL DATA EQUALLY IS KNOWN AS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CAR SONG WAS THE BEACH BOYS' HIGHEST CHARTING B-SID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EVIE WONDER'S BEST-SELLING S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VERTISING SLOGAN, WHICH HAS BEEN CALLED THE TOP JINGLE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DID MCDONALDS USE FROM 1971 TO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6:46:41Z</dcterms:modified>
  <cp:revision>350</cp:revision>
  <dc:subject/>
  <dc:title>Slide 1</dc:title>
</cp:coreProperties>
</file>