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4C44-E69A-4431-967F-4248A7F2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911E-3CBE-4355-B1BF-67BAB98C6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F93D-BE70-4C33-B039-D21EE6BA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E03E-D748-4C48-AB33-4BDBB779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CA92-4DEE-43C8-A4BF-811751B5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E1A4-6C83-466D-8A0A-1180B96A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848-6712-45E9-BDB1-4DC06916B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0B3-CDA1-432F-AC98-7F7F52B7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B73A-794C-49DC-912F-C4BCF7449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1FD8-E721-42A8-96C7-714CBA1E2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9E09-F587-4ACA-9EB4-818E6EC5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A8B4-BC66-45CB-990B-98CBF79C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461-82E6-4F13-AF43-D9B38504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A263-EF22-4DC2-B666-8D42D677F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74AE-E9A1-4B8A-91AE-39F78874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7AFF-5784-4152-8A98-1EC0ABE82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62B7-1C2E-481C-9D6A-4F880A666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5F20-928E-4B7B-BCAE-68EA0AD0B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D3C7-95B8-428D-85B1-FC58B791B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52E7-D2C4-4618-8F8B-947D22BD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EFAF-3211-4CAD-8289-9D2A38FE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7AFB-5B24-4AF4-8238-00FCF81BF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528C-D18C-4F9D-A478-BD4DF1C4A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SHE GIVES ME EVERYTHING, AND TENDER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'S  JUST  NOT  THAT  INTO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SELF-HELP BOOK'S TITLE CAME FROM A LINE I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PLAYING BEST OF 5 SETS IN TENNIS, THEN WHAT IS THE LAST 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UNGLE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5888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ON OF STORIES BY RUDYARD KIPLING ARE ABOUT A BOY RAISED BY WOL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INCOMPLETE 3.2 MILLION YEAR-OLD FEMALE SKELETON FOUND IN ETHIOP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RENCH  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LIA CHILD'S MOST FAMOUS COOKING SHOW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REAR WINDOW" AND "VERTIGO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9232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WAS CONVICTED IN THE IRAN CONTRA AFFAIR, AND IS NOW THE PRESIDENT OF THE N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SELF-HELP BOOK'S TITLE CAME FROM A LINE I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ENDS  OF  THE  F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EPIC HISTORICAL FILM STARRED BRAD PITT, ANTHONY HOPKINS, AND AIDAN QUI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I  LOVE  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SHE GIVES ME EVERYTHING, AND TENDER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191120"/>
            <a:ext cx="7848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S  WITH  A  NAME  OF  A  SCARLETT  JOHANSSON  FI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PLAYING BEST OF 5 SETS IN TENNIS, THEN WHAT IS THE LAST 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CTION OF STORIES BY RUDYARD KIPLING ARE ABOUT A BOY RAISED BY WOL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INCOMPLETE 3.2 MILLION YEAR-OLD FEMALE SKELETON FOUND IN ETHIOP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ULIA CHILD'S MOST FAMOUS COOKING SHOW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REAR WINDOW" AND "VERTIG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WAS CONVICTED IN THE IRAN CONTRA AFFAIR, AND IS NOW THE PRESIDENT OF THE N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EPIC HISTORICAL FILM STARRED BRAD PITT, ANTHONY HOPKINS, AND AIDAN QUI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20:25:23Z</dcterms:created>
  <dc:creator>Jennifer Budzinski</dc:creator>
  <dc:description/>
  <dc:language>en-US</dc:language>
  <cp:lastModifiedBy>Erich Friedman</cp:lastModifiedBy>
  <dcterms:modified xsi:type="dcterms:W3CDTF">2020-08-31T16:46:59Z</dcterms:modified>
  <cp:revision>345</cp:revision>
  <dc:subject/>
  <dc:title>Slide 1</dc:title>
</cp:coreProperties>
</file>