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7C9F-8D8F-4A87-A369-C9FF00C8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231C-A5AE-4504-A38C-A38EEAA6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C8D3-8E1D-440C-BE11-119318FA2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A0AF-9E0C-476C-A204-18E6FF398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B0B6-76A2-412D-B8C4-B82BEBC9C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CA3F-79B5-4485-BADB-9EE9FB73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F2B-F7D9-4EB2-A623-AAB613CAD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E05A-8F77-4D3A-B504-EDB4724D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8EDE-D615-4283-9C8E-95F3B323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072E-7349-485E-930C-D445578B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2A5A-C3A4-49A8-A772-C0EDE0E7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F670-1892-49EE-8AAD-BB32A271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DCAE-6EEF-4D69-8C2D-22C93DB00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4313-F879-44AF-BBF7-AA232151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A5BA-09EE-47C3-8C94-1145E12EA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FEC6-ABBF-492A-BBF0-899BA71E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515F-2579-49D7-8151-B7A9E43D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492F-471C-41ED-9CBE-FF27ED064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B7EE-820F-4006-9B92-2C531FC1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0508-44B4-413C-87FF-2B70313DD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9AA1-ED27-4463-A683-9F309E3D2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A1D9-C86F-460B-B8F0-B76AFFD4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1002-7B60-4B24-A43C-B3CB8C657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SHE GIVES ME EVERYTHING, AND TENDER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952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'S  JUST  NOT  THAT  INTO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SELF-HELP BOOK'S TITLE CAME FROM A LINE I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 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PLAYING BEST OF 5 SETS IN TENNIS, THEN WHAT IS THE LAST 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UNGLE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5888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ON OF STORIES BY RUDYARD KIPLING ARE ABOUT A BOY RAISED BY WOL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INCOMPLETE 3.2 MILLION YEAR-OLD FEMALE SKELETON FOUND IN ETHIOP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RENCH  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LIA CHILD'S MOST FAMOUS COOKING SHOW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REAR WINDOW" AND "VERTIGO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N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9232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WAS CONVICTED IN THE IRAN CONTRA AFFAIR, AND IS NOW THE PRESIDENT OF THE N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SELF-HELP BOOK'S TITLE CAME FROM A LINE I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ENDS  OF  THE  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EPIC HISTORICAL FILM STARRED BRAD PITT, ANTHONY HOPKINS, AND AIDAN QUI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I  LOVE  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SHE GIVES ME EVERYTHING, AND TENDER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1911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S  WITH  A  NAME  OF  A  SCARLETT  JOHANSSON  FI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PLAYING BEST OF 5 SETS IN TENNIS, THEN WHAT IS THE LAST 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ON OF STORIES BY RUDYARD KIPLING ARE ABOUT A BOY RAISED BY WOL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INCOMPLETE 3.2 MILLION YEAR-OLD FEMALE SKELETON FOUND IN ETHIOP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LIA CHILD'S MOST FAMOUS COOKING SHOW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REAR WINDOW" AND "VERTIGO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WAS CONVICTED IN THE IRAN CONTRA AFFAIR, AND IS NOW THE PRESIDENT OF THE N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EPIC HISTORICAL FILM STARRED BRAD PITT, ANTHONY HOPKINS, AND AIDAN QUI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20:25:23Z</dcterms:created>
  <dc:creator>Jennifer Budzinski</dc:creator>
  <dc:description/>
  <dc:language>en-US</dc:language>
  <cp:lastModifiedBy>Erich Friedman</cp:lastModifiedBy>
  <dcterms:modified xsi:type="dcterms:W3CDTF">2020-08-31T16:46:59Z</dcterms:modified>
  <cp:revision>345</cp:revision>
  <dc:subject/>
  <dc:title>Slide 1</dc:title>
</cp:coreProperties>
</file>