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801-D75C-4D0B-BB2D-4393EC8DB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8B0-0C17-447B-A6BC-43AE0557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0273-1CAA-4B40-AEA4-9E22141F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0B45-04BE-4803-B366-400A2798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01A-E1FE-40F1-B406-A3396C21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AD57-2144-4590-8166-8F078071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E67-8840-4C2A-9BDC-85F5E4B9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958-3C80-46BC-904C-12A0BC21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F697-EF96-4BBB-A210-A634BB64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67A0-381C-4D2A-A442-D5D0C0F9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43D0-6008-412A-A54C-EAC93C346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EFF-ABED-4C00-9774-39F11C31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AAC-48E4-4A57-8151-E1599C4FD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826-85C7-43D9-A9F9-0AE2256E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6BE-A6FF-4342-ABA2-CF86CCAE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B8A-4A30-4181-8A52-1F9500A47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5C1-86CF-4CD5-AF1A-220C12D6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413-0DFF-42DF-ACE5-5216F66BF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027-0C28-4BC5-B984-274A621F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191-D19F-4E1D-AFF0-172ED119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1AB8-366E-4779-B3E2-FD3DC779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44E-58C6-44ED-8D1D-EDAEFE52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CC5-F7D3-438C-B167-E5C82B70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'S  JUST  NOT  THAT  IN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UNGL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888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NCH  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2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S  OF  THE 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I  LOVE 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1911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S  WITH  A  NAME  OF  A  SCARLETT  JOHANSSON  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20:25:23Z</dcterms:created>
  <dc:creator>Jennifer Budzinski</dc:creator>
  <dc:description/>
  <dc:language>en-US</dc:language>
  <cp:lastModifiedBy>Erich Friedman</cp:lastModifiedBy>
  <dcterms:modified xsi:type="dcterms:W3CDTF">2020-08-31T16:46:59Z</dcterms:modified>
  <cp:revision>345</cp:revision>
  <dc:subject/>
  <dc:title>Slide 1</dc:title>
</cp:coreProperties>
</file>