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1DAB-C1E9-4787-95B3-929816C9C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42C2-1730-4246-86C3-4A57CD8C0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FEC2-2FC8-45B3-9494-CE49F60C3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2438-C123-4FC7-8E8D-BA77B792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82B9-FB7F-42D9-98F6-565F2BAC7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3A81-4BBA-426C-BD90-BE8C09F9A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AC7C-90C1-4FE2-A434-7DB1F8C0D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A6AA-222B-4134-A8BA-E2D344639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FE8D-E85A-45BE-8C6E-3A1779E5F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9EBF-4F43-4B62-A32B-D03CE879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B2089-3D02-4D6F-8930-32C10F8F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C2DB-09F8-484F-8122-54F4F649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E990-171F-4EF6-9A7B-993ADFDD8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5B12-E4CE-4671-9EBA-1F17FDAC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9BB8-16A6-49AF-B280-051AA56ED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72CE-9AF4-4E4B-AE2C-05BFAF1A6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47CB-0C62-4EC7-8FAE-C0774B8F3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C2AF-40F9-417C-8CBC-08B1A343F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F8BD-34BC-4EA9-B005-0C23395F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9841-3664-4BC2-B563-E4DB2A867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249D-E3B2-46AD-B901-9D10E494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A91D-226A-442B-AF7F-3FACB08A0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2954-FC90-499B-9775-EA58697FE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CHARLES DICKENS QUOTE: "____ BEGINS AT HOME, AND JUSTICE BEGINS NEXT DO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W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 WERE MEANT FOR ME" AND "WHO WILL SAVE YOUR SO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ALLOWS YOU TO WIN MONEY IF YOUR RACE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71600" y="7621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A SLANG TERM FOR METHAMPHETA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RUIT CONTAINING A HARD SHELL AND EDIBLE SEED IS CALL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  (VICTIMS  UN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LAW &amp; ORDER: SV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CARD GAMES, INCLUDING BRIDGE AND SPADES, WHEN YOU PLAY A CARD, IF POSSIBLE YOU NEED TO FOLLOW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A STIMU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 WERE MEANT FOR ME" AND "WHO WILL SAVE YOUR SO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ERVES AS THE ABBREVIATION FOR A STATE, A COUNTRY, AN ELEMENT, AND A UNIT OF LENG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CHARLES DICKENS QUOTE: "____ BEGINS AT HOME, AND JUSTICE BEGINS NEXT DO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3434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CA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570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T ALLOWS YOU TO WIN MONEY IF YOUR RACE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71600" y="76212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A SLANG TERM FOR METHAMPHETA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RUIT CONTAINING A HARD SHELL AND EDIBLE SEED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LAW &amp; ORDER: SV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OST CARD GAMES, INCLUDING BRIDGE AND SPADES, WHEN YOU PLAY A CARD, IF POSSIBLE YOU NEED TO FOLLOW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-LETTER WORD IS SLANG FOR A STIMU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ERVES AS THE ABBREVIATION FOR A STATE, A COUNTRY, AN ELEMENT, AND A UNIT OF LENG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17:46:20Z</dcterms:created>
  <dc:creator>Jennifer Budzinski</dc:creator>
  <dc:description/>
  <dc:language>en-US</dc:language>
  <cp:lastModifiedBy>Erich Friedman</cp:lastModifiedBy>
  <dcterms:modified xsi:type="dcterms:W3CDTF">2020-08-31T16:47:18Z</dcterms:modified>
  <cp:revision>405</cp:revision>
  <dc:subject/>
  <dc:title>Slide 1</dc:title>
</cp:coreProperties>
</file>