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BA04-C5FD-4FFF-A7A5-29FD934F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1B90-9BC7-4E8C-9190-BA51299E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D0E-B398-4B5F-B506-73D66C2C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8B7-18DE-4818-967A-97C6910D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6C9B-F986-4714-A5DC-1279447B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4C44-3EBC-40B0-BF01-3F93B0D10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37EB-8C83-4299-BC98-0FB03E64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7D18-493A-47A9-B023-EE4363B1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D8B-4455-4247-AC4E-40ECB939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AE83-3A72-488C-BA82-462C301C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409C-EA17-4884-8815-2C14B89E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D12-AE5A-452C-A011-529443E6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72A-EB4D-4928-B313-573120F7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5FC-5C2B-436E-8C03-428D8C0B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51A-DDAC-4D68-AD97-1B8D9D5D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4E2-E8C8-4272-B0B4-470CCAABA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7EA-49A6-465E-8656-24646826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954-4303-4C96-A0DA-6B0E4DB8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A9B-DF71-4413-ACE0-C1B3C14E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94F9-AF0B-44B4-9703-071F9DC6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1CF8-DCEA-4AF0-BE6D-21E6EF44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AA5-AE30-4796-816A-62A60FC9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597D-803D-4629-A3B7-6B497C60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W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(VICTIMS  UN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CA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7:46:20Z</dcterms:created>
  <dc:creator>Jennifer Budzinski</dc:creator>
  <dc:description/>
  <dc:language>en-US</dc:language>
  <cp:lastModifiedBy>Erich Friedman</cp:lastModifiedBy>
  <dcterms:modified xsi:type="dcterms:W3CDTF">2020-08-31T16:47:18Z</dcterms:modified>
  <cp:revision>405</cp:revision>
  <dc:subject/>
  <dc:title>Slide 1</dc:title>
</cp:coreProperties>
</file>