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F6CB-1AD8-40C9-BD41-7A98D0977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CEF3-636E-4300-A557-653FDE21C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C5B4-9839-458B-9933-F87CA13ED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F1C7-8A1C-4466-A27A-D62CC98DC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B587-3EC2-48D7-BB70-89219D242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FDAC-4CB7-482C-9250-CB8BB4BF0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CB69-BAB5-4D7F-A714-0B8D99F19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E082-E276-4503-8F44-460CB4A90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7A2C-D85C-44AA-B210-96952CEB4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CB6E-75D5-4574-956B-B0F249FD6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75BC-6A23-4D4E-94CC-9EFABDEFA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DE00-525B-4162-BF72-CEF183751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EAF8-D8CF-4BBD-8810-6B07F0642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3624-F237-40C0-A955-FBDC8741F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9970-30EB-4E43-8EA9-21D6437CA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D434-3350-4276-9EFD-67D1C2C6E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8959-8BF9-41CB-84BC-42F39D546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9713-6732-43E7-BA34-58F370D6F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5EDE-C904-4236-9B45-C3D7E4593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6438-EAC2-4C86-8FBB-C5BC4BFE5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6A55-ABC4-411C-9A79-6A5BCDD3C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ED27-0975-4A10-9CA4-B420A417F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E2CF-B2C9-4CCD-AF45-27FF7FDEB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4120" y="762120"/>
            <a:ext cx="8915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FROM THIS CHARLES DICKENS QUOTE: "____ BEGINS AT HOME, AND JUSTICE BEGINS NEXT DOO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W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YOU WERE MEANT FOR ME" AND "WHO WILL SAVE YOUR SOU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BET ALLOWS YOU TO WIN MONEY IF YOUR RACEHORSE COMES IN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OR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371600" y="762120"/>
            <a:ext cx="6400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5-LETTER WORD IS A SLANG TERM FOR METHAMPHETAM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FRUIT CONTAINING A HARD SHELL AND EDIBLE SEED IS CALL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CIAL  (VICTIMS  UNI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S" STAND FOR IN "LAW &amp; ORDER: SV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OST CARD GAMES, INCLUDING BRIDGE AND SPADES, WHEN YOU PLAY A CARD, IF POSSIBLE YOU NEED TO FOLLOW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P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5-LETTER WORD IS SLANG FOR A STIMUL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YOU WERE MEANT FOR ME" AND "WHO WILL SAVE YOUR SOU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SERVES AS THE ABBREVIATION FOR A STATE, A COUNTRY, AN ELEMENT, AND A UNIT OF LENG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90440" y="762120"/>
            <a:ext cx="8763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FROM THIS CHARLES DICKENS QUOTE: "____ BEGINS AT HOME, AND JUSTICE BEGINS NEXT DO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028880" y="4343400"/>
            <a:ext cx="7086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BE  FOLLOWED  BY  THE  WORD  "CAS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570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BET ALLOWS YOU TO WIN MONEY IF YOUR RACEHORSE COMES IN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OR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371600" y="762120"/>
            <a:ext cx="6400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5-LETTER WORD IS A SLANG TERM FOR METHAMPHETAM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FRUIT CONTAINING A HARD SHELL AND EDIBLE SEED IS CALLE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90400" y="762120"/>
            <a:ext cx="796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S" STAND FOR IN "LAW &amp; ORDER: SV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OST CARD GAMES, INCLUDING BRIDGE AND SPADES, WHEN YOU PLAY A CARD, IF POSSIBLE YOU NEED TO FOLLOW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95320" y="762120"/>
            <a:ext cx="735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5-LETTER WORD IS SLANG FOR A STIMUL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SERVES AS THE ABBREVIATION FOR A STATE, A COUNTRY, AN ELEMENT, AND A UNIT OF LENG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3T17:46:20Z</dcterms:created>
  <dc:creator>Jennifer Budzinski</dc:creator>
  <dc:description/>
  <dc:language>en-US</dc:language>
  <cp:lastModifiedBy>Erich Friedman</cp:lastModifiedBy>
  <dcterms:modified xsi:type="dcterms:W3CDTF">2020-08-31T16:47:18Z</dcterms:modified>
  <cp:revision>405</cp:revision>
  <dc:subject/>
  <dc:title>Slide 1</dc:title>
</cp:coreProperties>
</file>