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2B4D-0C18-4C88-867E-76CEC4A0B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EFD9-238E-434D-9123-637E7C583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8A87-5AD8-4EA8-86F0-95F9793A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4BBC-0CF7-4342-A813-DE1FC59F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9E0C-5792-4592-9FD3-FB112680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02E7-4B0F-4095-B156-8C61CBA89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568F-32B6-41FC-A809-12DB41632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3D63-7B7C-4080-A30C-7BBC3508C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0534-EB38-40DC-B238-3484BCC7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797F-BC8C-4C55-848F-98FBF692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40F-AA80-4458-95C9-DB5D0D9F8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F504-F36D-4ACD-9603-3DA5467AF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4FE9-3B99-4550-A679-715ADD62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3129-CB25-4759-885E-649B0625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DDBB-EEDD-41D0-BC64-B86577453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3EBD-B47B-48E8-B1F1-06779ED6B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30AA-F9E1-46DC-A3E3-4953CCA4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8892-2B43-4135-8230-1A2CD6D31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E1C5-A047-4EFF-AC7A-B2937AA28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1479-1167-477E-84DB-DB158DF7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6F5D-AC6F-4E44-9F9F-46E8BF138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C068-751A-47CF-AE59-56F1ECA5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1A72-CB8C-49E6-8442-A6FE76E9A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990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&amp;  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DI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0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&amp;  CALCUT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KOH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34560" y="762120"/>
            <a:ext cx="7272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CITIES ARE THE SUBJECT OF THE NOVEL "A TALE OF 2 C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0176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34800" y="762120"/>
            <a:ext cx="8472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HOME TO THE TALLEST BUILDING IN THE WORLD 1908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3809880"/>
            <a:ext cx="7925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VISITED  BY  PHILIAS  FOGG  IN  "AROUND  THE  WORLD  IN  80  DAY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NCIENT SOUTHEASTERN ITALIAN PORT DID VIRGIL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28760" y="76212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ATER-BASED CRISIS IN WHAT CITY IN 1956 LED TO ACCUSATIONS OF COLLUSION BETWEEN ISRAEL, BRITAIN AND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LD NAMES FOR THE LARGEST CITIES ON THE WESTERN AND EASTERN BORDERS OF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ERLION, A MYTHICAL CREATURE WITH THE HEAD OF A LION AND THE BODY OF A FISH, IS THE OFFICIAL MASCOT OF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CATHAY PACIFIC AIRWAYS B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CITY IN JAPAN, AFTER TOKY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8520" y="762120"/>
            <a:ext cx="834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R OF THE FIVE DENSEST POPULATED COUNTIES IN THE U.S. ARE PART OF NYC.  WHAT WEST COAST CITY I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6:47:37Z</dcterms:modified>
  <cp:revision>368</cp:revision>
  <dc:subject/>
  <dc:title>Slide 1</dc:title>
</cp:coreProperties>
</file>