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1CDF7-0B53-45BD-9150-21A0AA8A19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18209-079C-4B85-B39E-23CE813A18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86F9E-36D2-46B5-A68D-D6AE49314E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B27B0-DD52-44AA-870B-10BE025157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BEFAE-74C5-42A2-B927-73CE4B96E0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298C2-E60A-4D08-A4C9-288C5F761A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D3A8B-B221-48F2-AC0E-FAC277B315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518EE-EA1C-40C9-8BDE-5805901134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F47BD-3BD9-4C80-AF66-B650640FE0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38089-4F33-462E-B811-469DC94E0B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BDE88-F655-43A9-994C-D7D1019B73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CDACD-5BF6-46F1-A95C-5CE33E1597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16199-D789-4180-8AA6-5CACC0BE3A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0A066-8C2D-4C46-B738-ABFB1B743B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B207B-78B0-4084-9505-B9D5198C93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5C74E-5C58-46C4-A8E4-7883C5D6FE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28F21-B05A-4402-9F22-293A39AFD0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74847-8EE4-407B-9647-52B938AC8A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573C6-46EB-4C2C-B0C4-EE474365C6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8E0B1-473F-419B-A2B3-DFC45EB54A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5DD2F-E6D4-4DE8-A6F5-1A81B996B3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F65C8-9DAB-4232-9BBD-39A536DA4D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4E67B-E423-4DAA-AFF4-D7BBA3E749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485720" y="990360"/>
            <a:ext cx="61722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GEOGRAPHY 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704880" y="761760"/>
            <a:ext cx="7734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ITY WAS HOME TO THE TALLEST BUILDING IN THE WORLD 1908-1973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1676520" y="4876920"/>
            <a:ext cx="57909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ONDON  &amp;  PAR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952560" y="762120"/>
            <a:ext cx="723888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2 CITIES ARE THE SUBJECT OF THE NOVEL "A TALE OF 2 CITIE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RINDIS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982800" y="762120"/>
            <a:ext cx="71784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ANCIENT SOUTHEASTERN ITALIAN PORT DID VIRGIL DI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47760" y="4876920"/>
            <a:ext cx="84484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UE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515880" y="762120"/>
            <a:ext cx="81104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WATER-BASED CRISIS IN WHAT CITY IN 1956 LED TO ACCUSATIONS OF COLLUSION BETWEEN ISRAEL, BRITAIN AND FRANC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1828800" y="4876920"/>
            <a:ext cx="56386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OMBAY  &amp;  CALCUT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517680" y="762120"/>
            <a:ext cx="81086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THE OLD NAMES FOR THE LARGEST CITIES ON THE WESTERN AND EASTERN BORDERS OF INDI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INGAPO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819000" y="762120"/>
            <a:ext cx="75060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MERLION, A MYTHICAL CREATURE WITH THE HEAD OF A LION AND THE BODY OF A FISH, IS THE OFFICIAL MASCOT OF WHAT CITY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ONG  KO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723960" y="762120"/>
            <a:ext cx="7696080" cy="31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ERE IS CATHAY PACIFIC AIRWAYS BASED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981080" y="4876920"/>
            <a:ext cx="51818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YOKOHAM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833400" y="762120"/>
            <a:ext cx="74772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SECOND LARGEST CITY IN JAPAN, AFTER TOKY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934560" y="762120"/>
            <a:ext cx="72723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2 CITIES ARE THE SUBJECT OF THE NOVEL "A TALE OF 2 CITIE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01760" y="4876920"/>
            <a:ext cx="8381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AN  FRANCISC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334800" y="762120"/>
            <a:ext cx="8472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OUR OF THE FIVE DENSEST POPULATED COUNTIES IN THE U.S. ARE PART OF NYC.  WHAT WEST COAST CITY IS THE 5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228600" y="4876920"/>
            <a:ext cx="8763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EW  YO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809640" y="762120"/>
            <a:ext cx="75247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ITY WAS HOME TO THE TALLEST BUILDING IN THE WORLD 1908-1973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609480" y="3809880"/>
            <a:ext cx="792504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8000"/>
          </a:bodyPr>
          <a:p>
            <a:pPr marL="164520" indent="-1645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ITIES  VISITED  BY  PHILIAS  FOGG  IN  "AROUND  THE  WORLD  IN  80  DAYS"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4520" indent="-1645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4520" indent="-1645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1000080" y="761760"/>
            <a:ext cx="71438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ANCIENT SOUTHEASTERN ITALIAN PORT DID VIRGIL DI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428760" y="762120"/>
            <a:ext cx="82864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WATER-BASED CRISIS IN WHAT CITY IN 1956 LED TO ACCUSATIONS OF COLLUSION BETWEEN ISRAEL, BRITAIN AND FRANC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552600" y="762120"/>
            <a:ext cx="80388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THE OLD NAMES FOR THE LARGEST CITIES ON THE WESTERN AND EASTERN BORDERS OF INDI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762120" y="762120"/>
            <a:ext cx="76197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MERLION, A MYTHICAL CREATURE WITH THE HEAD OF A LION AND THE BODY OF A FISH, IS THE OFFICIAL MASCOT OF WHAT CIT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628560" y="761760"/>
            <a:ext cx="78868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ERE IS CATHAY PACIFIC AIRWAYS BAS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762120" y="761760"/>
            <a:ext cx="76197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SECOND LARGEST CITY IN JAPAN, AFTER TOKYO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398520" y="762120"/>
            <a:ext cx="834696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OUR OF THE FIVE DENSEST POPULATED COUNTIES IN THE U.S. ARE PART OF NYC.  WHAT WEST COAST CITY IS THE 5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21T17:29:44Z</dcterms:created>
  <dc:creator>Jennifer Budzinski</dc:creator>
  <dc:description/>
  <dc:language>en-US</dc:language>
  <cp:lastModifiedBy>Erich Friedman</cp:lastModifiedBy>
  <dcterms:modified xsi:type="dcterms:W3CDTF">2020-08-31T16:47:37Z</dcterms:modified>
  <cp:revision>368</cp:revision>
  <dc:subject/>
  <dc:title>Slide 1</dc:title>
</cp:coreProperties>
</file>