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8964-37CC-4B5A-9AFF-F77774489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CE0A-284A-47EF-833A-4C44ED8D1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5D84-75D0-4ECD-A9B2-55B4C569F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083A-EF8E-4B1E-9308-76209C151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7F31-0144-4593-87D8-FC50D2029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D42C-6161-46DD-8C37-54DEA3198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C094-4AC6-48A7-96E9-0690E7E07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5D92-B9D0-4B72-8BF9-634B62D85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859E-9C30-4A43-BAEE-DF2ACA458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EAF4-0C34-48F7-86EF-63C54675F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4C50-E324-4398-8D54-F26826E4D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0181-BD75-40D3-A541-445BE1BE9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70FE-AC76-40AC-BA7C-CA2136E32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C9FE-2AC3-45F3-9702-C660F8AAC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73BA-1AD3-4F97-99B1-6812C0429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9809-6066-4F64-A34B-9D1D9D222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1AD5-65DA-4773-8589-A68F6D645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5BB0-321A-4B63-9550-818454CD4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2A2F-69C6-4DE3-B845-B31F88D44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03A8-373E-4A94-97CF-BFAF328A0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B2B3-D7B2-4BE3-A89F-2487623B6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AC1E-8824-48FD-B8CF-83EFB96A2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F179-B9FC-459F-BFD2-6470F0038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9903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HOME TO THE TALLEST BUILDING IN THE WORLD 1908-197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DON  &amp;  P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2 CITIES ARE THE SUBJECT OF THE NOVEL "A TALE OF 2 CIT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NDI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82800" y="762120"/>
            <a:ext cx="7178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ANCIENT SOUTHEASTERN ITALIAN PORT DID VIRGIL D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47760" y="4876920"/>
            <a:ext cx="844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15880" y="762120"/>
            <a:ext cx="8110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ATER-BASED CRISIS IN WHAT CITY IN 1956 LED TO ACCUSATIONS OF COLLUSION BETWEEN ISRAEL, BRITAIN AND F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MBAY  &amp;  CALCUT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17680" y="762120"/>
            <a:ext cx="8108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LD NAMES FOR THE LARGEST CITIES ON THE WESTERN AND EASTERN BORDERS OF IN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NGAP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LION, A MYTHICAL CREATURE WITH THE HEAD OF A LION AND THE BODY OF A FISH, IS THE OFFICIAL MASCOT OF WHAT C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G  K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CATHAY PACIFIC AIRWAYS BAS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KOH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3400" y="762120"/>
            <a:ext cx="7477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CITY IN JAPAN, AFTER TOKY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34560" y="762120"/>
            <a:ext cx="7272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2 CITIES ARE THE SUBJECT OF THE NOVEL "A TALE OF 2 CIT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01760" y="4876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34800" y="762120"/>
            <a:ext cx="8472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OF THE FIVE DENSEST POPULATED COUNTIES IN THE U.S. ARE PART OF NYC.  WHAT WEST COAST CITY I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HOME TO THE TALLEST BUILDING IN THE WORLD 1908-197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3809880"/>
            <a:ext cx="7925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ES  VISITED  BY  PHILIAS  FOGG  IN  "AROUND  THE  WORLD  IN  80  DAYS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00080" y="761760"/>
            <a:ext cx="7143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ANCIENT SOUTHEASTERN ITALIAN PORT DID VIRGIL 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28760" y="762120"/>
            <a:ext cx="8286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ATER-BASED CRISIS IN WHAT CITY IN 1956 LED TO ACCUSATIONS OF COLLUSION BETWEEN ISRAEL, BRITAIN AND F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LD NAMES FOR THE LARGEST CITIES ON THE WESTERN AND EASTERN BORDERS OF IN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LION, A MYTHICAL CREATURE WITH THE HEAD OF A LION AND THE BODY OF A FISH, IS THE OFFICIAL MASCOT OF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CATHAY PACIFIC AIRWAYS BAS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CITY IN JAPAN, AFTER TOKY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98520" y="762120"/>
            <a:ext cx="834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OF THE FIVE DENSEST POPULATED COUNTIES IN THE U.S. ARE PART OF NYC.  WHAT WEST COAST CITY I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6:47:37Z</dcterms:modified>
  <cp:revision>368</cp:revision>
  <dc:subject/>
  <dc:title>Slide 1</dc:title>
</cp:coreProperties>
</file>