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7CFB-8F93-4661-9D95-AD3035A08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C51B-2D11-4EB1-B7D3-F006B0FB4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9178-0B56-4B03-8C64-C2C0E29B3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F871-41CF-437A-B697-017F7423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2CA7-F333-427B-B1D0-7B3593CD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8123-5EBF-4415-BD7B-F934F5CA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B8BF-A08D-4CA0-955E-3118D30B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4DC-312A-4E0C-A19D-ECDF19E5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60E-3142-4E37-9924-07784EB9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9A59-9FD2-4CAB-8EE6-45B05B11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A319-5E1B-410F-A431-98B07DC8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9AD4-0105-44A3-B1D8-22288CFD0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CF0E-1006-46F8-98B0-7241E8375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3601-87D5-4E93-A570-B7FB161F2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006C-C6E5-466B-B4AC-CE5D4B1F1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4A5-6B83-4C2E-8217-B63A28AC6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3F45-8E89-4EEC-A461-2205C3A3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E980-961C-4E4F-9F67-2921E64F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65F7-DE69-4C49-A87F-C3E2013C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6EC7-8A15-41AA-A315-BF3FBECB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917A-225C-4263-ADCE-55CBACD7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1198-F3EB-4A67-90D5-463E31F5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1C02-113D-4217-ABD7-0EC3478AD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RMICK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8304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(S.  THOMP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73280"/>
            <a:ext cx="8229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AT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RING COLIN FARRELL HAD TAG LINE "FORTUNE FAVORS THE B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19000" y="762120"/>
            <a:ext cx="750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AND ROMAN TIMES, WHAT WAS BELIEVED TO BE COLORFUL PATHS CREATED BY ISIS TO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ICE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00200" y="762120"/>
            <a:ext cx="59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ACKGROUND COLOR OF U.S. STATE FL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FEAR AND LOATHING IN LAS VEG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QUATIC MAMMAL HAS THE LOWEST BRAIN SIZE TO BODY SIZE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BAMA UNIVERSITY'S ATHLETIC TEAMS ARE THE TROJ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50:34Z</dcterms:modified>
  <cp:revision>352</cp:revision>
  <dc:subject/>
  <dc:title>Slide 1</dc:title>
</cp:coreProperties>
</file>