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476A-2146-42FD-ADB3-A9E79765D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EE44-576B-45FF-8268-9C2D4ECB8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1DB1-42F7-4916-9A77-FA38F8DF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76B8-A8BF-4BE3-B71F-6F563E671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F8F5-9BC3-46DC-A03D-EDE0806B4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422E-9283-4161-8DFC-90893A2E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13E2-D21F-4FA0-B79F-6BFAC6382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7FC5-B9B3-41B8-BC34-E25ED76E0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92AE-5949-499C-B1C7-74FFB456D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9F6A-9DAD-4E79-A082-D66C127B4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C25E-6E0F-4125-BFE5-C3AEDB5E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D16D-67E7-4ABA-BA0D-4D027EBD5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75CB-5E31-42E0-8A66-E3681A29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8763-67ED-4812-BAED-F4F11A8C9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DE1C-DEAF-41C6-B3EB-9014E18F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D16B-3ED6-4616-8215-FBB694F11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759F-041A-4A01-B6C5-90295F73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C14D-2B64-41C7-9845-242EC2179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ECD2-FC57-4D02-AE07-06405CD16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7159-27C5-48F0-9CD7-655593D4F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8B8B-7C75-4AEE-BF22-BD19E4BF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B05D-F586-4524-94F0-A8BC4CA9F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C255-FAF3-4762-8749-038BF48B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AND ROMAN TIMES, WHAT WAS BELIEVED TO BE COLORFUL PATHS CREATED BY ISIS TO THE IMMORT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ING COLIN FARRELL HAD TAG LINE "FORTUNE FAVORS THE B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CORMICK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PICE COMPAN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 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8304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BACKGROUND COLOR OF U.S. STATE FLA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ER  (S.  THOMP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UTHOR OF "FEAR AND LOATHING IN LAS VEGA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HAS THE HIGHEST ELECTRICAL CONDUCTIVITY, THERMAL CONDUCTIVITY, AND REFLECTIV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A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QUATIC MAMMAL HAS THE LOWEST BRAIN SIZE TO BODY SIZE RAT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ING COLIN FARRELL HAD TAG LINE "FORTUNE FAVORS THE B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19000" y="762120"/>
            <a:ext cx="750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BAMA UNIVERSITY'S ATHLETIC TEAMS ARE THE TROJ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B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AND ROMAN TIMES, WHAT WAS BELIEVED TO BE COLORFUL PATHS CREATED BY ISIS TO THE IMMORT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LORIDA  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PICE COMPAN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600200" y="762120"/>
            <a:ext cx="594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BACKGROUND COLOR OF U.S. STATE FLA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UTHOR OF "FEAR AND LOATHING IN LAS VEG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HAS THE HIGHEST ELECTRICAL CONDUCTIVITY, THERMAL CONDUCTIVITY, AND REFLECTIVI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QUATIC MAMMAL HAS THE LOWEST BRAIN SIZE TO BODY SIZE RAT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BAMA UNIVERSITY'S ATHLETIC TEAMS ARE THE TROJ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50:34Z</dcterms:modified>
  <cp:revision>352</cp:revision>
  <dc:subject/>
  <dc:title>Slide 1</dc:title>
</cp:coreProperties>
</file>