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BD79-B2E3-4414-BB7E-4E044BBBC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4090-DD00-4D11-9365-F54005E50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53F2-49FE-4F58-B850-FB62C1FD7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CA10-5CA5-444F-8EC7-3B284A7A7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DE70-2974-4A0D-81F7-82CB4F0E6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BF0A-96C6-4A69-A115-0421AA4D1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E015-8A67-44F3-9ACB-B2492E9C9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58DF-5891-48EC-8FCE-0E8D9951E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2833-9BBD-4158-A6D6-FCC40CD71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C812-497A-4219-91F3-B3DF5F3E7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0F89-4DF4-4736-BFF6-FEA163DB9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E1F2-7E62-4338-B9A6-52DE2DE9A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6B3B-29DE-4B38-9416-B7906EC1B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17AC-A8EF-41DC-8B8C-4758A5067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BE84-1F03-428B-AEBB-81E236B77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556C-1E37-4292-BC43-44D3A3B83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7D02-3077-43E2-AA4A-FE1790927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F177-5927-41E1-9BE0-4B09DE2D4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0E07-7D75-44D1-BB69-8BF0A5A48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7E38-BD1F-48A7-90DB-259803FB3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338E-3FE7-4738-BE88-7975E471D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EBA2-64C3-4205-BD01-AF854258A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8EEC-F98E-4CD8-90B3-D33959C09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AND ROMAN TIMES, WHAT WAS BELIEVED TO BE COLORFUL PATHS CREATED BY ISIS TO THE IMMORT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A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FILM STARRING COLIN FARRELL HAD TAG LINE "FORTUNE FAVORS THE BO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CCORMICK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SPICE COMPANY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TA  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486080" y="762120"/>
            <a:ext cx="6172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NEW ME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8304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BACKGROUND COLOR OF U.S. STATE FLA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NTER  (S.  THOMPS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UTHOR OF "FEAR AND LOATHING IN LAS VEGA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73280"/>
            <a:ext cx="822960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AL HAS THE HIGHEST ELECTRICAL CONDUCTIVITY, THERMAL CONDUCTIVITY, AND REFLECTIVIT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AT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QUATIC MAMMAL HAS THE LOWEST BRAIN SIZE TO BODY SIZE RAT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FILM STARRING COLIN FARRELL HAD TAG LINE "FORTUNE FAVORS THE BO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19000" y="762120"/>
            <a:ext cx="7506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ABAMA UNIVERSITY'S ATHLETIC TEAMS ARE THE TROJ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NB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AND ROMAN TIMES, WHAT WAS BELIEVED TO BE COLORFUL PATHS CREATED BY ISIS TO THE IMMORT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FLORIDA  SP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SPICE COMPANY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600200" y="762120"/>
            <a:ext cx="5943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NEW ME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BACKGROUND COLOR OF U.S. STATE FLA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UTHOR OF "FEAR AND LOATHING IN LAS VEGA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AL HAS THE HIGHEST ELECTRICAL CONDUCTIVITY, THERMAL CONDUCTIVITY, AND REFLECTIVIT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QUATIC MAMMAL HAS THE LOWEST BRAIN SIZE TO BODY SIZE RAT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ABAMA UNIVERSITY'S ATHLETIC TEAMS ARE THE TROJA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08-31T16:50:34Z</dcterms:modified>
  <cp:revision>352</cp:revision>
  <dc:subject/>
  <dc:title>Slide 1</dc:title>
</cp:coreProperties>
</file>