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0123-475B-4216-B2A2-875AAF68E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5F3A-860F-4E57-B2E7-9DE121149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B4297-BFE1-4260-954C-606B8CE1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4E04-781D-46E6-8077-29B95C3AB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B712-23AB-4210-B113-CBF7287E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8FDF-EBD0-457B-A104-81B47021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124-EE38-415B-BA44-89DCDF612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0618-A757-4C55-BA91-0F0DFA50F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DD8F-BB73-492C-AA1F-175AE4CF8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158F-D8AB-4EC1-B2B3-7D07614CC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D3F0-3573-4DCB-9DB0-8C0D738E2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EAF4-2AC5-4528-AE3D-B7D48E62A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4F79-A8DE-40E3-ACDC-09587C2B8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C214-FCC6-4BBF-AAF3-44A7AC1F9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286BD-0C27-4FC3-B34A-26DB93AF1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BE7F9-E4F8-47B4-83E0-D9AF967E1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F2D-5BEC-412D-A98F-4A941B026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5054-94B7-473A-BCD5-C0766D56B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BFB8-13C5-4A42-8356-A01804783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0701-A706-4B31-8F3A-C1CF6981C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5A14-ABE1-49DD-B68F-A6C4AD3C2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E433B-E954-4F20-B550-A3515A47C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B82-7B55-4DB9-8322-41BD5764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STOL  C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95360" y="762120"/>
            <a:ext cx="8153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HIRE  C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  DUR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55640"/>
            <a:ext cx="784872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CESTERSHIRE  SA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SSERT SHERRY DOES JOHN HARVEY &amp; SONS S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KSHIR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FF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4308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     IN VIRGINIA BY AREA, STRETCHING FROM THE JAMES RIVER TO NOR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86080" y="4343400"/>
            <a:ext cx="6172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ENGLISH  COUN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N CARROLL'S "ALICE'S ADVENTURES IN WONDERLAND" DISAPPEARS EXCEPT FOR ITS SM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UNIVERSITY DID THE NATIONAL GUARD KILL 4 UNARMED STUDENT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FILM HAV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TTEN TOMATOE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OSEN AS THE BEST SPORTS MOVIE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U.S. STATE CALLS ITSELF THE GRANITE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POPULATED CITY IN VIRGINIA, AFTER VIRGINIA BE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AUCE IS AN INGREDIENT IN CAESAR SALADS, OYSTERS KIRKPATRICK, AND BLOODY MAR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GLOMERATE HOLDING COMPANY DOES WARREN BUFFETT L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50:49Z</dcterms:modified>
  <cp:revision>428</cp:revision>
  <dc:subject/>
  <dc:title>Slide 1</dc:title>
</cp:coreProperties>
</file>