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7BE6-A215-41BA-9C8C-0B5E1B83D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E492-B956-4B0A-AC91-1504BA61D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D836-93E9-45A2-8169-B9626F9AE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F702-4DD0-454C-A3CE-90B54612E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406E-9B87-4433-BD9F-099912934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FC4D-76DD-43C8-A027-FBB841463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4BF3-C07C-4516-962D-3228D8535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FD17-63D3-432F-AACB-0FF3C8E3E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C469-F0F2-4697-9F96-237D40624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3FD1-6E24-4318-94FD-FD67E5507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DA65-325B-4436-8E39-4C77E3356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7E61-B75E-4162-8D78-84D098CE3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8221-45B6-46DC-A2C1-A637A1BB5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DE74-6D8B-4F6D-9DD1-A59210A65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AD18-855C-432D-8E4C-C7161D4B8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DF52-B703-41EC-AEBB-6B9CF941B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8542-0B07-4C22-B202-897322503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C272-DDB3-4B88-892E-2895D405C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DF0C-2295-4681-9405-174C98D10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D5A6-BDC6-4B84-9E85-82F8A962C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953B-A33B-49E4-A86D-7F89CA90C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C498-F06D-4E47-AF7B-9AB3B51CF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1214-4011-4AF9-9F9F-6D1A214F4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     IN VIRGINIA BY AREA, STRETCHING FROM THE JAMES RIVER TO NORTH CAROL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STOL  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SERT SHERRY DOES JOHN HARVEY &amp; SONS S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HIRE  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N CARROLL'S "ALICE'S ADVENTURES IN WONDERLAND" DISAPPEARS EXCEPT FOR ITS SM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  STAT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NIVERSITY DID THE NATIONAL GUARD KILL 4 UNARMED STUDENTS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  DUR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FILM HAV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TTEN TOMATOE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OSEN AS THE BEST SPORTS MOVIE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HAMPS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55640"/>
            <a:ext cx="7848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STATE CALLS ITSELF THE GRANITE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FO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TED CITY IN VIRGINIA, AFTER VIRGINIA BE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CESTERSHIRE  SA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UCE IS AN INGREDIENT IN CAESAR SALADS, OYSTERS KIRKPATRICK, AND BLOODY MAR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SERT SHERRY DOES JOHN HARVEY &amp; SONS S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KSHIRE  HATH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GLOMERATE HOLDING COMPANY DOES WARREN BUFFETT L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FFO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     IN VIRGINIA BY AREA, STRETCHING FROM THE JAMES RIVER TO NORTH CAROL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34340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ENGLISH  COU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N CARROLL'S "ALICE'S ADVENTURES IN WONDERLAND" DISAPPEARS EXCEPT FOR ITS SM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NIVERSITY DID THE NATIONAL GUARD KILL 4 UNARMED STUDENTS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FILM HAV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TTEN TOMATOE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OSEN AS THE BEST SPORTS MOVIE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STATE CALLS ITSELF THE GRANITE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TED CITY IN VIRGINIA, AFTER VIRGINIA BE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UCE IS AN INGREDIENT IN CAESAR SALADS, OYSTERS KIRKPATRICK, AND BLOODY MAR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GLOMERATE HOLDING COMPANY DOES WARREN BUFFETT L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50:49Z</dcterms:modified>
  <cp:revision>428</cp:revision>
  <dc:subject/>
  <dc:title>Slide 1</dc:title>
</cp:coreProperties>
</file>