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E29E-4F41-4E7B-985E-6F1FA4E5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C3FE-14D0-466D-B3D1-B0821937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C4FD-96AB-4E37-BD39-E3B49981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BE7-DEC8-494D-B567-FB9D8C44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D018-02DB-4F98-999A-8E5F40C6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343-6378-42ED-A956-2FD6A21D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D2E0-532A-4529-B7F2-EA288E75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2510-A056-4034-BBA2-A0E668F8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F4B-A782-4ADC-A18F-0BEDCC24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7E6-FBE6-4BC3-82CE-ADA72093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D67-EDC0-4D98-B3DF-2027E23E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EBE-39C2-47AF-9073-DE1676BC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B13-9C60-4F01-9DA6-4D8EB220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8D5-9930-424F-A3F8-33E0D3D1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4C5-39F3-4FFD-AE55-FC1DFDC7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9B4-91D9-4544-B780-9D434B14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E0E-F3F9-43E3-8AE8-906E2117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C68-BB5F-4201-B3B9-EB5E6010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4A96-2529-470F-8784-9FFD1847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A3C-8F56-4E33-9EA9-F267CA35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898-4189-42C2-ABC7-37A66474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916-653B-4EBE-B02F-19155731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257B-0818-4DD4-810C-BBC00C46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STOL 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HIRE  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564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CESTERSHIRE  SA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KSHIR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F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0:49Z</dcterms:modified>
  <cp:revision>428</cp:revision>
  <dc:subject/>
  <dc:title>Slide 1</dc:title>
</cp:coreProperties>
</file>