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C733-2C92-4A61-BAA3-172EE2EF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632B-17D8-410B-9C73-BDDCE1896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361F-4379-47EC-BE98-F686E1407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D07F-548A-4195-9235-63E1CF45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80A-F7E2-4E60-881B-B9488E55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E2A4-5C9A-4EFF-93BE-4379B79C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6DE-3078-43F1-8328-B0E22AE43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6778-5218-437D-89D3-9E6229CB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A88F-89A2-46AE-A4ED-6EF42E22C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E0E0-002E-4C31-8CD8-DD1C50793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050D-7FA1-43E3-ADA2-ECBCCF3E3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BE2A-EE44-4BEC-A65B-96BF76B3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5A1D-4E1A-4385-9430-A91CE009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912D-0C5E-437C-B643-730B8E096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0437-772D-4A08-988E-B1A823A7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252D-69C7-4FFC-B29A-54B7EA7C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0B5D-0DA4-497B-9203-8C1758EA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0513-98CE-4A8C-B3F6-FDEDE813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DFB8-31BA-41E5-A535-D834CBC45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5DF9-AB1D-47A1-8459-DBDC59F0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0AE-F426-4D87-BAAB-99EDBFA6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7FDA-7826-4026-A0DF-E54E2134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8135-CD22-4EB7-B801-64613C70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ATLANTIC CITY, WHAT WAS THE FIRST OF ITS KIND AND REMAINS THE LONGEST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TERRANEAN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BORDERS ISRAEL, GREE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C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ITHUANIA, ESTONIA, AND LATVIA COLLECTIVE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LETTER VERB WITH A 4-LETTER PAST T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I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CEA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OW SWEET IT IS", "AIN'T THAT PECULIAR", AND "I HEARD IT THROUGH THE GRAPEV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OME 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ESTAB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 COMMON TERM FOR "ASIAN" 50 YEARS AGO THAT IS CONSIDERED SLIGHTLY OFFENSIVE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BORDERS ISRAEL, GREECE, AND ITA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36, WHAT DID THE U.S. ONLY HAVE HALF OF THE CURRENT TOTA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ARD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ATLANTIC CITY, WHAT WAS THE FIRST OF ITS KIND AND REMAINS THE LONG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3434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ONOPOLY 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ITHUANIA, ESTONIA, AND LATVIA COLLECTIVE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LETTER VERB WITH A 4-LETTER PAST T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CEA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OW SWEET IT IS", "AIN'T THAT PECULIAR", AND "I HEARD IT THROUGH THE GRAPEV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ESTAB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 COMMON TERM FOR "ASIAN" 50 YEARS AGO THAT IS CONSIDERED SLIGHTLY OFFENSIVE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36, WHAT DID THE U.S. ONLY HAVE HALF OF THE CURRENT TOTAL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1:50:30Z</dcterms:created>
  <dc:creator>Jennifer Budzinski</dc:creator>
  <dc:description/>
  <dc:language>en-US</dc:language>
  <cp:lastModifiedBy>Erich Friedman</cp:lastModifiedBy>
  <dcterms:modified xsi:type="dcterms:W3CDTF">2020-08-23T16:54:22Z</dcterms:modified>
  <cp:revision>353</cp:revision>
  <dc:subject/>
  <dc:title>Slide 1</dc:title>
</cp:coreProperties>
</file>