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D063D-B51F-4268-91E7-416CA6B56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40F8-1530-4895-B674-8D4CA0B23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4513-6AEB-4FA5-8667-E49B5E4C0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8C58-93F8-428C-BD25-A302CFABE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F8AE-5A67-48EA-8ECF-34021F9F0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32A5-8F08-4A0E-8410-55150A43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89A2-3D07-49E3-B8C2-E13E24A4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D011-2627-4E54-A2D0-E596ABC3B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3C51-DCB7-4570-9683-81969B20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280D-75CA-4594-AE3F-79B7BC21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860D-98E8-40B5-801D-D11008FF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3495-0EBF-4418-BAF0-13345380C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E726-38A0-429A-BCA4-CCC8A1B49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CB1E-C0C8-4F88-BAC1-73333B014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218-1BF7-490E-855C-FA2120BD4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CA4D-A52A-46E0-9B0E-CAB0C03A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DC8B-1E2A-4768-8ACA-466772760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A7D4-33CF-4DBF-993A-0944859BB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971E-68D2-4741-946A-11240F31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8AF6-7C16-4F71-BC2C-9F714DAF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67E7-43C5-4C1A-B1FD-59F686CB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9E2A-AA11-4DE0-AD63-71896C7A9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238-94C4-4863-B575-CABA34745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TERRANEAN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IC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GA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OME  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BORDERS ISRAEL, GREECE, AND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ARD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IN ATLANTIC CITY, WHAT WAS THE FIRST OF ITS KIND AND REMAINS THE LONGEST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34340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MONOPOLY 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LITHUANIA, ESTONIA, AND LATVIA COLLECTIVE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2-LETTER VERB WITH A 4-LETTER PAST T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OCEAN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OW SWEET IT IS", "AIN'T THAT PECULIAR", AND "I HEARD IT THROUGH THE GRAPEV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MENDMENT TO THE U.S. CONSTITUTION ESTAB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A COMMON TERM FOR "ASIAN" 50 YEARS AGO THAT IS CONSIDERED SLIGHTLY OFFENSIVE N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36, WHAT DID THE U.S. ONLY HAVE HALF OF THE CURRENT TOTAL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11:50:30Z</dcterms:created>
  <dc:creator>Jennifer Budzinski</dc:creator>
  <dc:description/>
  <dc:language>en-US</dc:language>
  <cp:lastModifiedBy>Erich Friedman</cp:lastModifiedBy>
  <dcterms:modified xsi:type="dcterms:W3CDTF">2020-08-23T16:54:22Z</dcterms:modified>
  <cp:revision>353</cp:revision>
  <dc:subject/>
  <dc:title>Slide 1</dc:title>
</cp:coreProperties>
</file>