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4D6B-CE8D-43E7-9F3C-0DAEC1116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BCC2-122A-4497-B152-972BEDAC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BFBA-EED5-46FF-B930-D910DFF71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5917-C86D-45C6-A37F-0F077CD9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2D75-7A65-4BCD-BD26-A25D48503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AD26-38E3-4A12-9B70-F98C24EDB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901F-35B2-4E1F-8684-9728D57A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9B7-A251-493E-990F-10081E4DB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4D97-DB71-42C4-A0F2-7D6C5662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D93B-9FB7-4F59-9802-3F223F6D8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8505-703A-4396-8E16-106C8301F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4D98-BE34-40DA-9457-4545B263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906-8F7E-4FE8-9125-ED1E3698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158A-B9B3-4DFB-A734-36CC068C0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A97-DE2E-4456-A794-0231767C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88FC-49D0-432C-B9A8-20CEF3D50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1FDD-4B20-4B09-9955-27128569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BD36-2747-4B0A-B3E1-78198ACB0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175A-DB07-47EE-952C-CEC60272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8073-DEB8-4584-A9B8-EF39DE2B6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DED5-5792-4710-B21C-7B485A2F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57A1-3939-40BB-A362-6FF3925F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FEFC-7CF5-42C9-973A-80737046F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ATLANTIC CITY, WHAT WAS THE FIRST OF ITS KIND AND REMAINS THE LONGEST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TERRANEAN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BORDERS ISRAEL, GREECE, AND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C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ITHUANIA, ESTONIA, AND LATVIA COLLECTIVE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LETTER VERB WITH A 4-LETTER PAST T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I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CEA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GA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OW SWEET IT IS", "AIN'T THAT PECULIAR", AND "I HEARD IT THROUGH THE GRAPEV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OME  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ESTAB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 COMMON TERM FOR "ASIAN" 50 YEARS AGO THAT IS CONSIDERED SLIGHTLY OFFENSIVE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BORDERS ISRAEL, GREECE, AND ITA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36, WHAT DID THE U.S. ONLY HAVE HALF OF THE CURRENT TOTAL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ARD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ATLANTIC CITY, WHAT WAS THE FIRST OF ITS KIND AND REMAINS THE LONGES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3434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ONOPOLY 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ITHUANIA, ESTONIA, AND LATVIA COLLECTIVE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LETTER VERB WITH A 4-LETTER PAST T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CEA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OW SWEET IT IS", "AIN'T THAT PECULIAR", AND "I HEARD IT THROUGH THE GRAPEV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ESTAB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 COMMON TERM FOR "ASIAN" 50 YEARS AGO THAT IS CONSIDERED SLIGHTLY OFFENSIVE 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36, WHAT DID THE U.S. ONLY HAVE HALF OF THE CURRENT TOTAL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1:50:30Z</dcterms:created>
  <dc:creator>Jennifer Budzinski</dc:creator>
  <dc:description/>
  <dc:language>en-US</dc:language>
  <cp:lastModifiedBy>Erich Friedman</cp:lastModifiedBy>
  <dcterms:modified xsi:type="dcterms:W3CDTF">2020-08-23T16:54:22Z</dcterms:modified>
  <cp:revision>353</cp:revision>
  <dc:subject/>
  <dc:title>Slide 1</dc:title>
</cp:coreProperties>
</file>