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CD3F-8BE7-44F4-B902-19D1FE95B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9E93-FC50-4DB5-9FAF-43B29FE90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3D8E-3028-41D1-A7AE-E0F8D1BA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5FBC-9BA5-4A28-B535-A65F047D8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C2A0-9D5F-4AB0-851C-291010E6D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9708-B891-484B-B3FE-89DE95043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09A1-2802-4966-A447-54D67ED6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97E-D16F-4F01-A2AC-AAC64AB3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7169-86B1-4145-9844-601A241DA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8496-33F4-4566-82AE-048AB41E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35A8-64AE-4B9D-AB44-8A8944B6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7F63-5C25-473D-9F7E-CDB112A05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2D6-E673-4FD8-88A6-BDB0740EF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2E7C-631A-4A3B-BBBD-1DECC89D9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3357-3B81-40C9-AFD7-E88ADE182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1A4C-C9FB-46EA-A56F-89274D847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70EE-E447-491F-8B31-F6C11581E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503-A2A9-485E-84C0-3712E722C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0AE2-54A9-41DA-80FF-CFD7F65D7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B57D-A421-4FAC-AA71-3E56B7C51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FB8-4CA3-42A1-A45A-D2C127EC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B620-BB1B-4C6D-9EDB-59A155FF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848-DFC0-4E8D-A5EC-18C7D6199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PORATION OWNS GOO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GLEY FIELD,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BASEBALL FIELD IN THE COUNTRY, IS LOCATED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032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FOUNDED THE NATI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BRARY, WHICH SERVED AS THE LIBRARY OF CONGRESS UNTIL 1800,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ITY HOSTS THE OKTOBERFEST FEST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O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14400" y="7128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HAPE WITH 4 EQUAL SID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download.png"/>
          <p:cNvPicPr/>
          <p:nvPr/>
        </p:nvPicPr>
        <p:blipFill>
          <a:blip r:embed="rId1"/>
          <a:stretch/>
        </p:blipFill>
        <p:spPr>
          <a:xfrm>
            <a:off x="2743200" y="2514600"/>
            <a:ext cx="373392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NETIC VIDEO TAPE FORMAT LOST OUT TO VHS BEFORE THE EXISTENCE OF DVD'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98480"/>
            <a:ext cx="7543800" cy="26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MEANS "SMALL" IN ITAL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SUPPOSEDLY LOOKS LIKE A B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RIGLEY FIELD,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BASEBALL FIELD IN THE COUNTRY, IS LOCATED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ME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 IS THE SPICE MADE FROM THE REDDISH SEED COVERING OF WHAT S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PHABET 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600200" y="762120"/>
            <a:ext cx="5943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PORATION OWNS GOO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NAMES  OF  GREEK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FOUNDED THE NATI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BRARY, WHICH SERVED AS THE LIBRARY OF CONGRESS UNTIL 1800,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ITY HOSTS THE OKTOBERFEST FEST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3836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HAPE WITH 4 EQUAL SID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download.png"/>
          <p:cNvPicPr/>
          <p:nvPr/>
        </p:nvPicPr>
        <p:blipFill>
          <a:blip r:embed="rId1"/>
          <a:stretch/>
        </p:blipFill>
        <p:spPr>
          <a:xfrm>
            <a:off x="2705040" y="2666880"/>
            <a:ext cx="3733920" cy="22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NETIC VIDEO TAPE FORMAT LOST OUT TO VHS BEFORE THE EXISTENCE OF DVD'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MEANS "SMALL" IN ITALI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SUPPOSEDLY LOOKS LIKE A BU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 IS THE SPICE MADE FROM THE REDDISH SEED COVERING OF WHAT S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0T20:55:14Z</dcterms:created>
  <dc:creator>Jennifer Budzinski</dc:creator>
  <dc:description/>
  <dc:language>en-US</dc:language>
  <cp:lastModifiedBy>Erich Friedman</cp:lastModifiedBy>
  <dcterms:modified xsi:type="dcterms:W3CDTF">2020-08-24T17:34:59Z</dcterms:modified>
  <cp:revision>351</cp:revision>
  <dc:subject/>
  <dc:title>Slide 1</dc:title>
</cp:coreProperties>
</file>