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3A72-B1AB-4E96-8E3A-7CC579EF2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F215-6213-45D0-9E06-11D2F5E52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6088-F08B-4FDA-B7BF-FCD9FC8D6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5433-E41F-4D1B-905B-39FA79E74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11A7-15A1-4A75-8C4F-66309F5C8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4E0C-E7A6-44F9-8FF2-C8B39A77F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3C4E-343E-4E27-962A-F5B3FD4C4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DB14-56B9-4544-B790-2535A18BA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C47C-1FFF-4456-9A3B-D4D214C69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E9AE-5C5E-4BAC-B03F-29055BEB8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A17D-6731-408C-91DE-27CF7CD4A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E6CF-0EAB-43A3-AB47-8580BBF1D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5B11-6039-4034-B01F-B3E2864B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757C-6E28-4667-BC57-913ED3648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06E8-F6C1-4C44-A053-3F0F8D58A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D9C5-3CB5-4E2D-9F3F-A30F73C16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5BD2-051C-49CD-A481-C4276E4EE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C3B0-7068-4888-AE21-87D0D00FB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9F79-3A15-460B-958E-BB9725CE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7C5A-4E21-4526-92E6-343A75B9D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6C06-BE4F-4B8E-9476-83C9E517E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ACC3-5035-4EF1-913E-41DE5553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9F71-6D56-4F8F-8373-1EA96381B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RPORATION OWNS GOO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GLEY FIELD,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BASEBALL FIELD IN THE COUNTRY, IS LOCATED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0320"/>
            <a:ext cx="7467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FOUNDED THE NATIO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BRARY, WHICH SERVED AS THE LIBRARY OF CONGRESS UNTIL 1800,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N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54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CITY HOSTS THE OKTOBERFEST FESTIV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OM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14400" y="71280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SHAPE WITH 4 EQUAL SID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download.png"/>
          <p:cNvPicPr/>
          <p:nvPr/>
        </p:nvPicPr>
        <p:blipFill>
          <a:blip r:embed="rId1"/>
          <a:stretch/>
        </p:blipFill>
        <p:spPr>
          <a:xfrm>
            <a:off x="2743200" y="2514600"/>
            <a:ext cx="3733920" cy="22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53352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A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NETIC VIDEO TAPE FORMAT LOST OUT TO VHS BEFORE THE EXISTENCE OF DVD'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C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98480"/>
            <a:ext cx="754380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MEANS "SMALL" IN ITALI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U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ELLATION SUPPOSEDLY LOOKS LIKE A BU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GLEY FIELD,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BASEBALL FIELD IN THE COUNTRY, IS LOCATED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ME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 IS THE SPICE MADE FROM THE REDDISH SEED COVERING OF WHAT S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PHABET 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600200" y="762120"/>
            <a:ext cx="5943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RPORATION OWNS GOO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95280" y="4343400"/>
            <a:ext cx="655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BEGIN  WITH  NAMES  OF  GREEK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FOUNDED THE NATIO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BRARY, WHICH SERVED AS THE LIBRARY OF CONGRESS UNTIL 1800,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CITY HOSTS THE OKTOBERFEST FESTIV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3836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SHAPE WITH 4 EQUAL SID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download.png"/>
          <p:cNvPicPr/>
          <p:nvPr/>
        </p:nvPicPr>
        <p:blipFill>
          <a:blip r:embed="rId1"/>
          <a:stretch/>
        </p:blipFill>
        <p:spPr>
          <a:xfrm>
            <a:off x="2705040" y="2666880"/>
            <a:ext cx="3733920" cy="22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NETIC VIDEO TAPE FORMAT LOST OUT TO VHS BEFORE THE EXISTENCE OF DVD'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MEANS "SMALL" IN ITALI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ELLATION SUPPOSEDLY LOOKS LIKE A BU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 IS THE SPICE MADE FROM THE REDDISH SEED COVERING OF WHAT SE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0T20:55:14Z</dcterms:created>
  <dc:creator>Jennifer Budzinski</dc:creator>
  <dc:description/>
  <dc:language>en-US</dc:language>
  <cp:lastModifiedBy>Erich Friedman</cp:lastModifiedBy>
  <dcterms:modified xsi:type="dcterms:W3CDTF">2020-08-24T17:34:59Z</dcterms:modified>
  <cp:revision>351</cp:revision>
  <dc:subject/>
  <dc:title>Slide 1</dc:title>
</cp:coreProperties>
</file>