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682B-7C18-4C9A-A759-1E81949BA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3011-D986-4CB6-8BAF-3DF05ED59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E997-C9A5-4934-9433-ED937F0FE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B927-9436-4DCB-9026-FA2CD6E4D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C76C-3E58-44FD-935F-289E827D7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CF1B-0E85-47D9-B490-F9DD01649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D5A2-C9A0-4761-A0A7-062A8490D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E36C-68B2-40F2-94A4-E696A4470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11FF-3172-4220-80AE-6815D3D64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A92F-DE40-4B35-8111-12B89FC40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41BD-ADE3-476B-9794-8FCD72822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6BAC-4465-454D-B43B-7CA93B3ED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A518-7385-4CD4-B6A8-CEEC79DFA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6EE4-0549-4EB8-98EB-BDB91502E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A3DF-9374-445E-A6AE-51EA559EE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F962-3BB0-4383-8605-AF809878D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6830-913A-4B30-B9F4-5C0A32879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DC73-6976-4B05-88D2-D41128468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C4E9-528F-40C5-A164-7CEF7FBC5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DB62-3AD5-4B3E-8010-44E08862E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39C4-8D8A-481A-B427-445E4ACD3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5369-7DD9-41C1-A69B-68AA070E6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DC58-3828-4B7A-8C42-DEEFD168C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RPORATION OWNS GOO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90720" y="76212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GLEY FIELD,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LDEST BASEBALL FIELD IN THE COUNTRY, IS LOCATED IN WHAT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ADELPH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38080" y="760320"/>
            <a:ext cx="7467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 FRANKLIN FOUNDED THE NATION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IBRARY, WHICH SERVED AS THE LIBRARY OF CONGRESS UNTIL 1800, IN WHAT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N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57200" y="7542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CITY HOSTS THE OKTOBERFEST FESTIV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752480" y="4876920"/>
            <a:ext cx="5639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HOM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914400" y="71280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SHAPE WITH 4 EQUAL SID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download.png"/>
          <p:cNvPicPr/>
          <p:nvPr/>
        </p:nvPicPr>
        <p:blipFill>
          <a:blip r:embed="rId1"/>
          <a:stretch/>
        </p:blipFill>
        <p:spPr>
          <a:xfrm>
            <a:off x="2743200" y="2514600"/>
            <a:ext cx="3733920" cy="226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53352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A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NETIC VIDEO TAPE FORMAT LOST OUT TO VHS BEFORE THE EXISTENCE OF DVD'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CCO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98480"/>
            <a:ext cx="754380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INSTRUMENT MEANS "SMALL" IN ITALIA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U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TELLATION SUPPOSEDLY LOOKS LIKE A BU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GLEY FIELD,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LDEST BASEBALL FIELD IN THE COUNTRY, IS LOCATED IN WHAT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TME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E IS THE SPICE MADE FROM THE REDDISH SEED COVERING OF WHAT SE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PHABET 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600200" y="762120"/>
            <a:ext cx="5943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RPORATION OWNS GOO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295280" y="4343400"/>
            <a:ext cx="6553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BEGIN  WITH  NAMES  OF  GREEK  LE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 FRANKLIN FOUNDED THE NATION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IBRARY, WHICH SERVED AS THE LIBRARY OF CONGRESS UNTIL 1800, IN WHAT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CITY HOSTS THE OKTOBERFEST FESTIV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3836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SHAPE WITH 4 EQUAL SID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download.png"/>
          <p:cNvPicPr/>
          <p:nvPr/>
        </p:nvPicPr>
        <p:blipFill>
          <a:blip r:embed="rId1"/>
          <a:stretch/>
        </p:blipFill>
        <p:spPr>
          <a:xfrm>
            <a:off x="2705040" y="2666880"/>
            <a:ext cx="3733920" cy="22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NETIC VIDEO TAPE FORMAT LOST OUT TO VHS BEFORE THE EXISTENCE OF DVD'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INSTRUMENT MEANS "SMALL" IN ITALIA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TELLATION SUPPOSEDLY LOOKS LIKE A BU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E IS THE SPICE MADE FROM THE REDDISH SEED COVERING OF WHAT SE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0T20:55:14Z</dcterms:created>
  <dc:creator>Jennifer Budzinski</dc:creator>
  <dc:description/>
  <dc:language>en-US</dc:language>
  <cp:lastModifiedBy>Erich Friedman</cp:lastModifiedBy>
  <dcterms:modified xsi:type="dcterms:W3CDTF">2020-08-24T17:34:59Z</dcterms:modified>
  <cp:revision>351</cp:revision>
  <dc:subject/>
  <dc:title>Slide 1</dc:title>
</cp:coreProperties>
</file>