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2281-1F49-4E63-886D-42AA91DF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8A2D-2876-4357-9207-A02D267C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C263-C8D1-41D2-9226-CE3E8E14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34F6-2571-4CB0-9E2C-D721CD87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BCAE-BD58-485B-AE4C-9C5D8B5A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7547-11B9-4FC4-98F1-E03E0BCE0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1DE5-C3DD-480F-BC6F-B0E7F253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22A0-2FAD-4CC6-A5E7-27E9B7497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BCAA-73BD-493B-9CFB-A17B0D3A4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58E9-C94B-458A-A4BF-E2B1FB9C1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A172-4E57-4C1C-B34B-BCC3AB97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6D4F-86AA-4195-8B67-2F52252B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10CA-87DD-4277-9519-87395AD9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A3CB-9C9E-4D75-8AEC-02E60A45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0757-52A4-4FE5-A3DD-B0BB58AC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66E1-8727-46BF-937B-3337B294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B08F-AB7C-400C-A0AC-2579B880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416-BED2-4203-A93B-A479ABD8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215-25E9-4473-A76C-8A223AC8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3FA-EF68-4E96-97FF-7C315BFC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A64-52B1-45BD-9FFC-47F83112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13B-0FE4-4360-A1C9-79E13526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D463-2D0A-4226-B7F6-B2DB5353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GERS AND HAMMERSTEI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AL TOGETHER, WHICH WAS TURNED INTO A 195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  GIRLS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19120" y="762120"/>
            <a:ext cx="81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FILMED             3 MOVIES IN HAWAII: "PARADISE, HAWAIIAN STYLE", "BLUE HAWAII"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LIN  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MUSICAL FILM STARRED NICOLE KIDMAN AND EWAN MCGREG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AM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WESTERN FILM STARRED CHEVY CHASE, STEVE MARTIN, AND MARTIN SH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1720" y="762120"/>
            <a:ext cx="7540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FILM WAS INSPIRED BY "DUCK SOUP" BY THE MARX BR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 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EDY FILM STARRED JOHN DENVER AND GEORGE BUR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STARRED MERYL STREEP AND PIERCE BROSN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COMEDY FILM'S POSTER FEATURES A JUMBO JET TIED IN A K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FILMED             3 MOVIES IN HAWAII: "PARADISE, HAWAIIAN STYLE", "BLUE HAWAII"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85640" y="762120"/>
            <a:ext cx="817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WAS THE FIRST OF SEVERAL 1950'S "NUCLEAR MONS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8120" y="762120"/>
            <a:ext cx="8267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GERS AND HAMMERSTEI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AL TOGETHER, WHICH WAS TURNED INTO A 195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28560" y="4267080"/>
            <a:ext cx="7886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LL  CONTAIN  EXCLAMATION  POI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76320" y="761760"/>
            <a:ext cx="7191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MUSICAL FILM STARRED NICOLE KIDMAN AND EWAN MCGREG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WESTERN FILM STARRED CHEVY CHASE, STEVE MARTIN, AND MARTIN SH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52320" y="762120"/>
            <a:ext cx="783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FILM WAS INSPIRED BY "DUCK SOUP" BY THE MARX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EDY FILM STARRED JOHN DENVER AND GEORGE BU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STARRED MERYL STREEP AND PIERCE BROSN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COMEDY FILM'S POSTER FEATURES A JUMBO JET TIED IN A K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WAS THE FIRST OF SEVERAL 1950'S "NUCLEAR MONST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51:05Z</dcterms:modified>
  <cp:revision>448</cp:revision>
  <dc:subject/>
  <dc:title>Slide 1</dc:title>
</cp:coreProperties>
</file>