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1257-D2E5-42F9-8E3B-8E4AE9914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5F12-F37E-4002-BD43-6563349D1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57DA-DA24-4089-B586-FD1C4E3D0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41BD-E866-4AB0-AD8D-7707ABC34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E479-6730-4756-882A-D83A7B1AC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3BF1-8808-46CF-9D2C-2956235E0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7918-4AFE-479B-A582-0C482A12F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083D-5FD1-47AB-81BE-F0CBCFD44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89DB-F57A-4132-9E70-9CECCFE4A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5822-4D17-46A9-A3FB-0C14A7BA5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B61E-F49D-4639-BED9-28A29A654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3B76-3004-4D4A-9BC4-66C4A34FB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B6E0-460C-4DD2-908F-9492ACEBF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E0C3-F838-4154-9FC3-1FF70E56B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4C0B-1D93-47FC-8C88-E9B219BA4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16DF-5BEA-46BB-A792-7F36FBCCA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96E7-3E8E-47C1-BF67-1B643E49D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E8F4E-0FFF-4C20-BB23-DC18D3FA7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9C5B-3B29-4A77-802D-C49A6C5B9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1D4C-020F-49E3-A887-7C1B9F553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A217-96C0-4DB1-A2C6-B4007DC95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9414-85D8-4522-BC26-308498409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5090-BF41-4026-8AF1-8312557BC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09800" y="1371240"/>
            <a:ext cx="7124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ROGERS AND HAMMERSTEIN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USICAL TOGETHER, WHICH WAS TURNED INTO A 1955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RLS  GIRLS  GIR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19120" y="762120"/>
            <a:ext cx="8105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VIS PRESLEY FILMED             3 MOVIES IN HAWAII: "PARADISE, HAWAIIAN STYLE", "BLUE HAWAII"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396720" y="4876920"/>
            <a:ext cx="8350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LIN  ROU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38240" y="762120"/>
            <a:ext cx="7067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MUSICAL FILM STARRED NICOLE KIDMAN AND EWAN MCGREG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219320" y="4876920"/>
            <a:ext cx="6705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REE  AMIG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85760" y="762120"/>
            <a:ext cx="6972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WESTERN FILM STARRED CHEVY CHASE, STEVE MARTIN, AND MARTIN SH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447920" y="4876920"/>
            <a:ext cx="6248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1720" y="762120"/>
            <a:ext cx="7540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FILM WAS INSPIRED BY "DUCK SOUP" BY THE MARX BROTH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H  G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66880" y="762120"/>
            <a:ext cx="7410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7 COMEDY FILM STARRED JOHN DENVER AND GEORGE BUR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05120" y="4876920"/>
            <a:ext cx="5333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MMA  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MUSICAL FILM STARRED MERYL STREEP AND PIERCE BROSN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R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1120" y="762120"/>
            <a:ext cx="7781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0 COMEDY FILM'S POSTER FEATURES A JUMBO JET TIED IN A KN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VIS PRESLEY FILMED             3 MOVIES IN HAWAII: "PARADISE, HAWAIIAN STYLE", "BLUE HAWAII"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28880" y="48769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85640" y="762120"/>
            <a:ext cx="8172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4 FILM WAS THE FIRST OF SEVERAL 1950'S "NUCLEAR MONSTER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362320" y="4876920"/>
            <a:ext cx="4419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KLAHO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38120" y="762120"/>
            <a:ext cx="8267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ROGERS AND HAMMERSTEIN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USICAL TOGETHER, WHICH WAS TURNED INTO A 1955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28560" y="4267080"/>
            <a:ext cx="78868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TITLES  ALL  CONTAIN  EXCLAMATION  POINT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76320" y="761760"/>
            <a:ext cx="7191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MUSICAL FILM STARRED NICOLE KIDMAN AND EWAN MCGREG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57320" y="762120"/>
            <a:ext cx="7029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WESTERN FILM STARRED CHEVY CHASE, STEVE MARTIN, AND MARTIN SH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52320" y="762120"/>
            <a:ext cx="7839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FILM WAS INSPIRED BY "DUCK SOUP" BY THE MARX BROTH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7 COMEDY FILM STARRED JOHN DENVER AND GEORGE BUR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MUSICAL FILM STARRED MERYL STREEP AND PIERCE BROSN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0 COMEDY FILM'S POSTER FEATURES A JUMBO JET TIED IN A KN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85640" y="762120"/>
            <a:ext cx="8172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4 FILM WAS THE FIRST OF SEVERAL 1950'S "NUCLEAR MONSTER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51:05Z</dcterms:modified>
  <cp:revision>448</cp:revision>
  <dc:subject/>
  <dc:title>Slide 1</dc:title>
</cp:coreProperties>
</file>