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2CE1F-8BEF-4B22-B261-910C660A6F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CB28C-F974-4231-8538-3B20F6C092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1C3B5-1691-418F-979C-E7AADB7BF4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124FF-53A1-48B9-8B32-3CC7CE054E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DA849-7343-4706-91A1-C83E54D042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D85B0-1E19-41CD-AF1E-EF8ABF3E1B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6ED58-A3CF-4F04-9564-DC8A314BFC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1ADC6-233C-47E7-8100-243968ED5C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4B7A6-85BA-48B3-ADDA-90528859CE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C513C-1CCB-448B-A0E2-28DE7A2181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CD3ED-D740-46B5-A74B-6330BCD752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13D46-7B61-423B-9A84-C4810E515C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CF845-F0A1-43A9-98AF-C16A619D20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AB52E-98B1-471F-9CD4-DA8DCB01E9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C7E2F-01D3-4454-9263-8A000AC825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2151D-A61A-4DBC-B75A-CAAEB28660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53031-4DC2-4496-B0A0-8440661A2E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49FAE-E23A-4D09-8D37-441238EB7B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86DF1-8CDC-4F1E-ABA4-CC4F5276DC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90860-04F7-4934-B583-CB6A823AAF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41513-1570-4A4F-9F9B-306C4A2A6C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78E6B-C149-4DAE-8C52-0AEE219C0F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56FD1-E5BE-443A-90E0-159BC87982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009800" y="1371240"/>
            <a:ext cx="7124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ILM COMMON THREAD</a:t>
            </a:r>
            <a:r>
              <a:rPr b="0" i="1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342720" y="762120"/>
            <a:ext cx="84582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ROGERS AND HAMMERSTEIN'S 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MUSICAL TOGETHER, WHICH WAS TURNED INTO A 1955 FILM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IRLS  GIRLS  GIR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519120" y="762120"/>
            <a:ext cx="81057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LVIS PRESLEY FILMED             3 MOVIES IN HAWAII: "PARADISE, HAWAIIAN STYLE", "BLUE HAWAII", AND W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396720" y="4876920"/>
            <a:ext cx="83505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OULIN  ROU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1038240" y="762120"/>
            <a:ext cx="70675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01 MUSICAL FILM STARRED NICOLE KIDMAN AND EWAN MCGREGO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1219320" y="4876920"/>
            <a:ext cx="67053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REE  AMIG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1085760" y="762120"/>
            <a:ext cx="697248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86 WESTERN FILM STARRED CHEVY CHASE, STEVE MARTIN, AND MARTIN SHOR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1447920" y="4876920"/>
            <a:ext cx="62481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EL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801720" y="762120"/>
            <a:ext cx="75405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EATLES FILM WAS INSPIRED BY "DUCK SOUP" BY THE MARX BROTHE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OH  GO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866880" y="762120"/>
            <a:ext cx="74102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77 COMEDY FILM STARRED JOHN DENVER AND GEORGE BURN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1905120" y="4876920"/>
            <a:ext cx="53337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MMA  M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647640" y="762120"/>
            <a:ext cx="784872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08 MUSICAL FILM STARRED MERYL STREEP AND PIERCE BROSNA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04840" y="4876920"/>
            <a:ext cx="6934320" cy="7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IRPLA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681120" y="762120"/>
            <a:ext cx="778176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80 COMEDY FILM'S POSTER FEATURES A JUMBO JET TIED IN A KNO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476280" y="762120"/>
            <a:ext cx="81914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LVIS PRESLEY FILMED             3 MOVIES IN HAWAII: "PARADISE, HAWAIIAN STYLE", "BLUE HAWAII", AND WHA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028880" y="4876920"/>
            <a:ext cx="7086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2000"/>
          </a:bodyPr>
          <a:p>
            <a:pPr marL="178200" indent="-178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485640" y="762120"/>
            <a:ext cx="81727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54 FILM WAS THE FIRST OF SEVERAL 1950'S "NUCLEAR MONSTER" FILM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2362320" y="4876920"/>
            <a:ext cx="44193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OKLAHOM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438120" y="762120"/>
            <a:ext cx="826776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ROGERS AND HAMMERSTEIN'S 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MUSICAL TOGETHER, WHICH WAS TURNED INTO A 1955 FIL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628560" y="4267080"/>
            <a:ext cx="788688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3000"/>
          </a:bodyPr>
          <a:p>
            <a:pPr marL="216000" indent="-2160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IR  TITLES  ALL  CONTAIN  EXCLAMATION  POINTS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976320" y="761760"/>
            <a:ext cx="71913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01 MUSICAL FILM STARRED NICOLE KIDMAN AND EWAN MCGREGO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1057320" y="762120"/>
            <a:ext cx="702936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86 WESTERN FILM STARRED CHEVY CHASE, STEVE MARTIN, AND MARTIN SHOR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652320" y="762120"/>
            <a:ext cx="78393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EATLES FILM WAS INSPIRED BY "DUCK SOUP" BY THE MARX BROTHER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704880" y="762120"/>
            <a:ext cx="77342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77 COMEDY FILM STARRED JOHN DENVER AND GEORGE BURN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685800" y="7617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08 MUSICAL FILM STARRED MERYL STREEP AND PIERCE BROSNA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380880" y="762120"/>
            <a:ext cx="83822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80 COMEDY FILM'S POSTER FEATURES A JUMBO JET TIED IN A KNO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485640" y="762120"/>
            <a:ext cx="81727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54 FILM WAS THE FIRST OF SEVERAL 1950'S "NUCLEAR MONSTER" FILM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13T22:38:32Z</dcterms:created>
  <dc:creator>Jennifer Budzinski</dc:creator>
  <dc:description/>
  <dc:language>en-US</dc:language>
  <cp:lastModifiedBy>Erich Friedman</cp:lastModifiedBy>
  <dcterms:modified xsi:type="dcterms:W3CDTF">2020-08-31T16:51:05Z</dcterms:modified>
  <cp:revision>448</cp:revision>
  <dc:subject/>
  <dc:title>Slide 1</dc:title>
</cp:coreProperties>
</file>