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EC43-58BD-449F-B221-5061BE3F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956D-1B6E-4317-8555-1F758532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EFD1-21FE-470F-B80E-CBE1C2554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E23C-73F4-4E42-8442-6092F863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E350-501E-4ECC-8D57-BFB04878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1392-1091-47FA-9C27-7E9685AA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9D8-0A75-4E7C-B266-BA917B247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EF2-8A50-401B-AE04-448D7B3F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2B6A-07C4-4AD2-B60C-BABAE3CA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9CF7-E039-4A19-8801-A52368868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8422-41FF-4ECD-987E-BBB82327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208A-BBF3-4056-9443-1B84A47A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BDFD-A25E-4FEE-837E-35C9B0F32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836B-A2D8-4AF0-AAD5-4A524C4B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7A12-299C-428F-B72E-5E83E6359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DF1-EEE8-469C-9179-6472604A2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3C5-EC48-4191-B5BB-4388A13D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9D7C-3910-4A93-9F65-149B3927B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11B3-D5F5-4830-A84C-4E71DDC11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EE00-52A8-4342-ADF2-703F6649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7FB5-1FF8-4791-9CD6-C788F9E2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4166-6EA0-4823-A240-B6705C08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DCA2-3B17-4C8C-A1ED-C36B7AA5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ITLE CHARACTER IN THE "KUNG FU PANDA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ALBUM WHICH FOLLOWED "THRILLER" SOLD OVER 35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809720" y="762120"/>
            <a:ext cx="552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REPRESENTED B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＋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700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ENGLISH WORD COMES FROM THE NORWEGIAN WORD FOR "COVERLET" OR THE SWEDISH WORD FOR "RUFFLED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(LA  LA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ONE IS BOTH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2016 FILM NOMINATE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LEMAGNE DEFINED THE "PIED" TO BE 1/6 OF THE ARMSPAN OF A MAN.  WHAT DO WE CALL THIS 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OINT BETWEEN THE TARSAL BONES AND TIBIA IN A HORSE, PIG,    DOG, OR CAT, ANALOGOUS TO A HUMAN ANK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ALBUM WHICH FOLLOWED "THRILLER" SOLD OVER 35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3276720"/>
            <a:ext cx="876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SYLLABLES  OF  SPORTS  (BADMINTON,  TENNIS,  RUGBY, BASEBALL,  LACROSSE,  FOOTBALL,  HOCKEY,  CURLING  &amp;  PO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REPRESENTED B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＋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ENGLISH WORD COMES FROM THE NORWEGIAN WORD FOR "COVERLET" OR THE SWEDISH WORD FOR "RUFFLED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ONE IS BOTH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2016 FILM NOMINATE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LEMAGNE DEFINED THE "PIED" TO BE 1/6 OF THE ARMSPAN OF A MAN.  WHAT DO WE CALL THIS 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OINT BETWEEN THE TARSAL BONES AND TIBIA IN A HORSE, PIG,    DOG, OR CAT, ANALOGOUS TO A HUMAN ANK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51:21Z</dcterms:modified>
  <cp:revision>357</cp:revision>
  <dc:subject/>
  <dc:title>Slide 1</dc:title>
</cp:coreProperties>
</file>