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2E72-36CF-4E3A-B3B6-F5F4F6979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3A48-13CC-4C47-A5DA-574C0649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F5CF-9389-474C-9388-EBD3031D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120-9E9F-415C-86BE-85673FC12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5784-97B5-4AE1-BB6B-C95B0EFEC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50A-5E31-4EA5-8F37-69179B9D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681A-5C3E-498D-91E2-B06193C8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1FB6-7C96-4A87-8C5D-8BCC709A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908F-E332-4B73-888D-850DDB5C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A6B2-9439-4783-8148-ECEF22DD1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3A2-5C66-41DE-A9EE-5F4652EAF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233-1865-41AD-8DFE-4C44C6A18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AA0D-C8FE-4A5C-AA4E-0A9E4DEE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2A0B-FE61-4F9D-9408-D1313AE6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E310-7575-432D-92D1-24AF917A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2C03-939C-43D6-A99B-CA48C69B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F40-2FD2-4C57-BA33-96028DCEF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CDA6-050E-441D-8DE1-D16B651A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4243-DA1E-4E80-A8D5-347774EF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E528-532B-41BD-B555-B32E8F86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626-8EBD-4479-B1B5-4BC4EF4B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A4F-4861-42C0-93B2-A07B1D6C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202-B380-40AE-8F68-63D757F4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ITLE CHARACTER IN THE "KUNG FU PANDA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ALBUM WHICH FOLLOWED "THRILLER" SOLD OVER 35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809720" y="762120"/>
            <a:ext cx="552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REPRESENTED B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700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ENGLISH WORD COMES FROM THE NORWEGIAN WORD FOR "COVERLET" OR THE SWEDISH WORD FOR "RUFFLED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(LA  LA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ONE IS BOTH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2016 FILM NOMINATE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LEMAGNE DEFINED THE "PIED" TO BE 1/6 OF THE ARMSPAN OF A MAN.  WHAT DO WE CALL THIS 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OINT BETWEEN THE TARSAL BONES AND TIBIA IN A HORSE, PIG,    DOG, OR CAT, ANALOGOUS TO A HUMAN ANK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ALBUM WHICH FOLLOWED "THRILLER" SOLD OVER 35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327672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SYLLABLES  OF  SPORTS  (BADMINTON,  TENNIS,  RUGBY, BASEBALL,  LACROSSE,  FOOTBALL,  HOCKEY,  CURLING  &amp;  PO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REPRESENTED B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ENGLISH WORD COMES FROM THE NORWEGIAN WORD FOR "COVERLET" OR THE SWEDISH WORD FOR "RUFFLED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ONE IS BOTH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2016 FILM NOMINATE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LEMAGNE DEFINED THE "PIED" TO BE 1/6 OF THE ARMSPAN OF A MAN.  WHAT DO WE CALL THIS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OINT BETWEEN THE TARSAL BONES AND TIBIA IN A HORSE, PIG,    DOG, OR CAT, ANALOGOUS TO A HUMAN ANK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51:21Z</dcterms:modified>
  <cp:revision>357</cp:revision>
  <dc:subject/>
  <dc:title>Slide 1</dc:title>
</cp:coreProperties>
</file>