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75D9-9417-48EA-B395-01CE930A6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50E8-E94A-479F-8FE3-C82632D69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8ED9-FDC1-449C-AD3E-91BCAFDCB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F800-6007-4039-8722-700E48430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1D4E-BD0E-4920-A702-F80BA6F1B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5CD7-7EDF-4443-A4D2-350A78808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EBC0-1DDB-4D42-9C25-F1A502D8B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1050-E43F-4272-8BDE-8E19B49B2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DAF7-6A6E-4501-912F-C4A4BD6C8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0D9E-29C4-4E89-AC98-D9F133C6F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4F2F-E844-4214-84DB-5D51AC739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A70B-7480-47F3-8E74-DB8B96189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4D5D-1406-4D6C-B218-A5759481D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9117-F45F-4D3F-B7DF-CA536E66E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7038-DC92-4B08-AF40-9989038DB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68AD-02EB-4018-802D-23D838498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13A6-92DF-46CF-9FE0-D39AE1865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16E0-63E9-495A-AF2A-DF1B280E5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CA3A-2D32-4302-9196-CFDCDE038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B4D0-160A-4ABA-BF1C-F70126D89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E035C-FF60-4546-8A86-BEB8CD6EE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DDF7-D721-4227-B1EC-E3BC4C73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027F-8F7E-4705-99D6-F86DE77E9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ITLE CHARACTER IN THE "KUNG FU PANDA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ALBUM WHICH FOLLOWED "THRILLER" SOLD OVER 35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809720" y="762120"/>
            <a:ext cx="552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REPRESENTED BY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＋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N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700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ENGLISH WORD COMES FROM THE NORWEGIAN WORD FOR "COVERLET" OR THE SWEDISH WORD FOR "RUFFLED H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MICROSOFT'S "ACCESS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 (LA  LAN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TONE IS BOTH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A 2016 FILM NOMINATED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LEMAGNE DEFINED THE "PIED" TO BE 1/6 OF THE ARMSPAN OF A MAN.  WHAT DO WE CALL THIS 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JOINT BETWEEN THE TARSAL BONES AND TIBIA IN A HORSE, PIG,    DOG, OR CAT, ANALOGOUS TO A HUMAN ANK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ALBUM WHICH FOLLOWED "THRILLER" SOLD OVER 35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ECTOR CALCULUS, ∇×F DENOTES THE WHAT OF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ITLE CHARACTER IN THE "KUNG FU PANDA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3276720"/>
            <a:ext cx="8763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SYLLABLES  OF  SPORTS  (BADMINTON,  TENNIS,  RUGBY, BASEBALL,  LACROSSE,  FOOTBALL,  HOCKEY,  CURLING  &amp;  POL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REPRESENTED BY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＋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N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ENGLISH WORD COMES FROM THE NORWEGIAN WORD FOR "COVERLET" OR THE SWEDISH WORD FOR "RUFFLED H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OOGLE'S VERSION OF MICROSOFT'S "ACCESS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24000" y="762120"/>
            <a:ext cx="66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TONE IS BOTH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IN THE TITLE OF A 2016 FILM NOMINATED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RLEMAGNE DEFINED THE "PIED" TO BE 1/6 OF THE ARMSPAN OF A MAN.  WHAT DO WE CALL THIS 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JOINT BETWEEN THE TARSAL BONES AND TIBIA IN A HORSE, PIG,    DOG, OR CAT, ANALOGOUS TO A HUMAN ANK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ECTOR CALCULUS, ∇×F DENOTES THE WHAT OF 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6:51:21Z</dcterms:modified>
  <cp:revision>357</cp:revision>
  <dc:subject/>
  <dc:title>Slide 1</dc:title>
</cp:coreProperties>
</file>