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F412-D7F3-4EC6-85DD-A015DC9E4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772B-8A10-4796-B8AE-27435D6AF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1D96-13D1-48B8-A2F7-5C9A4A0F5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4A46-04D2-403E-8EFC-891FB88CC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51CE-71AB-482E-9F09-C05F5C5AE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7192-C485-4259-B9DC-23BE4449B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61D5-9B1A-44D8-96AB-48A9ED4E1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755D-3C59-49CF-A7B9-3F9FDFA1A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4C20-95A5-4B8D-A86F-76ECFB9D9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AA1A-C2B5-4271-9D14-FCD3F00F7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519C-4CF2-4C27-800D-F41568C99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7AF3-0621-4AD6-B2C4-7AC1BCD3C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F520-148C-4DED-984B-BC14D6AD3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DE65-9F18-4FE5-AED2-987AC5F3F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CBA5-1A67-4E50-A660-647474423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67B8-E1FA-4A8C-947F-90DB2C5AC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2029-14DD-42AF-B8E3-E281F93A1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5C41-C83C-40B6-944E-21B9D12D4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7A3A-1DA0-4F03-94CC-24E17A76E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7EFC-C28A-4FDE-978E-EA1CA4D65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1A50-A2DD-4B58-B2D8-A454DFCCA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370E-B4D0-4861-81A4-4EE871C0D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F739-A3C8-4C2B-843B-7D386447C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61920" y="761760"/>
            <a:ext cx="7220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LAXY IS OUR SOLAR SYSTEM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R.  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76280" y="762120"/>
            <a:ext cx="8191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SEX AND THE CITY", BY WHAT NICKNAME IS CHRIS NOTH'S CHARACTER KN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82800" y="762120"/>
            <a:ext cx="7178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UMBER ALPHABETIC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47760" y="4876920"/>
            <a:ext cx="8448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AVE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92200" y="762120"/>
            <a:ext cx="795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REET DID DONALD TRUMP CLAIM HE COULD SHOOT SOMEONE ON AND NOT LOSE ANY VO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.  HEN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17680" y="762120"/>
            <a:ext cx="8108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LIAM SYDNEY PORTER, FAMOUS FOR HIS SURPRISE ENDINGS, WAS BETTER KNOWN BY WHAT PEN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REE  MUSKET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19000" y="762120"/>
            <a:ext cx="7105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PORTHOS, ATHOS, AND ARAM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ICK)  CL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33480" y="762120"/>
            <a:ext cx="727704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  NAME OF THE HOST OF "AMERICAN BANDSTAND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88920" y="762120"/>
            <a:ext cx="7166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ICASSO PAINTING OF WHAT BIRD WAS CHOSEN AS THE EMBLEM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TERNATIONAL PEACE CONFER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80960" y="762120"/>
            <a:ext cx="8182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SEX AND THE CITY", BY WHAT NICKNAME IS CHRIS NOTH'S CHARACTER KN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TH  (LEDG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00200" y="762120"/>
            <a:ext cx="7742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   OF THE ACTOR WHO WON    A POSTHUMOUS BEST SUPPORTING ACTOR OSCAR FOR "BATMAN" IN 200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KY 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9640" y="762120"/>
            <a:ext cx="7524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LAXY IS OUR SOLAR SYSTEM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CANDY  B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80920" y="761760"/>
            <a:ext cx="7382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UMBER ALPHABETICA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81040" y="762120"/>
            <a:ext cx="7981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REET DID DONALD TRUMP CLAIM HE COULD SHOOT SOMEONE ON AND NOT LOSE ANY VO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52600" y="762120"/>
            <a:ext cx="8038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LIAM SYDNEY PORTER, FAMOUS FOR HIS SURPRISE ENDINGS, WAS BETTER KNOWN BY WHAT PEN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PORTHOS, ATHOS, AND ARAM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47800" y="761760"/>
            <a:ext cx="7448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   NAME OF THE HOST OF "AMERICAN BANDST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ICASSO PAINTING OF WHAT BIRD WAS CHOSEN AS THE EMBLEM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TERNATIONAL PEACE CONFER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03280" y="762120"/>
            <a:ext cx="8136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     OF THE ACTOR WHO WON      A POSTHUMOUS BEST SUPPORTING ACTOR OSCAR FOR "BATMAN" IN 200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08-31T17:01:14Z</dcterms:modified>
  <cp:revision>374</cp:revision>
  <dc:subject/>
  <dc:title>Slide 1</dc:title>
</cp:coreProperties>
</file>