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2008-EEA5-4664-8C31-A90DF8A7E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5D0E-463A-407F-BE9B-A6A1A7005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3FCA-437F-4766-B32F-DF608916A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C11-71AE-4C4D-A72D-E359E807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3011-82C7-46BA-A79D-AC2F21C13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1461-91E7-4519-AE32-CE62C2128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3A9C-FFBD-469E-9203-22D93A7B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3095-A1F7-411E-BD94-761977440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DAF1-C1A4-4909-B312-0F8D7C23C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05D5-EA88-490E-A6E7-F89F5001C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30523-B39B-4F87-AD03-35D7762EC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AC99-A06F-4FEC-95DD-DA873DDFF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CFE5-0532-4BD2-A70C-6C4EA741E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8673-37DE-4868-9A60-B19961507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8875-59AA-4569-B4F4-9216086AC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09D6-6F91-47B8-A079-7797275A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3319-AE26-41E8-BAC2-72FCB300A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E4FB-E1C7-4E65-9A8E-E49E1139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D38D-86B3-45C5-82F5-A8B180E4F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043B-3BEF-4ACA-897D-34B9852A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D2DE-BC1D-4107-AE65-7D724198F1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AAAA-D3F4-4AB5-A902-E3FDA6B02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47D8-7021-4CC5-9C88-47B95CD0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61920" y="761760"/>
            <a:ext cx="7220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LAXY IS OUR SOLAR SYSTEM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B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76280" y="762120"/>
            <a:ext cx="81914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EX AND THE CITY", BY WHAT NICKNAME IS CHRIS NOTH'S CHARACTER KN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82800" y="762120"/>
            <a:ext cx="7178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UMBER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47760" y="4876920"/>
            <a:ext cx="84484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VE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ET DID DONALD TRUMP CLAIM HE COULD SHOOT SOMEONE ON AND NOT LOSE ANY VO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.  HEN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17680" y="762120"/>
            <a:ext cx="810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SYDNEY PORTER, FAMOUS FOR HIS SURPRISE ENDINGS, WAS BETTER KNOWN BY WHAT P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19000" y="762120"/>
            <a:ext cx="71056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PORTHOS, ATHOS, AND ARAM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ICK)  CL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  NAME OF THE HOST OF "AMERICAN BANDSTAND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88920" y="762120"/>
            <a:ext cx="716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ICASSO PAINTING OF WHAT BIRD WAS CHOSEN AS THE EMBLEM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TERNATIONAL PEACE CONFER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80960" y="762120"/>
            <a:ext cx="8182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SEX AND THE CITY", BY WHAT NICKNAME IS CHRIS NOTH'S CHARACTER KN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TH  (LEDG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00200" y="762120"/>
            <a:ext cx="774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OF THE ACTOR WHO WON    A POSTHUMOUS BEST SUPPORTING ACTOR OSCAR FOR "BATMAN"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LAXY IS OUR SOLAR SYSTEM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CANDY  B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80920" y="761760"/>
            <a:ext cx="7382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UMBER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81040" y="762120"/>
            <a:ext cx="798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REET DID DONALD TRUMP CLAIM HE COULD SHOOT SOMEONE ON AND NOT LOSE ANY VO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IAM SYDNEY PORTER, FAMOUS FOR HIS SURPRISE ENDINGS, WAS BETTER KNOWN BY WHAT P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PORTHOS, ATHOS, AND ARAM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47800" y="761760"/>
            <a:ext cx="7448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   NAME OF THE HOST OF "AMERICAN BANDST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ICASSO PAINTING OF WHAT BIRD WAS CHOSEN AS THE EMBLEM OF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TERNATIONAL PEACE CONFER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     OF THE ACTOR WHO WON      A POSTHUMOUS BEST SUPPORTING ACTOR OSCAR FOR "BATMAN"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1T17:29:44Z</dcterms:created>
  <dc:creator>Jennifer Budzinski</dc:creator>
  <dc:description/>
  <dc:language>en-US</dc:language>
  <cp:lastModifiedBy>Erich Friedman</cp:lastModifiedBy>
  <dcterms:modified xsi:type="dcterms:W3CDTF">2020-08-31T17:01:14Z</dcterms:modified>
  <cp:revision>374</cp:revision>
  <dc:subject/>
  <dc:title>Slide 1</dc:title>
</cp:coreProperties>
</file>