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5983-FCC4-49BB-9D48-9F615434F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1F8F-6A4F-4C56-91C1-91106C020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1896-745B-4991-A73B-ADC109A71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8183-AFF2-43DF-B972-57713DCD1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801C-A228-49AB-98D0-4DB2B2DF9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34E4-FECE-4051-BB63-829F406B6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97D9-39B1-4222-BD94-DC8225087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4716-14ED-4984-9C7C-141FD0472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9881-6556-4393-990D-F0CE08C9A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3A96-96FA-4DDC-9679-EC613518E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2FD0-0CA7-46F8-84C2-7708B65A9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54DD-0A17-4732-B43D-6539E7238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9DC1-70CE-4D23-8157-6339FCB9E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5874-D05B-411B-8B2D-415B45CE2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AE3F-6D44-4A5A-A358-3E9CE9293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1E2A-22E3-4B31-BED3-74B8B3049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4A64-E726-4CF6-8B41-9E8D4D2D5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415C-69D8-417F-A4EA-E1D92A4D5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2D11-3ECC-4FA2-A173-351433F9A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6C95-A6E5-4066-844D-C170AB9B4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49E8-EDB0-48E2-8056-3572DCEA3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7B54-D8BC-4CFE-A99F-1A6B3B232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2748-296A-40F9-BD6C-D29342902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61920" y="761760"/>
            <a:ext cx="7220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LAXY IS OUR SOLAR SYSTEM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R.  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76280" y="762120"/>
            <a:ext cx="8191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SEX AND THE CITY", BY WHAT NICKNAME IS CHRIS NOTH'S CHARACTER KN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82800" y="762120"/>
            <a:ext cx="7178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UMBER ALPHABETIC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47760" y="4876920"/>
            <a:ext cx="8448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AVE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92200" y="762120"/>
            <a:ext cx="795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REET DID DONALD TRUMP CLAIM HE COULD SHOOT SOMEONE ON AND NOT LOSE ANY VO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.  HEN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17680" y="762120"/>
            <a:ext cx="8108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LIAM SYDNEY PORTER, FAMOUS FOR HIS SURPRISE ENDINGS, WAS BETTER KNOWN BY WHAT PEN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REE  MUSKET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19000" y="762120"/>
            <a:ext cx="7105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PORTHOS, ATHOS, AND ARAM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ICK)  CL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33480" y="762120"/>
            <a:ext cx="727704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  NAME OF THE HOST OF "AMERICAN BANDSTAND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88920" y="762120"/>
            <a:ext cx="7166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ICASSO PAINTING OF WHAT BIRD WAS CHOSEN AS THE EMBLEM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TERNATIONAL PEACE CONFER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80960" y="762120"/>
            <a:ext cx="8182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SEX AND THE CITY", BY WHAT NICKNAME IS CHRIS NOTH'S CHARACTER KN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TH  (LEDG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00200" y="762120"/>
            <a:ext cx="7742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   OF THE ACTOR WHO WON    A POSTHUMOUS BEST SUPPORTING ACTOR OSCAR FOR "BATMAN" IN 200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KY 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9640" y="762120"/>
            <a:ext cx="7524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LAXY IS OUR SOLAR SYSTEM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CANDY  B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80920" y="761760"/>
            <a:ext cx="7382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UMBER ALPHABETICA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81040" y="762120"/>
            <a:ext cx="7981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REET DID DONALD TRUMP CLAIM HE COULD SHOOT SOMEONE ON AND NOT LOSE ANY VO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52600" y="762120"/>
            <a:ext cx="8038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LIAM SYDNEY PORTER, FAMOUS FOR HIS SURPRISE ENDINGS, WAS BETTER KNOWN BY WHAT PEN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PORTHOS, ATHOS, AND ARAM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47800" y="761760"/>
            <a:ext cx="7448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   NAME OF THE HOST OF "AMERICAN BANDST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ICASSO PAINTING OF WHAT BIRD WAS CHOSEN AS THE EMBLEM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TERNATIONAL PEACE CONFER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03280" y="762120"/>
            <a:ext cx="8136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     OF THE ACTOR WHO WON      A POSTHUMOUS BEST SUPPORTING ACTOR OSCAR FOR "BATMAN" IN 200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08-31T17:01:14Z</dcterms:modified>
  <cp:revision>374</cp:revision>
  <dc:subject/>
  <dc:title>Slide 1</dc:title>
</cp:coreProperties>
</file>