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ACEC-5F28-490A-9B4E-40AA4DFB2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E0FF-690F-4ACD-B78D-E7E4E0730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19F8-75F6-4C88-93F8-A30D50EF7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E44B-94BB-4511-819B-2CDC40268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3666-C0AA-45CB-912D-5542A25CA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D64E-96BE-4DDD-AA3F-971134026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9064-6E1D-446F-BAD5-09F4CB410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E95A-EC8D-40B4-AFD5-F9E514533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7F82-22FB-46F0-9862-CEC594A09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246D-18F8-44B3-9C32-38CB1C362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66B3-77B2-4900-902B-BD6433682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8550-D234-4F29-922A-80D2B09DF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0A5A-2567-4F31-9277-8C4B89597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FDCD-F484-4E06-A976-AEB9C2EA4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F6DC-C047-470A-AD35-4FC3B1AF3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010D-F93B-455E-BEE4-B7E28EFB7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5F11-687C-4D7B-A48F-405CF1518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96E0-EBB2-48B4-A6E0-1FE65BC76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6934-7148-4684-A8DF-DAA002A47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45D7-0F51-4FB3-B33C-85CA99255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5F49-0A9E-4055-A29F-6761822ED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5763-A4FA-42DE-A46B-EC66336B8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2580-3452-4A49-81DA-BBDF6A670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CLINT EASTWOOD HAVE A FISTFUL OF IN 19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OF THE U.S. AGENCY WHICH INVESTIGATES FOREIGN NATION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KNOWN AS "THE STAFF OF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OUNDS" WERE SIMON AND GARFUNKEL FAMOUS FOR MAKING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 W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1951 MUSICAL, WHAT IS CALLED MARI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ENNESSEE WILLIAMS' MENAGERIE MAD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SE DOES "THE CAT IN THE HAT" W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HA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ALLY FIELD WEAR IN THE LATE '60'S WHEN SHE COULD 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OF THE U.S. AGENCY WHICH INVESTIGATES FOREIGN NATION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33480" y="762120"/>
            <a:ext cx="7277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IMES MIGHT YOU HAVE AT RIDGEMONT H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CLINT EASTWOOD HAVE A FISTFUL OF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KNOWN AS "THE STAFF OF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OUNDS" WERE SIMON AND GARFUNKEL FAMOUS FOR MAKING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1951 MUSICAL, WHAT IS CALLED MARI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ENNESSEE WILLIAMS' MENAGERIE MADE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23920" y="761760"/>
            <a:ext cx="6896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SE DOES "THE CAT IN THE HAT" W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ALLY FIELD WEAR IN THE LATE '60'S WHEN SHE COULD F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81000" y="762120"/>
            <a:ext cx="7182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IMES MIGHT YOU HAVE AT RIDGEMONT HI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1:31Z</dcterms:modified>
  <cp:revision>357</cp:revision>
  <dc:subject/>
  <dc:title>Slide 1</dc:title>
</cp:coreProperties>
</file>