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CAFD-378C-4B8D-813D-6061AA901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0CDE-1369-45AA-ABF3-1E1DA5946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C78F-8716-4AE9-B83E-0D451D18A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F707-83E9-48A7-8606-08D24A1F3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40B0-78E0-4E04-A474-213463CCC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FB45-60F8-412D-892B-01D49CA43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FDC8-CE21-4F79-AF6E-CFB6FACC5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8579-E5C0-495D-B987-7F5A47C5B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D7B2-BE84-460F-8050-3B4902FBE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89CD-0B39-4E49-8E13-4E6C686B3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D453-86F7-4E9C-A04D-C33701DE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DE2D-F644-4A9A-8742-C50820124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5C27-59A0-460F-B21A-776B9025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F3FD-2321-424E-831C-E9BB6DB55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4523-E3DC-4257-ABB2-75D55EDE5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3129-0645-4982-90A2-51E1295C4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0A28-2669-4C34-9DD4-00A849FC7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AEA4-E6D2-456C-B030-EE4BE80D8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8AC3-1DDC-4B4B-B5B7-3955B981C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A8FF-7701-4A97-AEDD-81742583B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CDFC-5DBC-421A-9EB1-F5865DD14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5332-A6E8-46D3-8A7A-9C96F456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306F-6461-44A6-B4AD-70A97EBC2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LINT EASTWOOD HAVE A FISTFUL OF IN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THE U.S. AGENCY WHICH INVESTIGATES FOREIGN NATION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KNOWN AS "THE STAFF OF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OUNDS" WERE SIMON AND GARFUNKEL FAMOUS FOR MAKING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1951 MUSICAL, WHAT IS CALLED MARI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ENNESSEE WILLIAMS' MENAGERIE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SE DOES "THE CAT IN THE HAT"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HA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LLY FIELD WEAR IN THE LATE '60'S WHEN SHE COULD 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CRONYM OF THE U.S. AGENCY WHICH INVESTIGATES FOREIGN NATION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3480" y="762120"/>
            <a:ext cx="727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IMES MIGHT YOU HAVE AT RIDGEMONT H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CLINT EASTWOOD HAVE A FISTFUL OF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KNOWN AS "THE STAFF OF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OUNDS" WERE SIMON AND GARFUNKEL FAMOUS FOR MAKING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1951 MUSICAL, WHAT IS CALLED MARI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ENNESSEE WILLIAMS' MENAGERIE MAD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SE DOES "THE CAT IN THE HAT"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77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SALLY FIELD WEAR IN THE LATE '60'S WHEN SHE COULD F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IMES MIGHT YOU HAVE AT RIDGEMONT H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1:31Z</dcterms:modified>
  <cp:revision>357</cp:revision>
  <dc:subject/>
  <dc:title>Slide 1</dc:title>
</cp:coreProperties>
</file>