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6DE-9DBF-4425-A1F1-EADF572E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DE9-C6CD-44B3-8383-AFEC00EA8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46CB-400D-4CB4-8754-BC3F268E5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E2C-25F1-4B98-9D1E-FBB76012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20C-8AAE-41B4-96E5-5B288BA1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203-2E46-4D38-BE82-812C1AA3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89C-6BA8-4D76-8E6B-7E58229F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034C-FF61-45E8-AE9E-0D257E7E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451-A700-4DB5-A5E1-8EC7C759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612-F34B-4E45-95A6-C3CDEBCE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9908-2330-46B7-873D-67DAB74D0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C0AE-C1F5-4440-8B4F-3427CB94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C64A-E8CD-46CF-954D-13612CC3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DD57-9C41-4626-914A-19C27519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676-101D-405F-A1E3-2CAE6074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8BC-273C-47D5-9A42-D5E033F8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C4FF-ED11-4B1D-9A7A-B647A955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AA6-E97F-4C9E-A7AE-397F8C40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51ED-BB68-47DE-A33A-44AE938E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0E7-D2F1-49E5-BFC3-21517BD0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FF5D-AD74-47B3-A79E-A3E74F53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3E8-B042-468D-A8A9-B4A72ACA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412D-162B-485E-933C-40957DDB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31Z</dcterms:modified>
  <cp:revision>357</cp:revision>
  <dc:subject/>
  <dc:title>Slide 1</dc:title>
</cp:coreProperties>
</file>