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AD9B-10F0-4C3D-A99A-00A525C2D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6DE6-AB1D-4524-82E6-37B5DD664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854B-A0B1-4E87-9080-418590CF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6387-ECFD-4A42-A459-A4FED16E2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16FC-ABD3-4595-9C7B-C62D11D80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0D2D-C08B-4A70-8F9C-4BDBC8BE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4AFF-6382-4F2D-AF6C-BE5DD2DAC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FBC8-8B8D-4BD6-9F6D-CDC024CC8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2908E-F2EE-4F65-A6A6-F4163AD3A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FC487-53F4-4401-BECD-5A8C5A052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7686-86EE-4390-B6DE-89BAE1795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B32C-62E7-4B1A-AB42-50C4FE33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F658-8307-4C30-9E20-6B5961A47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8AA2-088C-431F-A9B4-C2E95815C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EC4E-E1D3-482D-B8D3-50B6BC0EB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B1B3-1E62-4117-9168-9741E6C33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2B82-EF34-498E-979C-A0DE6384C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6B90-58FB-4E49-BADD-D3EFAD2C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C87B-6560-4C9F-AD29-6F5A874BA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E7C3-19D2-449D-AD11-E315DE1A7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78A0-015A-4ECF-A00A-6BCB0C9D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F720-4A24-4A1D-B5B1-D9C686B2C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F87B-BCFF-4C1A-B783-F1264B18E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447560"/>
            <a:ext cx="7124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SONGS BEGIN WITH THESE LYRICS 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 WAS YOUNG, I NEVER NEEDED ANYONE, AND MAKING LOVE WAS JUST FOR FUN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3513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  THE  BOARDWALK (THE DRIFT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, WHEN THE SUN BEATS DOWN AND BURNS THE TAR UP ON THE RO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371840"/>
            <a:ext cx="8350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 (THE  BEA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YEAH I TELL YOU SOMETHIN', I THINK YOU'LL UNDERST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34340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LE  IN  THE  WIND  (ELTON  JOH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343400"/>
            <a:ext cx="624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SONS  IN  THE  SUN  (TERRY  JAC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61880" y="762120"/>
            <a:ext cx="8220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TO YOU MY TRUSTED FRIEND, WE'VE KNOWN EACH OTHER SINCE WE WERE NINE OR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343400"/>
            <a:ext cx="6858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  THE  GOLDRUSH  (NEIL  YOU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90400" y="685800"/>
            <a:ext cx="79632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LL, I DREAMED I SAW THE KNIGHTS IN ARMOR COM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IN' SOMETHIN' ABOUT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343400"/>
            <a:ext cx="533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HIND  BLUE   EYES  (THE  WH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ONE KNOWS WHAT IT'S LIKE, TO BE THE BAD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34340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MPATHY  FOR  THE  DEVIL (THE  ROLLING  ST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0680" y="738360"/>
            <a:ext cx="816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ALLOW ME TO INTRODUCE MYSELF, I'M A MAN OF WEALTH AND TAS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, WHEN THE SUN BEATS DOWN AND BURNS THE TAR UP ON THE RO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3434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DURING  WARTIME  (TALKING  HEA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RD OF A VAN THAT IS LOADED WITH WEAPON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ED UP AND READY TO 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34340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BY  MYSELF  (CELINE  D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EN I WAS YOUNG, I NEVER NEEDED ANYONE, AND MAKING LOVE WAS JUST FOR F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CONTAIN  PREPOS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09800" y="76176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OH YEAH I TELL YOU SOMETHIN', I THINK YOU'LL UNDERST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NORMA JE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90600" y="762120"/>
            <a:ext cx="8362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BYE TO YOU MY TRUSTED FRIEND, WE'VE KNOWN EACH OTHER SINCE WE WERE NINE OR T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LL, I DREAMED I SAW THE KNIGHTS IN ARMOR COME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YIN' SOMETHIN' ABOUT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 ONE KNOWS WHAT IT'S LIKE, TO BE THE BAD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EASE ALLOW ME TO INTRODUCE MYSELF, I'M A MAN OF WEALTH AND TAS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ARD OF A VAN THAT IS LOADED WITH WEAPONS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CKED UP AND READY TO 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7:01:56Z</dcterms:modified>
  <cp:revision>438</cp:revision>
  <dc:subject/>
  <dc:title>Slide 1</dc:title>
</cp:coreProperties>
</file>