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5AB7-3F1A-4DA1-90A0-111D751F1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FCC1-6959-4F36-8C46-74CDC4B1E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2268-E080-4BB4-9BB0-AC8C4B76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F2D2-A18C-4E34-9EB0-7024DD449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EDBB-1F9D-4198-86CA-CCB859301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6C67-06F5-4840-803D-B47680DD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8B58-1B39-4DA0-A965-1824E1A8C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4677-C68A-4A9A-91B9-B68EBCCC9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2199-8FBC-4749-AB6C-AFF46736B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C240-1DBF-4881-ABFB-BF4B3FAF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70E5-8D23-4CF5-87F7-64D323E3F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0B6D-1A0F-4F87-9141-ED8C2FFD0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114D-25A0-445F-86E7-A133E58B8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BE6A-AAA9-4F5A-BD99-30F5BB2E9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662-3FCA-4084-9FC8-6C2D208B9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E150-259C-43EA-9BB9-CDC2BB12C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1E79-46D1-41A9-93AF-A57C0107F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F9BB-B1BE-4614-A439-77BAB58E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D41F-6482-4B2C-B0FF-DCC18531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7C47-54A9-4463-8A53-272021C58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52B1-1A46-4C32-8025-E1D747B6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E178-0895-48FC-AB42-4F6E09413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6C04-B9DD-4513-BD94-2441D55FF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447560"/>
            <a:ext cx="7124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ONGS BEGIN WITH THESE LYRICS 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 WAS YOUNG, I NEVER NEEDED ANYONE, AND MAKING LOVE WAS JUST FOR FUN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3513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  THE  BOARDWALK (THE DRIFT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, WHEN THE SUN BEATS DOWN AND BURNS THE TAR UP ON THE ROO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96720" y="4371840"/>
            <a:ext cx="8350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HOLD  YOUR  HAND (THE  BEA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 YEAH I TELL YOU SOMETHIN', I THINK YOU'LL UNDERST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19320" y="4343400"/>
            <a:ext cx="670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  IN  THE  WIND  (ELTON  JOH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343400"/>
            <a:ext cx="624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SONS  IN  THE  SUN  (TERRY  JAC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61880" y="762120"/>
            <a:ext cx="822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TO YOU MY TRUSTED FRIEND, WE'VE KNOWN EACH OTHER SINCE WE WERE NINE OR T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34340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  THE  GOLDRUSH  (NEIL  YOU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90400" y="685800"/>
            <a:ext cx="7963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LL, I DREAMED I SAW THE KNIGHTS IN ARMOR COM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YIN' SOMETHIN' ABOUT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5120" y="434340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HIND  BLUE   EYES  (THE  WH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ONE KNOWS WHAT IT'S LIKE, TO BE THE BAD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34340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MPATHY  FOR  THE  DEVIL (THE  ROLLING  ST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0680" y="738360"/>
            <a:ext cx="816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ALLOW ME TO INTRODUCE MYSELF, I'M A MAN OF WEALTH AND TAS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, WHEN THE SUN BEATS DOWN AND BURNS THE TAR UP ON THE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3434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  DURING  WARTIME  (TALKING  HEA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RD OF A VAN THAT IS LOADED WITH WEAPON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CKED UP AND READY TO 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34340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BY  MYSELF  (CELINE  D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EN I WAS YOUNG, I NEVER NEEDED ANYONE, AND MAKING LOVE WAS JUST FOR F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CONTAIN  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 YEAH I TELL YOU SOMETHIN', I THINK YOU'LL UNDERST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TO YOU MY TRUSTED FRIEND, WE'VE KNOWN EACH OTHER SINCE WE WERE NINE OR T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LL, I DREAMED I SAW THE KNIGHTS IN ARMOR COM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YIN' SOMETHIN' ABOUT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ONE KNOWS WHAT IT'S LIKE, TO BE THE BAD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ALLOW ME TO INTRODUCE MYSELF, I'M A MAN OF WEALTH AND TAS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RD OF A VAN THAT IS LOADED WITH WEAPONS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CKED UP AND READY TO 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7:01:56Z</dcterms:modified>
  <cp:revision>438</cp:revision>
  <dc:subject/>
  <dc:title>Slide 1</dc:title>
</cp:coreProperties>
</file>