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FF91-3715-4D3A-91EA-0AFD67DC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D240-82C2-403A-8AC2-B6329EA3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6B1-0E42-4D15-BE8B-A3DA6B66B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DC3-FE66-4B0B-B49F-0174C258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E191-E37F-41F1-8A3C-52AFAEEF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6E3E-BC98-49BE-AB25-24DC4D8C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BA41-8D60-4BD5-9E04-503C1CBB5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E113-6C55-4645-B9ED-D8B6BD89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741-4684-4547-B9C3-A91F7302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1CB7-CDF4-4D54-8736-C22339A6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E7AB-8CCF-4ED1-BD8A-1E4A88C0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2206-E729-4C6F-87B7-9EC54BE29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4DA-9A7B-4B99-BB77-0C924923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82E-9D41-431D-9C1D-41CCCFEC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BE9-590C-46F9-A262-05920CFC9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95AE-19A3-4447-82A7-3D59D397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27B-77D7-4DAA-B99F-69184AF2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B4F-9F46-45E7-9707-BC80178F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6CC1-CD22-4D00-BCF8-54A72C7B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654-0186-4B1D-8B52-AEFE51BD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2B5-CDE9-491F-8CBA-97BC1589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CE2-3689-472B-BA50-4F6250C47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A3DA-A235-4937-B2E9-4FCD2272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447560"/>
            <a:ext cx="7124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ONGS BEGIN WITH THESE LYRICS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 WAS YOUNG, I NEVER NEEDED ANYONE, AND MAKING LOVE WAS JUST FOR FUN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3513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 (THE DRIFT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371840"/>
            <a:ext cx="8350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WIND  (ELTON  JOH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34340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SONS  IN  THE  SUN  (TERRY  JA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  THE  GOLDRUSH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68580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3434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HIND  BLUE   EYES  (THE  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PATHY  FOR  THE  DEVIL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343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DURING  WARTIME  (TALKING  HEA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3434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BY  MYSELF  (CELINE  D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N I WAS YOUNG, I NEVER NEEDED ANYONE, AND MAKING LOVE WAS JUST FOR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CONTAIN  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1:56Z</dcterms:modified>
  <cp:revision>438</cp:revision>
  <dc:subject/>
  <dc:title>Slide 1</dc:title>
</cp:coreProperties>
</file>