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2099-C940-4282-9581-1328608DE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5829-7810-4B42-906C-5E3E95AE1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CD1F-0DF2-40B3-836A-9CAD6A1C7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EE77-2D87-4B83-8224-6815674D5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A881-C56B-4F7F-8E53-B10F18233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84C0-9B46-44A5-A718-7A2D19197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DFB3-633D-47E9-9552-C3689936C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64CC-CE80-4F35-B928-B83C8EB16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1BB8-ADCF-4AF2-84F4-5A0DD7710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2D5D-1006-4592-BA1B-B836F36A6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A9B5-0B71-4529-8125-D51CA3CDA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532E-0AA9-4F78-A748-7B13C71E0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C14D-C41B-4137-9BDC-6937CE6DE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B8F2-50DA-4C3B-BABD-466934F8F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09C9-F12E-4AFF-9CF0-B5C4CB284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A034-C76E-4E98-A0E5-19BF96CC6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F9D5-09F9-4D1A-B197-2253D0F53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A808-719F-4355-B25C-9F8BA7BAE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297B-A111-47CB-893C-C5FFD4E53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304C-DC43-48F1-900B-F283FEC29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5B8D-A77E-46EC-BD43-C4EB92A40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8F55-62F4-481C-B5B7-8875F7977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16E3-C5D8-434B-8259-E555699AD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09800" y="1371240"/>
            <a:ext cx="7124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Y AGENCY DOES MAXWELL SMART WORK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19200" y="762120"/>
            <a:ext cx="7905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URLING, THE 12-FOOT CIRCULAR TARGET IS CALLED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396720" y="4876920"/>
            <a:ext cx="8350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38240" y="762120"/>
            <a:ext cx="7067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COCA-COLA COMPANY'S FIRST DIET BEVER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219320" y="4876920"/>
            <a:ext cx="670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J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85760" y="762120"/>
            <a:ext cx="69724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MY RANK IS RIGHT BELOW LIEUTENANT COLON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447920" y="4876920"/>
            <a:ext cx="6248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61880" y="762120"/>
            <a:ext cx="8220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OST POPULAR INSECT REPELL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R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90400" y="762120"/>
            <a:ext cx="7963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ASKA HAS MORE ISLANDS THAN ANY OTHER STATE.  WHAT STATE COMES IN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905120" y="4876920"/>
            <a:ext cx="5333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KELE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NTER SPORT IS LIKE LUGE EXCEPT THE LONE RIDER GOES HEAD FIR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  (KNOT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0680" y="738360"/>
            <a:ext cx="8162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CTOR WHO PLAYED DEPUTY BARNEY F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66760" y="762120"/>
            <a:ext cx="68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URLING, THE 12-FOOT CIRCULAR TARGET IS CALLED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28880" y="487692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285840" y="762120"/>
            <a:ext cx="8572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EXAS HOLD'EM,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OMMUNITY CARD REVEALED IS USUALLY CALLED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362320" y="4876920"/>
            <a:ext cx="4419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43080" y="762120"/>
            <a:ext cx="8458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Y AGENCY DOES MAXWELL SMART WORK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80920" y="4876920"/>
            <a:ext cx="7382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KEY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66840" y="761760"/>
            <a:ext cx="6610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COCA-COLA COMPANY'S FIRST DIET BEVERA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57320" y="762120"/>
            <a:ext cx="7029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MY RANK IS RIGHT BELOW LIEUTENANT COLON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90600" y="762120"/>
            <a:ext cx="8362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OST POPULAR INSECT REPELL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ASKA HAS MORE ISLANDS THAN ANY OTHER STATE.  WHAT STATE COMES IN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NTER SPORT IS LIKE LUGE EXCEPT THE LONE RIDER GOES HEAD FIR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CTOR WHO PLAYED DEPUTY BARNEY FIF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09520" y="762120"/>
            <a:ext cx="8724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EXAS HOLD'EM,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OMMUNITY CARD REVEALED IS USUALLY CALLED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7:02:13Z</dcterms:modified>
  <cp:revision>446</cp:revision>
  <dc:subject/>
  <dc:title>Slide 1</dc:title>
</cp:coreProperties>
</file>