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CC16-21D3-4277-9F09-C54AFC64F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E0AC-66C2-4F61-B453-375DEF638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7A72-63C9-4F63-AB11-F65688FCA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C5B4-2570-412B-A3F8-AC874B84B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8E57-8989-4684-8D57-1F5EE665F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46EC-4327-4E08-A775-18A4EE908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86CB-8E32-4FEF-BCAA-D0FD48EF8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249F-32C5-4921-8214-8A8AF819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2627-25AF-4E0E-8E5C-472ACF03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5B0D-B2AE-481C-B849-E9158CF0E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77A9-9A04-43D4-89A3-71A23DA3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2692-25BE-403F-BD4E-AAEE1236F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F4AB-7126-4634-B759-2D0B7092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BD5C-7C61-48AF-9F04-93B1332D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5B38-7C8C-4034-B39F-30B53ABB4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4601-D939-4740-B280-BF904534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5050-C7DF-454A-851F-80B9AF98D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8EA4-2EAF-4080-ABCF-DBFE2048D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D547-FD0D-41A5-A3A0-966653B47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67FF-260C-44E0-A8D5-60D6BC394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825C-B82A-478F-93FF-628F714A8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6F21-DFFC-433F-96C2-582766F7D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9210-C186-4687-917A-F45220B87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37124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Y AGENCY DOES MAXWELL SMART WORK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THE 12-FOOT CIRCULAR TARGET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96720" y="4876920"/>
            <a:ext cx="835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CA-COLA COMPANY'S FIRST DIET BEVE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IS RIGHT BELOW LIEUTENANT COLON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61880" y="762120"/>
            <a:ext cx="822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HAS MORE ISLANDS THAN ANY OTHER STATE.  WHAT STATE COMES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5120" y="487692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S LIKE LUGE EXCEPT THE LONE RIDER GOES HEAD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(KNOT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0680" y="738360"/>
            <a:ext cx="816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PUTY BARNEY F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66760" y="762120"/>
            <a:ext cx="68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THE 12-FOOT CIRCULAR TARGET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5840" y="762120"/>
            <a:ext cx="8572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MMUNITY CARD REVEALED IS USUALLY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87692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Y AGENCY DOES MAXWELL SMART WORK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80920" y="4876920"/>
            <a:ext cx="738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KE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66840" y="761760"/>
            <a:ext cx="661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CA-COLA COMPANY'S FIRST DIET BEVE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IS RIGHT BELOW LIEUTENANT COLON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HAS MORE ISLANDS THAN ANY OTHER STATE.  WHAT STATE COMES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S LIKE LUGE EXCEPT THE LONE RIDER GOES HEAD FIR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PUTY BARNEY F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MMUNITY CARD REVEALED IS USUALLY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7:02:13Z</dcterms:modified>
  <cp:revision>446</cp:revision>
  <dc:subject/>
  <dc:title>Slide 1</dc:title>
</cp:coreProperties>
</file>