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A80-F157-4E65-8302-FF6842C72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A1CC-39BC-42E7-9D2E-E54CF994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BF55-1990-41AD-BCF8-C395AFF4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D6F-F3D2-4AC4-A9BA-8B551C93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34A-CB4A-48C8-A15C-91D913AB6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242-5864-433A-B8C0-4F2D389C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B635-384E-4AA0-A42E-22CF6BA7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2711-DD1C-455E-83A1-519B8070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88F-E639-45F5-AC9C-C6C4151F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D4F-051C-4A15-807D-47B7518C5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451B-D3A5-41CB-839A-3BD61212E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80B-10E1-454B-87C0-7AFF0695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938-B3E5-4E8D-8C56-C37D5EDA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0D8-03A6-4017-958C-533C8E63D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DB90-7F03-415F-A573-94BE660D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41E8-EE8B-4AA8-8CA5-64A284F2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32B7-51B9-4526-9055-DC455E4D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760A-76A8-49A6-9848-174D978D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9011-D5A2-44C0-9417-BCBE0520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50A-E8C3-48B6-AB20-32E81E622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DE0-799A-4849-8FF5-40DD4E4E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111-A6FE-4007-BBF4-692CBA6E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6CA2-9F3C-4B5D-9E88-640860D1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Y AGENCY DOES MAXWELL SMART WORK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THE 12-FOOT CIRCULAR TARGET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CA-COLA COMPANY'S FIRST DIET BE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RIGHT BELOW LIEUTENANT COLO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HAS MORE ISLANDS THAN ANY OTHER STATE.  WHAT STATE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S LIKE LUGE EXCEPT THE LONE RIDER GOES HEA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(KNOT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0680" y="73836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PUTY BARNEY F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66760" y="762120"/>
            <a:ext cx="68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THE 12-FOOT CIRCULAR TARGET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UNITY CARD REVEALED IS USUALLY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Y AGENCY DOES MAXWELL SMART WOR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80920" y="4876920"/>
            <a:ext cx="73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KE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CA-COLA COMPANY'S FIRST DIET BE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RIGHT BELOW LIEUTENANT COLO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HAS MORE ISLANDS THAN ANY OTHER STATE.  WHAT STATE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S LIKE LUGE EXCEPT THE LONE RIDER GOES HEA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PUTY BARNEY F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UNITY CARD REVEALED IS USUALLY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2:13Z</dcterms:modified>
  <cp:revision>446</cp:revision>
  <dc:subject/>
  <dc:title>Slide 1</dc:title>
</cp:coreProperties>
</file>