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E570-F306-4A0B-9A8C-30908B8A0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C47B-84AD-4C47-865A-266458AE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49CD-6E13-4F2E-8F6B-278BA6F73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E0E2-C903-4503-9178-12DF4CBB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394F-6316-45B9-B0F5-2A82735E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A59F-42FF-41BA-AA0D-32AF2397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AFE6-238F-4540-A13E-82AF4581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208-AB3A-4B58-AB9C-1C94EFE0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1671-65D9-4AB9-AA51-0DAAFAFA8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7B27-BFAA-4B3C-A10E-6AC9E229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F26A-B24F-4671-BB1B-F9F3AAFE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5839-2D42-40E6-A2CB-EE089C1B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9F5C-0F07-46AC-8509-454154644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00F-48DD-46F6-BC58-5033529A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D269-82BC-444B-9E77-2D7ABAEF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5AB0-3032-4095-B5D3-D679CA083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DA4E-BCBF-48F4-A7B4-36B8DC96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7FF-17D1-4494-B013-038D3FAA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DDED-8DD2-4DCE-BBA1-E132858B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7EA-7DCC-48A9-97AB-A9EF131C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52F-8E54-4D90-B6BA-A6047ED5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58AB-4F5E-46AC-837B-D7C37481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3C3-1A02-4F1C-9BB4-0249E17A4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IES LESS THAN 0.1% OF THE OCEANS, BUT IS HOME TO OVER 25% OF ALL MARINE SPEC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ITE NIGHTS", "THE COTTON CLUB", AND "RUNNING SCAR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CTUS 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WALTER MATTHAU, INGRID BERGMAN, AND GOLDIE HAWN, WHO WON AN OSCAR FOR HER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 OF MOTOWN" WAS SHOT TO DEATH BY HI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MISSO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BATTLESHIP CONSTRUCTED, ON WHICH JAPAN OFFICIALLY SURRENDERED WWI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716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, "LEAVES OF GRASS", WAS ORIGINALLY CONSIDERED OBSCE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ED AS "AN AQUARIAN EXPOSITION: 3 DAYS OF PEACE &amp; MUS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ITE NIGHTS", "THE COTTON CLUB", AND "RUNNING SCAR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SHUA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2'S BEST-SELLING ALBUM, WHICH WON GRAMMYS FOR "ALBUM OF THE YEAR" AND "BEST ROCK PERFOR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AL  RE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IES LESS THAN 0.1% OF THE OCEANS, BUT IS HOME TO OVER 25% OF ALL MARIN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19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WALTER MATTHAU, INGRID BERGMAN, AND GOLDIE HAWN, WHO WON AN OSCAR FOR HER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 OF MOTOWN" WAS SHOT TO DEATH BY HIS F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1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BATTLESHIP CONSTRUCTED, ON WHICH JAPAN OFFICIALLY SURRENDERED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, "LEAVES OF GRASS", WAS ORIGINALLY CONSIDERED OBSCE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ED AS "AN AQUARIAN EXPOSITION: 3 DAYS OF PEACE &amp; MUS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2'S BEST-SELLING ALBUM, WHICH WON GRAMMYS FOR "ALBUM  OF THE YEAR" AND "BEST ROCK PERFOR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2:36Z</dcterms:modified>
  <cp:revision>355</cp:revision>
  <dc:subject/>
  <dc:title>Slide 1</dc:title>
</cp:coreProperties>
</file>