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0AEA-32A7-4E41-A376-75FBE70EE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6C9D-59C7-4FD4-BE39-4180D8867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44A5-3BD2-4D63-B90C-EA3F90BBF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4883-2A41-4178-8395-F2FFA6A3E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D757-A5DB-4E88-8823-65183D7B5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2839-8D74-449D-8D7A-050AAD87D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39A6-ADEC-4D39-84F1-4A8EC6AA2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94B3-89C3-49D2-BCFB-FC715F9F7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700E-36BD-4138-983F-66893C80E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D271-2430-4DC3-95EF-584DDAD2D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CF8B-12ED-44D7-BC2D-959A3A76F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67CF-BE1E-4F43-B10E-EA554DF4F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A8B8-77D9-47E2-B8D8-DF6AC833A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C64B-66EF-4DC9-9AAD-D355F4948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9201-5371-4133-A57D-82F3914FF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C6D8-8ECF-4517-B782-0E014530B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9BA5-FC73-4EBA-B72C-CCDDC2186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3E2A-F698-432E-BF01-988DC704E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D754-4651-4B40-846B-10BAF192C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62A19-57FB-4376-8D30-E8AF3FB03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8AF3-CA3D-446B-B953-59E7BB395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92A9-02D2-4825-BA59-5A54AB680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FA5B-F24C-4FA3-B9CE-34CB222C3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CCUPIES LESS THAN 0.1% OF THE OCEANS, BUT IS HOME TO OVER 25% OF ALL MARINE SPEC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ORY  H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WHITE NIGHTS", "THE COTTON CLUB", AND "RUNNING SCAR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CTUS  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9 FILM STARRED WALTER MATTHAU, INGRID BERGMAN, AND GOLDIE HAWN, WHO WON AN OSCAR FOR HER PERFORM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85760" y="762120"/>
            <a:ext cx="6972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COMES FIRST ALPHABETIC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VIN  GA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PRINCE OF MOTOWN" WAS SHOT TO DEATH BY HIS FA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SS  MISSOU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U.S. BATTLESHIP CONSTRUCTED, ON WHICH JAPAN OFFICIALLY SURRENDERED WWII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716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  WHIT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73280"/>
            <a:ext cx="822960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POETRY COLLECTION, "LEAVES OF GRASS", WAS ORIGINALLY CONSIDERED OBSCEN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ILLED AS "AN AQUARIAN EXPOSITION: 3 DAYS OF PEACE &amp; MUSI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WHITE NIGHTS", "THE COTTON CLUB", AND "RUNNING SCAR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JOSHUA 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33480" y="762120"/>
            <a:ext cx="7277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U2'S BEST-SELLING ALBUM, WHICH WON GRAMMYS FOR "ALBUM OF THE YEAR" AND "BEST ROCK PERFORMA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AL  RE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CCUPIES LESS THAN 0.1% OF THE OCEANS, BUT IS HOME TO OVER 25% OF ALL MARINE SPEC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ATURED  ON  2019  U.S.  STAM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9 FILM STARRED WALTER MATTHAU, INGRID BERGMAN, AND GOLDIE HAWN, WHO WON AN OSCAR FOR HER PERFORM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COMES FIRST ALPHABETIC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PRINCE OF MOTOWN" WAS SHOT TO DEATH BY HIS FA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115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U.S. BATTLESHIP CONSTRUCTED, ON WHICH JAPAN OFFICIALLY SURRENDERED WW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POETRY COLLECTION, "LEAVES OF GRASS", WAS ORIGINALLY CONSIDERED OBSCEN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ILLED AS "AN AQUARIAN EXPOSITION: 3 DAYS OF PEACE &amp; MUSI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95320" y="762120"/>
            <a:ext cx="7353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U2'S BEST-SELLING ALBUM, WHICH WON GRAMMYS FOR "ALBUM  OF THE YEAR" AND "BEST ROCK PERFORMAN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0-08-31T17:02:36Z</dcterms:modified>
  <cp:revision>355</cp:revision>
  <dc:subject/>
  <dc:title>Slide 1</dc:title>
</cp:coreProperties>
</file>