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2041-22F8-4C14-9F5A-91B31DE3D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C552-8BE2-4A5E-9CC8-F2DB2CD9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E8E8-9ADD-46AA-908F-56AF064A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C9B8-E00B-48A1-B25D-DB9506692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70CE-9A4F-4702-AABD-111B39F46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9A25-BC20-48E1-BC4A-24FFB70A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8860-E134-41F2-97EF-1F946579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8ECA-4805-47D2-9777-E2B463075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0E1B-227F-4DBA-8242-4946743E4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95A0-71AD-4314-B64A-E46E59048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8593-7A60-4D1B-945A-9B424D0A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BD7-7444-45C9-B4A9-35912536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9E78-6513-4F97-9FFD-B12F0258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05AC-34AB-46EF-924F-DF80F7E9B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0F38-0CD4-43E2-ADC9-1F80F057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644E-667A-4A33-9C70-2D6239463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EB94-DACC-435A-823D-41C52BF4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6821-10C0-47B0-BEBC-319903B6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2636-7CEC-46A5-946B-D48706659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64C8-46C0-4768-A7ED-6131BECF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CE19-1227-47E6-9130-7DC3300EA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32CE-E5B9-4C57-9463-00119096E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5052-4C9C-4379-A202-E65546D9F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IES LESS THAN 0.1% OF THE OCEANS, BUT IS HOME TO OVER 25% OF ALL MARINE SPEC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ITE NIGHTS", "THE COTTON CLUB", AND "RUNNING SCAR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CTUS 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WALTER MATTHAU, INGRID BERGMAN, AND GOLDIE HAWN, WHO WON AN OSCAR FOR HER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GA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 OF MOTOWN" WAS SHOT TO DEATH BY HIS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MISSOU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BATTLESHIP CONSTRUCTED, ON WHICH JAPAN OFFICIALLY SURRENDERED WWI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716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, "LEAVES OF GRASS", WAS ORIGINALLY CONSIDERED OBSCE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ED AS "AN AQUARIAN EXPOSITION: 3 DAYS OF PEACE &amp; MUS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ITE NIGHTS", "THE COTTON CLUB", AND "RUNNING SCAR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OSHUA 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3480" y="762120"/>
            <a:ext cx="727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2'S BEST-SELLING ALBUM, WHICH WON GRAMMYS FOR "ALBUM OF THE YEAR" AND "BEST ROCK PERFORM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AL  RE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IES LESS THAN 0.1% OF THE OCEANS, BUT IS HOME TO OVER 25% OF ALL MARINE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URED  ON  2019  U.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WALTER MATTHAU, INGRID BERGMAN, AND GOLDIE HAWN, WHO WON AN OSCAR FOR HER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 OF MOTOWN" WAS SHOT TO DEATH BY HIS F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115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BATTLESHIP CONSTRUCTED, ON WHICH JAPAN OFFICIALLY SURRENDERED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, "LEAVES OF GRASS", WAS ORIGINALLY CONSIDERED OBSCEN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ED AS "AN AQUARIAN EXPOSITION: 3 DAYS OF PEACE &amp; MUS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2'S BEST-SELLING ALBUM, WHICH WON GRAMMYS FOR "ALBUM  OF THE YEAR" AND "BEST ROCK PERFORM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2:36Z</dcterms:modified>
  <cp:revision>355</cp:revision>
  <dc:subject/>
  <dc:title>Slide 1</dc:title>
</cp:coreProperties>
</file>