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246A-B5EA-47E0-8A61-0CE17929C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4244-364A-4EFA-A538-ABB8E8B0A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2825-2113-43EC-B0D0-CAA240CF2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D106-758B-47BB-A811-7695C0669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C469-7FB6-49DB-9E5B-0528A2573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4956-4694-465F-8EAD-190E23BD9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32AB-87A5-424B-95A9-E180CF064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9548-C0BF-471F-8B04-DF5F9723D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CE25-81FA-43F4-BBC6-2FE91475C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56ED-0C62-48D7-A20E-82A6E9F83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F864-3FE6-4ED5-95EE-A7C9D49E4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2BED-8A1A-48F8-95D6-31200DD67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79E4-22A5-48A4-BD5F-7A492B6E2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90DA-11CE-41E8-B9BD-CB9B1A3C7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E02B-1ABC-4D9C-A006-239C51D3E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399D-0510-4ACA-8931-92F3A676A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F03F-C47C-40BD-B667-9F2DDD8C6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971D-6F70-4B65-B53E-64B06BF20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99DD-B0E8-42C8-91B8-064472FA3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089C-1786-4856-8AA5-83A0A3A3D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462B-251A-4889-9244-A4ADD23B6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CBA1-65EA-4D26-97BA-E7C6ECC6A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F9BAE-D05E-496F-A6C9-8CF2B197B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04880" y="1066680"/>
            <a:ext cx="7734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19200" y="761760"/>
            <a:ext cx="7905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OF              "THE FEMININE MYSTIQUE"     WAS THE FIRST PRESIDENT OF NOW (THE NATIONAL ORGANIZATION OF WOMEN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BERT  EINST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IENTIST WON A NOBEL PRIZE IN PHYSICS FOR THE PHOTOELECTRIC EFFECT, BUT NOT HIS MOST FAMOUS CONTRIB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GMUND  FRE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33480" y="762120"/>
            <a:ext cx="7277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UROLOGIST FORMULATED THE OEDIPUS COMPLE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RL  MAR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71480" y="762120"/>
            <a:ext cx="7601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DAS KAPIT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STAV  MAH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25520" y="762120"/>
            <a:ext cx="82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STRIAN CONDUCTOR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AND 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YMPHONIES ARE ON THE BBC'S TOP 10 LIST OF BEST SYMPHONIES 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ELS  BOH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NISH PHYSICIST WON THE NOBEL PRIZE FOR HIS MODEL OF THE ATO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EHRL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73280"/>
            <a:ext cx="822960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 THE CURE FOR SYPHILIS IN 1909, AFTER HE WON THE NOBEL PRIZE FOR MEDICINE IN 1908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981080" y="4876920"/>
            <a:ext cx="5181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Z  KAF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514520" y="762120"/>
            <a:ext cx="6114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METAMORPHOSIS" AND "THE TRI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71480" y="762120"/>
            <a:ext cx="7686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IENTIST WON A NOBEL PRIZE IN PHYSICS FOR THE PHOTOELECTRIC EFFECT, BUT NOT HIS MOST FAMOUS CONTRIB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TRUDE  ST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19120" y="762120"/>
            <a:ext cx="8105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REPETITIVE QUOTES "ROSE IS A ROSE IS A ROSE IS A ROSE" AND "THERE IS NO THERE THE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TY  FRIED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38280" y="762120"/>
            <a:ext cx="7867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OF              "THE FEMININE MYSTIQUE"     WAS THE FIRST PRESIDENT OF NOW (THE NATIONAL ORGANIZATION OF WOMEN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952880"/>
            <a:ext cx="7925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WERE  JEW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UROLOGIST FORMULATED THE OEDIPUS COMPLEX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DAS KAPIT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STRIAN CONDUCTOR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AND 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YMPHONIES ARE ON THE BBC'S TOP 10 LIST OF BEST SYMPHONIES 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NISH PHYSICIST WON THE NOBEL PRIZE FOR HIS MODEL OF THE ATOM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 THE CURE FOR SYPHILIS IN 1909, AFTER HE WON THE NOBEL PRIZE FOR MEDICINE IN 190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523880" y="761760"/>
            <a:ext cx="6096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METAMORPHOSIS" AND "THE TRI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0680" y="762120"/>
            <a:ext cx="8162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REPETITIVE QUOTES "ROSE IS A ROSE IS A ROSE IS A ROSE" AND "THERE IS NO THERE THE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1T17:29:44Z</dcterms:created>
  <dc:creator>Jennifer Budzinski</dc:creator>
  <dc:description/>
  <dc:language>en-US</dc:language>
  <cp:lastModifiedBy>Erich Friedman</cp:lastModifiedBy>
  <dcterms:modified xsi:type="dcterms:W3CDTF">2020-08-31T17:02:58Z</dcterms:modified>
  <cp:revision>362</cp:revision>
  <dc:subject/>
  <dc:title>Slide 1</dc:title>
</cp:coreProperties>
</file>