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92A-8746-4E18-B51C-AF239BA1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1F61-DA0B-4960-831B-328CB093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B74-AF16-4307-9239-920E3644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86C-A75F-4288-AC2C-ECC56FD0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5EB8-04EA-4B05-8D36-1D4EDA53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A9F4-BC48-485E-9892-D735839F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23A-6A0C-4CFA-93F8-2F176EDB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670-F1E3-495B-912B-30BA27EC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403-68DA-43F4-9AE7-992FDD19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6B7-D679-43EA-91ED-E91A8E77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955D-5133-4993-900D-C7EBCBBA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0F5-0EFF-4808-B0DA-B2B3CC1E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7C0-9D1B-4D85-82C6-975CADC6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7CE9-F9D9-40E3-AAE4-90DA4469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75E-3B69-4557-BA93-18761C64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87D-F713-4B28-85F3-6319510D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8BAF-CCE9-4347-BEBD-BF198993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118-BE43-4106-B12E-F3281325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FE9-925A-4852-B59B-5119B239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7ED2-C762-4E4F-9059-49CD512E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6D6-9FD1-43D4-BA3F-87BAADD2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3394-011D-404B-9877-285D1549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F810-AEFE-4949-AC6D-20672EB8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0666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TAV  MA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ELS  BO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EHRL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8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TRUDE  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RI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952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E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58Z</dcterms:modified>
  <cp:revision>362</cp:revision>
  <dc:subject/>
  <dc:title>Slide 1</dc:title>
</cp:coreProperties>
</file>