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8A11-9E78-4C8B-A57F-B5DCB3E71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F1AB-C7BE-414E-BA50-95DBDD986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261C-3E10-42E5-9680-D827F4C77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BDA5-3A83-4148-A16D-03B697F8F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10C6-B559-426D-809D-239550AA2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6072-21AD-434C-8022-C59A357B1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8A08-6B3A-4986-9AA7-AACAC16DE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2A8B-4656-4727-A7F2-A81D85EB7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E608-DDBE-4212-AB32-7C967A142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0735-7E2E-4795-924D-EA6721782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5DEA-A813-4A5E-8853-B4F8542FF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78EC-E555-4470-816C-D2FE61DA4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9407-0843-43DB-8BA0-B43B2D0B0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4F1D-941A-4F7B-8A4D-117D952C0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7672-3069-4E5E-BB3E-736FECF86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A6FE-48D8-4D4A-8169-9DA22F6B7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C8EA-F815-42C9-8772-D232F568F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2FDF-68CA-421E-A7C8-9E13EC405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50D1-F5D5-4AB9-B4F4-B2365350C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80FA-CF0E-4022-BE50-E60DE4312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4CFA-290F-42FB-B8D1-37B7C715A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B8C4-A0C8-44A1-8A0A-C39DA09ED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FFB8-5FC4-41CE-A1B0-FCBFF0F9C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04880" y="1066680"/>
            <a:ext cx="7734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19200" y="761760"/>
            <a:ext cx="7905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OF              "THE FEMININE MYSTIQUE"     WAS THE FIRST PRESIDENT OF NOW (THE NATIONAL ORGANIZATION OF WOMEN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BERT  EINST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IENTIST WON A NOBEL PRIZE IN PHYSICS FOR THE PHOTOELECTRIC EFFECT, BUT NOT HIS MOST FAMOUS CONTRIB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GMUND  FRE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33480" y="762120"/>
            <a:ext cx="7277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UROLOGIST FORMULATED THE OEDIPUS COMPLE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RL  MAR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71480" y="762120"/>
            <a:ext cx="7601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DAS KAPIT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STAV  MAH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25520" y="762120"/>
            <a:ext cx="82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STRIAN CONDUCTOR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AND 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YMPHONIES ARE ON THE BBC'S TOP 10 LIST OF BEST SYMPHONIES 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ELS  BOH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NISH PHYSICIST WON THE NOBEL PRIZE FOR HIS MODEL OF THE ATO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EHRL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73280"/>
            <a:ext cx="822960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 THE CURE FOR SYPHILIS IN 1909, AFTER HE WON THE NOBEL PRIZE FOR MEDICINE IN 1908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981080" y="4876920"/>
            <a:ext cx="5181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Z  KAF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514520" y="762120"/>
            <a:ext cx="6114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METAMORPHOSIS" AND "THE TRI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71480" y="762120"/>
            <a:ext cx="7686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IENTIST WON A NOBEL PRIZE IN PHYSICS FOR THE PHOTOELECTRIC EFFECT, BUT NOT HIS MOST FAMOUS CONTRIB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TRUDE  ST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19120" y="762120"/>
            <a:ext cx="8105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REPETITIVE QUOTES "ROSE IS A ROSE IS A ROSE IS A ROSE" AND "THERE IS NO THERE THE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TY  FRIED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38280" y="762120"/>
            <a:ext cx="7867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OF              "THE FEMININE MYSTIQUE"     WAS THE FIRST PRESIDENT OF NOW (THE NATIONAL ORGANIZATION OF WOMEN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952880"/>
            <a:ext cx="7925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WERE  JEW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UROLOGIST FORMULATED THE OEDIPUS COMPLEX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DAS KAPIT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STRIAN CONDUCTOR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AND 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YMPHONIES ARE ON THE BBC'S TOP 10 LIST OF BEST SYMPHONIES 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NISH PHYSICIST WON THE NOBEL PRIZE FOR HIS MODEL OF THE ATOM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 THE CURE FOR SYPHILIS IN 1909, AFTER HE WON THE NOBEL PRIZE FOR MEDICINE IN 190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523880" y="761760"/>
            <a:ext cx="6096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METAMORPHOSIS" AND "THE TRI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0680" y="762120"/>
            <a:ext cx="8162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REPETITIVE QUOTES "ROSE IS A ROSE IS A ROSE IS A ROSE" AND "THERE IS NO THERE THE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1T17:29:44Z</dcterms:created>
  <dc:creator>Jennifer Budzinski</dc:creator>
  <dc:description/>
  <dc:language>en-US</dc:language>
  <cp:lastModifiedBy>Erich Friedman</cp:lastModifiedBy>
  <dcterms:modified xsi:type="dcterms:W3CDTF">2020-08-31T17:02:58Z</dcterms:modified>
  <cp:revision>362</cp:revision>
  <dc:subject/>
  <dc:title>Slide 1</dc:title>
</cp:coreProperties>
</file>