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8527-2B27-4531-9D5C-A48C74CA5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A200-54F7-4278-BD3D-0C086AFD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1934-6446-4B73-843D-8D2DDC89B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5747-84C7-4D62-9266-984413664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C5F1-1F20-44FF-B98F-B5A09E973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A148-A9CA-4B0B-9595-2C514D773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2C5E-FDB7-4066-82A7-10F93F2D4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7CA0-FFE5-4749-A382-38FF0401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401-A312-4BEC-B768-09FB7ECB5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1886-2A82-4D60-A6BB-9C385B77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332-14FF-403B-8645-84C66CA2B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D3C-455D-445F-BA31-F906F9D8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9A1B-C957-45BA-87E4-106C5A9A2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B198-F736-4A95-B153-93E6F3FFD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4EE-ACF3-4F4A-8CAF-A984F446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201E-E759-40D3-BD23-6E8D7484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2FF1-7991-4180-BAB2-E9983B3E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536-48AA-4F5E-95D7-B79ABD86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8227-9C22-4B8A-A730-45C252C94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ACFE-8EB5-4921-9FAB-76654EC11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F14-E710-4835-A80B-1B64B724F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293D-9D2A-4925-B406-3B76FEE3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5E96-21FC-46B0-A799-D5FF164C3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ZE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  AND  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247840" y="762120"/>
            <a:ext cx="4648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THE  BUL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IBLE, WHO WAS THE QUEEN OF ISRAEL WHO ENCOURAGED HER HUSBAND AHAB TO ABANDON WORSHIP OF YAHWE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STEINBECK NOVEL WON THE NATIONAL BOOK AWARD AND THE PULITZER PRIZE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HENRY  FORD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LAW ROBBED BANKS AND TRAINS WITH HIS BROTHER FRANK UNTIL HE WAS KILLED IN 18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3 FILM DOES HARRISON FORD'S CHARACTER PURSUE A ONE-ARMED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NOVEL DOES LEO TOLSTOY TELL THE STORY OF 5 ARISTOCRATIC RUSSIAN FAM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WITCH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GERMAN OFFENSIVE ON THE WESTERN FRONT IN WWII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PORT IN ILLINOIS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3:14Z</dcterms:modified>
  <cp:revision>340</cp:revision>
  <dc:subject/>
  <dc:title>Slide 1</dc:title>
</cp:coreProperties>
</file>