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FA8C-0C63-4D87-AFA7-ACE27B781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A898-95D4-4397-BB8C-005C05D0A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BC5C-ACEE-4D7A-8F42-28F524DB4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3C52-320B-44F6-B45A-849FC902E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D069-7B84-4111-907F-B9D1213B9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9259-24B6-4F5C-BF99-347771CC5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0912-808D-47F8-974C-20D2FC1B5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6DCD-9BB1-4FB0-B0C9-999C8F58F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413B-61BC-4445-B54B-4FE5E0332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E135-073D-4689-8779-03B1901D2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B93C-D140-4C19-8FA5-8BB72F74A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48D0-F60D-422C-A998-A336E588A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5A29-FB2A-42DA-A3F1-B4781A993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03DF-22E6-4118-9330-8F8FC657E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DC24-7654-412F-8930-AB778C3E5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A51C-4F36-44ED-A1D5-86F95B149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1157-F91C-449C-8694-3B3D845FD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2BEE-A91F-4073-BF41-2F6CD2B3A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D9BC-9179-4A51-94F0-53BF75DCC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BD25-AF85-429E-9FE5-5AC3F6D05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C802-82C5-4FE6-BB4A-09FA71755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C4E3-6260-4A8F-8DDB-1B87BB0FD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23D1-B7FB-48DB-80B4-D78568466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 STEINBECK NOVEL WON THE NATIONAL BOOK AWARD AND THE PULITZER PRIZE FOR FI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ZEB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BIBLE, WHO WAS THE QUEEN OF ISRAEL WHO ENCOURAGED HER HUSBAND AHAB TO ABANDON WORSHIP OF YAHWE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SSE  J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UTLAW ROBBED BANKS AND TRAINS WITH HIS BROTHER FRANK UNTIL HE WAS KILLED IN 188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UG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3 FILM DOES HARRISON FORD'S CHARACTER PURSUE A ONE-ARMED 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  AND  PE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NOVEL DOES LEO TOLSTOY TELL THE STORY OF 5 ARISTOCRATIC RUSSIAN FAMIL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247840" y="762120"/>
            <a:ext cx="4648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MALE WITCH CALL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TTLE  OF  THE  BUL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19320" y="762120"/>
            <a:ext cx="67053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GERMAN OFFENSIVE ON THE WESTERN FRONT IN WWII CALL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H  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DAY OF LEN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BIBLE, WHO WAS THE QUEEN OF ISRAEL WHO ENCOURAGED HER HUSBAND AHAB TO ABANDON WORSHIP OF YAHWE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D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4840" y="762120"/>
            <a:ext cx="69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AIRPORT IN ILLINOIS, AFTER O'H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APES  OF  WR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 STEINBECK NOVEL WON THE NATIONAL BOOK AWARD AND THE PULITZER PRIZE FOR FI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87692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HENRY  FORD  MOV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UTLAW ROBBED BANKS AND TRAINS WITH HIS BROTHER FRANK UNTIL HE WAS KILLED IN 188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3 FILM DOES HARRISON FORD'S CHARACTER PURSUE A ONE-ARMED 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NOVEL DOES LEO TOLSTOY TELL THE STORY OF 5 ARISTOCRATIC RUSSIAN FAMIL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638360" y="761760"/>
            <a:ext cx="58672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MALE WITCH CALLE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GERMAN OFFENSIVE ON THE WESTERN FRONT IN WWII CALLE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DAY OF LEN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AIRPORT IN ILLINOIS, AFTER O'H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8-31T17:03:14Z</dcterms:modified>
  <cp:revision>340</cp:revision>
  <dc:subject/>
  <dc:title>Slide 1</dc:title>
</cp:coreProperties>
</file>