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44D1-D4D6-40B0-8486-63893059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FBBD-B538-4CA0-9CE1-08156DBB6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3C39-CEFC-43F7-82E0-E97F27369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902E-A4CA-41EF-8AD0-F0F353E44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D8B7-F5DA-4846-B3F6-5E176AB82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D636-2749-4A72-ACC0-553C1232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AE62-E128-44D8-B81B-74E0DCC72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72EB-A89F-48A0-A35D-4C4757D3A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F7DD-7404-41A7-9561-E5333BED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0D40-04B8-43CE-9CF8-E11B0638B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1CF0-DAA6-4B0F-A1A9-20F4BE8E1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A4F7-1105-4C6A-81BD-4284FCF25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1258-8E11-44A8-AC1C-8907EDE82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49F6-6183-40BE-A3F2-A2E2E5EE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DE98-FB9A-47F0-B56B-EA5B4412D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75FE-774E-4989-8D40-A2011B9E0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0CAE-069B-4DC4-B5B3-F0A4080BE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0470-716C-45B6-A2A3-B57A1E9CE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EDDB-C202-4B18-B113-B6EFC50A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230D-3716-418C-ACE2-E5E94A2C4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7E82-9718-42FA-84F1-3EFFD3B47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E6F2-910A-4E55-9BA2-393A682C5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0251-EFDA-4C7C-9E10-826FD0C61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STEINBECK NOVEL WON THE NATIONAL BOOK AWARD AND THE PULITZER PRIZE FOR F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ZE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O WAS THE QUEEN OF ISRAEL WHO ENCOURAGED HER HUSBAND AHAB TO ABANDON WORSHIP OF YAHWE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LAW ROBBED BANKS AND TRAINS WITH HIS BROTHER FRANK UNTIL HE WAS KILLED IN 18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UG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3 FILM DOES HARRISON FORD'S CHARACTER PURSUE A ONE-ARMED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  AND 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NOVEL DOES LEO TOLSTOY TELL THE STORY OF 5 ARISTOCRATIC RUSSIAN FAMIL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247840" y="76212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WITCH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LE  OF  THE  BUL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GERMAN OFFENSIVE ON THE WESTERN FRONT IN WWII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 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O WAS THE QUEEN OF ISRAEL WHO ENCOURAGED HER HUSBAND AHAB TO ABANDON WORSHIP OF YAHWE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PORT IN ILLINOIS, AFTER O'H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S  OF  WR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STEINBECK NOVEL WON THE NATIONAL BOOK AWARD AND THE PULITZER PRIZE FOR F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HENRY  FORD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LAW ROBBED BANKS AND TRAINS WITH HIS BROTHER FRANK UNTIL HE WAS KILLED IN 188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3 FILM DOES HARRISON FORD'S CHARACTER PURSUE A ONE-ARMED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NOVEL DOES LEO TOLSTOY TELL THE STORY OF 5 ARISTOCRATIC RUSSIAN FAMIL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38360" y="761760"/>
            <a:ext cx="5867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WITCH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GERMAN OFFENSIVE ON THE WESTERN FRONT IN WWII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PORT IN ILLINOIS, AFTER O'H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3:14Z</dcterms:modified>
  <cp:revision>340</cp:revision>
  <dc:subject/>
  <dc:title>Slide 1</dc:title>
</cp:coreProperties>
</file>