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056-FCC7-470D-A558-3C0C387DD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9CF0-C519-46EC-B3F3-BDB68E27A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BD35-B563-4116-95F1-570EDBA50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FC22-1AD8-41F4-A243-683F7BF3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6A87-1530-405A-BEE1-86C4176D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2A2F-7AE7-4C70-A75E-E2CB3E847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919E-3BC9-4E26-88DD-9A279E92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E879-D5CE-4110-8AD0-8FB19D47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B247-250A-4FDB-A7E7-B91386133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E293-C9AE-4490-8EDA-CFA2843B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47AD-CD1C-41F4-9BD6-2FC37970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95D-A875-4004-98D6-CEC885EB8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9C10-2DD4-45A4-86EF-76A43A9FC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6FB7-7417-48A1-9506-836EC6A9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0F00-953C-4F33-B331-17E00105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59F4-C90C-495D-8482-44B66F49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CA9-71A4-420B-934E-7700EAC98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09F9-DD26-42E9-B761-467A3A97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AEDE-BB35-4419-9BCB-92940A011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B702-7D11-40D8-A76C-2D3F24C13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8FBD-673A-4E58-8505-0247ACEA0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A827-8975-4DD9-A98D-85C82958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EFCE-2A59-496D-9D6B-99FE0F6B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TIME BETWEEN EXPOSURE TO AN INFECTION AND THE APPEARANCE OF THE FIRST SYMPTO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ADENFRE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WORD MEANS THE PLEASURE DERIVED FROM SOMEONE ELSE'S MISFORTU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TTE  B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GRIFTERS", "BEING JULIA", "AMERICAN BEAUTY", AND "THE KIDS ARE ALL R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S  MCDOR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1480" y="76212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FARGO" AND "THREE BILLBOARDS OUTSIDE EBBING, MISSOUR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836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  MA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IS A PROGRAMMER INVITED TO GIVE THE TURING TEST TO A HUMANOID ROB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GMA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13 GEORGE BERNARD SHAW PLAY WAS ADAPTED MANY TIMES, MOST NOTABLY AS THE MUSICAL "MY FAIR LAD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RTUGUESE, ITALIAN, AND ROMANIAN FALL INTO WHAT CATEGORY OF LANGUAG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RAN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43040" y="762120"/>
            <a:ext cx="765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FISH ARE SUCH AGGRESSIVE EATERS THAT THEY HAVE A 1978 HORROR FILM NAMED FO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WORD MEANS THE PLEASURE DERIVED FROM SOMEONE ELSE'S MISFORTU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SPE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7360" y="763560"/>
            <a:ext cx="782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MYTHOLOGICAL FIGURE COMPLETES THE HENRY WADSWORTH LONGFELLOW TITLE: "THE WRECK OF 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UBATION 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TIME BETWEEN EXPOSURE TO AN INFECTION AND THE APPEARANCE OF THE FIRST SYMPTO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3200400"/>
            <a:ext cx="8382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COUNTRIES  HIDDEN  INSIDE  (CHAD,  BENIN,  FRANCE,  CHINA,  MALI,  OMAN,  IRAN,  PERU,  CUB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GRIFTERS", "BEING JULIA", "AMERICAN BEAUTY", AND "THE KIDS ARE ALL R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FARGO" AND "THREE BILLBOARDS OUTSIDE EBBING, MISSOUR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IS A PROGRAMMER INVITED TO GIVE THE TURING TEST TO A HUMANOID ROB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13 GEORGE BERNARD SHAW PLAY WAS ADAPTED MANY TIMES, MOST NOTABLY AS THE MUSICAL "MY FAIR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RTUGUESE, ITALIAN, AND ROMANIAN FALL INTO WHAT CATEGORY OF LANGU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FISH ARE SUCH AGGRESSIVE EATERS THAT THEY HAVE A 1978 HORROR FILM NAMED FOR 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MYTHOLOGICAL FIGURE COMPLETES THE HENRY WADSWORTH LONGFELLOW TITLE: "THE WRECK OF 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3:31Z</dcterms:modified>
  <cp:revision>361</cp:revision>
  <dc:subject/>
  <dc:title>Slide 1</dc:title>
</cp:coreProperties>
</file>