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EABE-28A0-42DE-8E12-4E859F2AB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C456-5AFF-484E-9AD3-8C78A1851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437A-4941-4ED3-A0A9-A29FC9BBF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48A3-C203-445C-9664-2932E9F3E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0E47-3B0C-4134-BA6B-868F8E033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FF33-E90C-4FCE-A259-4655E32CC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DA31-54AD-4668-988A-04B8E05A0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38EB-EB55-4DC9-8E11-A30D5FB6C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A30D-6034-48B9-B6A1-61F3EA439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1CF9-0642-4CA4-9F6E-FF3BE898B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D8CF-8E30-45B9-8CEC-E2A9A89FF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E7A6-D14D-440D-B368-9923F295D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5499-9259-4CC8-B082-2429E4380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5AE1-C8B8-42D0-8BC1-929ED10C5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0F71-44EB-4B99-95ED-90AAAAC0D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AD7F-DE1F-4B8C-BCF4-99CD8B902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8DE9-7987-45AC-988F-D60EA03B6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D968-B573-48FE-832D-C5F7C9988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9BAC8-DA0A-4213-B6C0-CD3361C4F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26AE-067D-4A8F-B7CA-15C99A0BA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1BBF-6C60-41A7-B22F-57ABC502A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B6DC-9F52-44C9-B0BC-5C4DE750C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1A51-5125-4049-A49B-C1C71DC95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THE TIME BETWEEN EXPOSURE TO AN INFECTION AND THE APPEARANCE OF THE FIRST SYMPTO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HADENFRE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WORD MEANS THE PLEASURE DERIVED FROM SOMEONE ELSE'S MISFORTU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ETTE  B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OSCAR-NOMINATED FOR "THE GRIFTERS", "BEING JULIA", "AMERICAN BEAUTY", AND "THE KIDS ARE ALL R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S  MCDOR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71480" y="762120"/>
            <a:ext cx="7601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OSCARS FOR BEST ACTRESS FOR "FARGO" AND "THREE BILLBOARDS OUTSIDE EBBING, MISSOUR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836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X  MA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95320" y="762120"/>
            <a:ext cx="7353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FILM IS A PROGRAMMER INVITED TO GIVE THE TURING TEST TO A HUMANOID ROB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YGMA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13 GEORGE BERNARD SHAW PLAY WAS ADAPTED MANY TIMES, MOST NOTABLY AS THE MUSICAL "MY FAIR LADY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73280"/>
            <a:ext cx="822960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RTUGUESE, ITALIAN, AND ROMANIAN FALL INTO WHAT CATEGORY OF LANGUAG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RANH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43040" y="762120"/>
            <a:ext cx="7657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TH AMERICAN FISH ARE SUCH AGGRESSIVE EATERS THAT THEY HAVE A 1978 HORROR FILM NAMED FOR TH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71480" y="762120"/>
            <a:ext cx="7601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WORD MEANS THE PLEASURE DERIVED FROM SOMEONE ELSE'S MISFORTU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SPE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57360" y="763560"/>
            <a:ext cx="7829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EEK MYTHOLOGICAL FIGURE COMPLETES THE HENRY WADSWORTH LONGFELLOW TITLE: "THE WRECK OF THE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CUBATION  PERI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THE TIME BETWEEN EXPOSURE TO AN INFECTION AND THE APPEARANCE OF THE FIRST SYMPTO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3200400"/>
            <a:ext cx="83822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NAMES  OF  COUNTRIES  HIDDEN  INSIDE  (CHAD,  BENIN,  FRANCE,  CHINA,  MALI,  OMAN,  IRAN,  PERU,  CUB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OSCAR-NOMINATED FOR "THE GRIFTERS", "BEING JULIA", "AMERICAN BEAUTY", AND "THE KIDS ARE ALL R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OSCARS FOR BEST ACTRESS FOR "FARGO" AND "THREE BILLBOARDS OUTSIDE EBBING, MISSOUR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FILM IS A PROGRAMMER INVITED TO GIVE THE TURING TEST TO A HUMANOID ROB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13 GEORGE BERNARD SHAW PLAY WAS ADAPTED MANY TIMES, MOST NOTABLY AS THE MUSICAL "MY FAIR LAD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RTUGUESE, ITALIAN, AND ROMANIAN FALL INTO WHAT CATEGORY OF LANGUAG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TH AMERICAN FISH ARE SUCH AGGRESSIVE EATERS THAT THEY HAVE A 1978 HORROR FILM NAMED FOR TH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EEK MYTHOLOGICAL FIGURE COMPLETES THE HENRY WADSWORTH LONGFELLOW TITLE: "THE WRECK OF THE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0-08-31T17:03:31Z</dcterms:modified>
  <cp:revision>361</cp:revision>
  <dc:subject/>
  <dc:title>Slide 1</dc:title>
</cp:coreProperties>
</file>