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63B0-5770-4C5A-B69E-5792DFBCE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8486-42BE-46E7-939D-A97C11E14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01FE-91ED-4094-A4DD-A12D00624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9B5C-256C-4135-AEB7-91F650458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2FDD-F2E5-4564-98F6-2D54BE0F6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B478-27AF-4301-B4E2-FAECD8D63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EF7D-D048-4FB6-B916-72BF775D9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D01A-3A27-4F44-AD77-866EBE04A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16A0-A7B4-4350-BDEA-6CB131CE5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E76C-76FB-43FB-8E23-DC6EA3546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3590-D9A7-4ABB-A357-0D3C9FBE8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C770-122C-41AC-A26A-B824CD322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3384-0BCA-4E86-AB2C-7313ED554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ECFA-1443-448C-8B3A-9EDA34411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EB3D-7322-47D5-933F-A555C0A1A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044C-DE3F-4EB2-BAD5-DB7A3BC74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76BB-0D33-4AE3-AA97-227727C3F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AC6E-2F72-4503-B716-7E0DAEDE0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C94E-9529-4682-AD3C-59857061E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05C8-BAA9-4BFB-AF8F-81FB93778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899D-574E-4146-8213-9A3E1C97D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1887-686D-422A-85CA-BB5EBAB31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1F51-80D8-4F3A-BF59-23A202E8F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THE TIME BETWEEN EXPOSURE TO AN INFECTION AND THE APPEARANCE OF THE FIRST SYMPTO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ADENFRE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WORD MEANS THE PLEASURE DERIVED FROM SOMEONE ELSE'S MISFORTU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TTE  B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OSCAR-NOMINATED FOR "THE GRIFTERS", "BEING JULIA", "AMERICAN BEAUTY", AND "THE KIDS ARE ALL R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S  MCDOR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1480" y="76212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ACTRESS FOR "FARGO" AND "THREE BILLBOARDS OUTSIDE EBBING, MISSOUR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836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  MA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95320" y="762120"/>
            <a:ext cx="735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IS A PROGRAMMER INVITED TO GIVE THE TURING TEST TO A HUMANOID ROB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GMA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13 GEORGE BERNARD SHAW PLAY WAS ADAPTED MANY TIMES, MOST NOTABLY AS THE MUSICAL "MY FAIR LAD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73280"/>
            <a:ext cx="8229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RTUGUESE, ITALIAN, AND ROMANIAN FALL INTO WHAT CATEGORY OF LANGUAG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RAN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43040" y="762120"/>
            <a:ext cx="7657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MERICAN FISH ARE SUCH AGGRESSIVE EATERS THAT THEY HAVE A 1978 HORROR FILM NAMED FOR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0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WORD MEANS THE PLEASURE DERIVED FROM SOMEONE ELSE'S MISFORTU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SPE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7360" y="763560"/>
            <a:ext cx="782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MYTHOLOGICAL FIGURE COMPLETES THE HENRY WADSWORTH LONGFELLOW TITLE: "THE WRECK OF TH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CUBATION  PERI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THE TIME BETWEEN EXPOSURE TO AN INFECTION AND THE APPEARANCE OF THE FIRST SYMPTO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3200400"/>
            <a:ext cx="83822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COUNTRIES  HIDDEN  INSIDE  (CHAD,  BENIN,  FRANCE,  CHINA,  MALI,  OMAN,  IRAN,  PERU,  CUB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OSCAR-NOMINATED FOR "THE GRIFTERS", "BEING JULIA", "AMERICAN BEAUTY", AND "THE KIDS ARE ALL R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ACTRESS FOR "FARGO" AND "THREE BILLBOARDS OUTSIDE EBBING, MISSOUR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IS A PROGRAMMER INVITED TO GIVE THE TURING TEST TO A HUMANOID ROB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13 GEORGE BERNARD SHAW PLAY WAS ADAPTED MANY TIMES, MOST NOTABLY AS THE MUSICAL "MY FAIR LA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RTUGUESE, ITALIAN, AND ROMANIAN FALL INTO WHAT CATEGORY OF LANGUA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MERICAN FISH ARE SUCH AGGRESSIVE EATERS THAT THEY HAVE A 1978 HORROR FILM NAMED FOR TH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MYTHOLOGICAL FIGURE COMPLETES THE HENRY WADSWORTH LONGFELLOW TITLE: "THE WRECK OF TH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3:31Z</dcterms:modified>
  <cp:revision>361</cp:revision>
  <dc:subject/>
  <dc:title>Slide 1</dc:title>
</cp:coreProperties>
</file>