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6B9E-3EBD-4119-AF6F-3F3753AEC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E748-00EE-4273-AA31-958D19581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8575-4A0E-499D-BBEA-63BBEA945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E04B-8B19-45B3-A58A-7D8349BB1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E8B8-8F0E-408C-89C4-A5D29EACD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7CF0-999F-4015-AF82-40FF3557C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8AFE-1F45-4FF6-A153-BE96C636B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D847-F530-4542-9669-EE13FFD2E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E107-06C6-4F86-A5CB-8FB1B2F17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7001-420D-4878-B40A-DB184BA14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F51F-27AC-416B-B093-066F4A6B6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B122-C15E-4E31-B797-D79E9DB6E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A38B-0375-4807-98F7-23F24CFDD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24EE-281E-49F4-9060-FA59D9E1C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4B1E-545D-4F9D-9152-6D45069CD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5D61-D015-4A01-884C-347CCBE05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B464-72EE-4062-AE35-5ED6AC500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F51E-139D-42DB-BECA-FB3500FF0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F350-3449-40E3-8E68-E4F96FDDD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E97D-53A4-45C4-8105-5D229C391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BCD4-5301-4718-9E26-237CF0A6A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46DE-A616-4348-9764-3236EC8EF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CE67-6DDB-48BD-A07F-C02E492BF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: IDENTIFY THESE CELEB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https_%2F%2Fblueprint-api-production.s3.amazonaws.com%2Fuploads%2Fcard%2Fimage%2F665075%2Fdf7960bd-68c9-4c7f-93a1-2ea4f2b64eb6.jpg"/>
          <p:cNvPicPr/>
          <p:nvPr/>
        </p:nvPicPr>
        <p:blipFill>
          <a:blip r:embed="rId1"/>
          <a:stretch/>
        </p:blipFill>
        <p:spPr>
          <a:xfrm>
            <a:off x="2057400" y="1371600"/>
            <a:ext cx="5029200" cy="35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461880" y="491508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Y  TYLER  MO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mary-tyler-moore---from-gams-to-glitz.jpg"/>
          <p:cNvPicPr/>
          <p:nvPr/>
        </p:nvPicPr>
        <p:blipFill>
          <a:blip r:embed="rId1"/>
          <a:stretch/>
        </p:blipFill>
        <p:spPr>
          <a:xfrm>
            <a:off x="1528920" y="1371600"/>
            <a:ext cx="608616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457200" y="491508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  RICK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3" descr="don-rickles-dead-2.jpg"/>
          <p:cNvPicPr/>
          <p:nvPr/>
        </p:nvPicPr>
        <p:blipFill>
          <a:blip r:embed="rId1"/>
          <a:stretch/>
        </p:blipFill>
        <p:spPr>
          <a:xfrm>
            <a:off x="2225520" y="1382760"/>
            <a:ext cx="4692960" cy="348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304920" y="496404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PAX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bill-paxton-headshot-720x720.jpg"/>
          <p:cNvPicPr/>
          <p:nvPr/>
        </p:nvPicPr>
        <p:blipFill>
          <a:blip r:embed="rId1"/>
          <a:stretch/>
        </p:blipFill>
        <p:spPr>
          <a:xfrm>
            <a:off x="1981080" y="1373040"/>
            <a:ext cx="5181840" cy="345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IN  LAND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3" descr="RestInPeaceLandau-640x480.jpg"/>
          <p:cNvPicPr/>
          <p:nvPr/>
        </p:nvPicPr>
        <p:blipFill>
          <a:blip r:embed="rId1"/>
          <a:stretch/>
        </p:blipFill>
        <p:spPr>
          <a:xfrm>
            <a:off x="2257560" y="1371600"/>
            <a:ext cx="4628880" cy="347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RRY 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3" descr="lewisreax21f-4-web.jpg"/>
          <p:cNvPicPr/>
          <p:nvPr/>
        </p:nvPicPr>
        <p:blipFill>
          <a:blip r:embed="rId1"/>
          <a:stretch/>
        </p:blipFill>
        <p:spPr>
          <a:xfrm>
            <a:off x="2386080" y="1371600"/>
            <a:ext cx="437184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47484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GER  MO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3" descr="_Roger Moore -t.jpg"/>
          <p:cNvPicPr/>
          <p:nvPr/>
        </p:nvPicPr>
        <p:blipFill>
          <a:blip r:embed="rId1"/>
          <a:stretch/>
        </p:blipFill>
        <p:spPr>
          <a:xfrm>
            <a:off x="2316240" y="1371600"/>
            <a:ext cx="4511520" cy="358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46044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EN  CAMPB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3" descr="glen-campbell.jpg"/>
          <p:cNvPicPr/>
          <p:nvPr/>
        </p:nvPicPr>
        <p:blipFill>
          <a:blip r:embed="rId1"/>
          <a:stretch/>
        </p:blipFill>
        <p:spPr>
          <a:xfrm>
            <a:off x="1452600" y="1371600"/>
            <a:ext cx="62388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mary-tyler-moore---from-gams-to-glitz.jpg"/>
          <p:cNvPicPr/>
          <p:nvPr/>
        </p:nvPicPr>
        <p:blipFill>
          <a:blip r:embed="rId1"/>
          <a:stretch/>
        </p:blipFill>
        <p:spPr>
          <a:xfrm>
            <a:off x="1528920" y="1371600"/>
            <a:ext cx="60861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3808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GH  HEF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3" descr="Hugh-Hefner-Health-Crisis-Before-Death-pp11.jpg"/>
          <p:cNvPicPr/>
          <p:nvPr/>
        </p:nvPicPr>
        <p:blipFill>
          <a:blip r:embed="rId1"/>
          <a:stretch/>
        </p:blipFill>
        <p:spPr>
          <a:xfrm>
            <a:off x="2190600" y="1371600"/>
            <a:ext cx="4762800" cy="35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NAB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3" descr="https_%2F%2Fblueprint-api-production.s3.amazonaws.com%2Fuploads%2Fcard%2Fimage%2F665075%2Fdf7960bd-68c9-4c7f-93a1-2ea4f2b64eb6.jpg"/>
          <p:cNvPicPr/>
          <p:nvPr/>
        </p:nvPicPr>
        <p:blipFill>
          <a:blip r:embed="rId1"/>
          <a:stretch/>
        </p:blipFill>
        <p:spPr>
          <a:xfrm>
            <a:off x="2057400" y="1371600"/>
            <a:ext cx="5029200" cy="352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6188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DIED  IN  20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don-rickles-dead-2.jpg"/>
          <p:cNvPicPr/>
          <p:nvPr/>
        </p:nvPicPr>
        <p:blipFill>
          <a:blip r:embed="rId1"/>
          <a:stretch/>
        </p:blipFill>
        <p:spPr>
          <a:xfrm>
            <a:off x="2095560" y="1371600"/>
            <a:ext cx="495288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3" descr="bill-paxton-headshot-720x720.jpg"/>
          <p:cNvPicPr/>
          <p:nvPr/>
        </p:nvPicPr>
        <p:blipFill>
          <a:blip r:embed="rId1"/>
          <a:stretch/>
        </p:blipFill>
        <p:spPr>
          <a:xfrm>
            <a:off x="1790640" y="1371600"/>
            <a:ext cx="5562720" cy="37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RestInPeaceLandau-640x480.jpg"/>
          <p:cNvPicPr/>
          <p:nvPr/>
        </p:nvPicPr>
        <p:blipFill>
          <a:blip r:embed="rId1"/>
          <a:stretch/>
        </p:blipFill>
        <p:spPr>
          <a:xfrm>
            <a:off x="2171880" y="137160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lewisreax21f-4-web.jpg"/>
          <p:cNvPicPr/>
          <p:nvPr/>
        </p:nvPicPr>
        <p:blipFill>
          <a:blip r:embed="rId1"/>
          <a:stretch/>
        </p:blipFill>
        <p:spPr>
          <a:xfrm>
            <a:off x="2333520" y="1371600"/>
            <a:ext cx="44769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_Roger Moore -t.jpg"/>
          <p:cNvPicPr/>
          <p:nvPr/>
        </p:nvPicPr>
        <p:blipFill>
          <a:blip r:embed="rId1"/>
          <a:stretch/>
        </p:blipFill>
        <p:spPr>
          <a:xfrm>
            <a:off x="2209680" y="1371600"/>
            <a:ext cx="4724640" cy="375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glen-campbell.jpg"/>
          <p:cNvPicPr/>
          <p:nvPr/>
        </p:nvPicPr>
        <p:blipFill>
          <a:blip r:embed="rId1"/>
          <a:stretch/>
        </p:blipFill>
        <p:spPr>
          <a:xfrm>
            <a:off x="1371600" y="1371600"/>
            <a:ext cx="6400800" cy="35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Hugh-Hefner-Health-Crisis-Before-Death-pp11.jpg"/>
          <p:cNvPicPr/>
          <p:nvPr/>
        </p:nvPicPr>
        <p:blipFill>
          <a:blip r:embed="rId1"/>
          <a:stretch/>
        </p:blipFill>
        <p:spPr>
          <a:xfrm>
            <a:off x="2095560" y="1371600"/>
            <a:ext cx="4952880" cy="3668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7T13:34:08Z</dcterms:created>
  <dc:creator>Jennifer Budzinski</dc:creator>
  <dc:description/>
  <dc:language>en-US</dc:language>
  <cp:lastModifiedBy>Erich Friedman</cp:lastModifiedBy>
  <dcterms:modified xsi:type="dcterms:W3CDTF">2020-08-24T17:39:51Z</dcterms:modified>
  <cp:revision>288</cp:revision>
  <dc:subject/>
  <dc:title>Slide 1</dc:title>
</cp:coreProperties>
</file>