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127-3582-4B6E-84A0-9B30C8E4E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E4A7-A5D7-4F1C-AF7E-924765D8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D65A-A031-4E4B-8919-FDE27312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0429-E5F6-429D-9373-3A5E3B61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65C6-6D76-43AF-A87A-015C243C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4DA6-4622-4690-9F22-4A78FD0EB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3F2-74E9-4254-8AA7-F1B2B304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A7F9-4ACD-4802-B9A2-77F831C5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C29-EAF4-407B-B285-0A125DC0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9345-7BBC-4C63-87C7-104D25AC9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8584-1B7D-41E0-B7B8-950EA0DAC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3DF6-5836-4B6F-BB83-A935AFF3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874-8B31-4E85-8A7C-37AF39E1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290B-AFC4-4A85-A34F-F276E13C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093-40D7-4600-9A81-A7F6454E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024-4959-4E63-8871-923DDB47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B3C4-8DAA-4EAD-90CE-53DB0424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977-26B8-4D52-9B21-71013F600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C7E-B8E2-40DC-B2F1-E3E0155E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01B4-E450-40EB-BB72-92F72247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C63B-292B-4EB7-8D25-38FAD2F6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E19-7ED1-4C37-A68A-93DC691A8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7C4B-33D6-4E45-BE06-70E5D132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https_%2F%2Fblueprint-api-production.s3.amazonaws.com%2Fuploads%2Fcard%2Fimage%2F665075%2Fdf7960bd-68c9-4c7f-93a1-2ea4f2b64eb6.jpg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61880" y="491508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TYLER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mary-tyler-moore---from-gams-to-glitz.jpg"/>
          <p:cNvPicPr/>
          <p:nvPr/>
        </p:nvPicPr>
        <p:blipFill>
          <a:blip r:embed="rId1"/>
          <a:stretch/>
        </p:blipFill>
        <p:spPr>
          <a:xfrm>
            <a:off x="1528920" y="1371600"/>
            <a:ext cx="6086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150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don-rickles-dead-2.jpg"/>
          <p:cNvPicPr/>
          <p:nvPr/>
        </p:nvPicPr>
        <p:blipFill>
          <a:blip r:embed="rId1"/>
          <a:stretch/>
        </p:blipFill>
        <p:spPr>
          <a:xfrm>
            <a:off x="2225520" y="1382760"/>
            <a:ext cx="4692960" cy="34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6404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PAX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bill-paxton-headshot-720x720.jpg"/>
          <p:cNvPicPr/>
          <p:nvPr/>
        </p:nvPicPr>
        <p:blipFill>
          <a:blip r:embed="rId1"/>
          <a:stretch/>
        </p:blipFill>
        <p:spPr>
          <a:xfrm>
            <a:off x="1981080" y="1373040"/>
            <a:ext cx="5181840" cy="34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AND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RestInPeaceLandau-640x480.jpg"/>
          <p:cNvPicPr/>
          <p:nvPr/>
        </p:nvPicPr>
        <p:blipFill>
          <a:blip r:embed="rId1"/>
          <a:stretch/>
        </p:blipFill>
        <p:spPr>
          <a:xfrm>
            <a:off x="2257560" y="137160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lewisreax21f-4-web.jpg"/>
          <p:cNvPicPr/>
          <p:nvPr/>
        </p:nvPicPr>
        <p:blipFill>
          <a:blip r:embed="rId1"/>
          <a:stretch/>
        </p:blipFill>
        <p:spPr>
          <a:xfrm>
            <a:off x="2386080" y="1371600"/>
            <a:ext cx="43718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748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_Roger Moore -t.jpg"/>
          <p:cNvPicPr/>
          <p:nvPr/>
        </p:nvPicPr>
        <p:blipFill>
          <a:blip r:embed="rId1"/>
          <a:stretch/>
        </p:blipFill>
        <p:spPr>
          <a:xfrm>
            <a:off x="2316240" y="1371600"/>
            <a:ext cx="45115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60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CAMP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glen-campbell.jpg"/>
          <p:cNvPicPr/>
          <p:nvPr/>
        </p:nvPicPr>
        <p:blipFill>
          <a:blip r:embed="rId1"/>
          <a:stretch/>
        </p:blipFill>
        <p:spPr>
          <a:xfrm>
            <a:off x="1452600" y="1371600"/>
            <a:ext cx="6238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ry-tyler-moore---from-gams-to-glitz.jpg"/>
          <p:cNvPicPr/>
          <p:nvPr/>
        </p:nvPicPr>
        <p:blipFill>
          <a:blip r:embed="rId1"/>
          <a:stretch/>
        </p:blipFill>
        <p:spPr>
          <a:xfrm>
            <a:off x="1528920" y="1371600"/>
            <a:ext cx="608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HEF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Hugh-Hefner-Health-Crisis-Before-Death-pp11.jpg"/>
          <p:cNvPicPr/>
          <p:nvPr/>
        </p:nvPicPr>
        <p:blipFill>
          <a:blip r:embed="rId1"/>
          <a:stretch/>
        </p:blipFill>
        <p:spPr>
          <a:xfrm>
            <a:off x="2190600" y="1371600"/>
            <a:ext cx="47628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https_%2F%2Fblueprint-api-production.s3.amazonaws.com%2Fuploads%2Fcard%2Fimage%2F665075%2Fdf7960bd-68c9-4c7f-93a1-2ea4f2b64eb6.jpg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DIED  IN 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on-rickles-dead-2.jpg"/>
          <p:cNvPicPr/>
          <p:nvPr/>
        </p:nvPicPr>
        <p:blipFill>
          <a:blip r:embed="rId1"/>
          <a:stretch/>
        </p:blipFill>
        <p:spPr>
          <a:xfrm>
            <a:off x="2095560" y="1371600"/>
            <a:ext cx="49528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bill-paxton-headshot-720x720.jpg"/>
          <p:cNvPicPr/>
          <p:nvPr/>
        </p:nvPicPr>
        <p:blipFill>
          <a:blip r:embed="rId1"/>
          <a:stretch/>
        </p:blipFill>
        <p:spPr>
          <a:xfrm>
            <a:off x="1790640" y="1371600"/>
            <a:ext cx="5562720" cy="37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estInPeaceLandau-640x480.jpg"/>
          <p:cNvPicPr/>
          <p:nvPr/>
        </p:nvPicPr>
        <p:blipFill>
          <a:blip r:embed="rId1"/>
          <a:stretch/>
        </p:blipFill>
        <p:spPr>
          <a:xfrm>
            <a:off x="2171880" y="13716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lewisreax21f-4-web.jpg"/>
          <p:cNvPicPr/>
          <p:nvPr/>
        </p:nvPicPr>
        <p:blipFill>
          <a:blip r:embed="rId1"/>
          <a:stretch/>
        </p:blipFill>
        <p:spPr>
          <a:xfrm>
            <a:off x="2333520" y="1371600"/>
            <a:ext cx="4476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_Roger Moore -t.jpg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glen-campbel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ugh-Hefner-Health-Crisis-Before-Death-pp11.jpg"/>
          <p:cNvPicPr/>
          <p:nvPr/>
        </p:nvPicPr>
        <p:blipFill>
          <a:blip r:embed="rId1"/>
          <a:stretch/>
        </p:blipFill>
        <p:spPr>
          <a:xfrm>
            <a:off x="2095560" y="1371600"/>
            <a:ext cx="4952880" cy="366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3:34:08Z</dcterms:created>
  <dc:creator>Jennifer Budzinski</dc:creator>
  <dc:description/>
  <dc:language>en-US</dc:language>
  <cp:lastModifiedBy>Erich Friedman</cp:lastModifiedBy>
  <dcterms:modified xsi:type="dcterms:W3CDTF">2020-08-24T17:39:51Z</dcterms:modified>
  <cp:revision>288</cp:revision>
  <dc:subject/>
  <dc:title>Slide 1</dc:title>
</cp:coreProperties>
</file>