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4F5-C751-49DA-8165-65E7020F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4AC7-4F65-401A-AC4D-22F9E1D9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BBB4-A30D-48DF-965F-48CB5F6D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217-3E4A-470C-BAD8-73BD1E727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B54-B329-4704-8C92-B074A95E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8FD-8EE4-42E9-9EAD-9108C63C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0F99-E799-4EF6-8C44-4561E631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589-D25E-481B-8AA0-18DC1337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D2F0-1B3C-4C5B-B734-65072A00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4C78-99EB-4E1B-A0CB-E6A634033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9BE-58C9-4DB4-A505-E156EC99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6B75-3D07-4B07-9A92-21843BD1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302-5EC5-4890-9E60-948656A2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10B-90AB-4AA1-8FA5-82F44D0A4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946-BF87-401C-A758-ECC24319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4F3-EA35-40BA-A875-1EE38338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2569-9A09-4CB8-96CF-39D5F451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109-CB9B-4915-AA5D-5F2034CA7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03F-D33D-4323-A6B0-9DFDF188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210E-4A17-4EF3-95FC-F47CB489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BF9-CEC1-4CA2-ABE9-112F49377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C93-E107-40A7-A078-AE3A8187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5C2-3A04-4514-AB8F-DFA61E9B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ON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62080" y="762120"/>
            <a:ext cx="86198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57160" y="4876920"/>
            <a:ext cx="745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REETCAR  NAMED 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74720"/>
            <a:ext cx="707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– EYED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ARLON  BRAND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40Z</dcterms:modified>
  <cp:revision>348</cp:revision>
  <dc:subject/>
  <dc:title>Slide 1</dc:title>
</cp:coreProperties>
</file>