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4EE7-3C9F-4F6E-A282-E8BF66253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33C8-23A1-4BC0-B0C1-7CA33F57D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C405-0190-4840-BC20-9BC552EAC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6D54-50F9-48FC-A691-8B3E6286C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8C4A-ACE8-46E7-8341-5AEC0FDC0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1BFE-3196-4415-9B1E-5DE3B77A3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C389-6BD2-4090-BB85-E6F213775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B14C-7F07-426B-8801-B79D563A1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AA42-B85C-4A2F-AF1F-B7526A8F4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9921-76C9-4F68-A18B-BEBEE0E19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0C1F-A4AB-4344-A833-03DCE5DCA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BE0B-B712-41F2-9B69-7827E2CB0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1987-A8B3-407C-9ED3-E7E73468E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E7C8-F813-4359-8E1B-AD3E9CD71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F635-DC41-4AEB-9BEB-F3382C7CE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6B12-B9B1-4C45-ADE3-8F8E5A992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318B-8E8A-4B08-89F5-5037D81C3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7936-80EE-44C0-BEC7-83C3EA0FF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CECD-C298-4400-8D4C-ED79CC4DC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65D1-67F9-4D05-B456-DFC8EFBFE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AD9D-4CEB-4D30-B24D-A6DB23875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FD55-0106-4805-89C3-B1C0CA5FC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87B7-0D34-4381-B799-BDEE3FAE2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GHEST CHARTING SINGLE BY THE VERVE PI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YONA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04880" y="762120"/>
            <a:ext cx="7734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JAPANESE WORD FOR GOODBY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9800"/>
            <a:ext cx="82296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SI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262080" y="762120"/>
            <a:ext cx="8619840" cy="41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NEIL DIAMOND SONG BEGINS "IT WAS THE 3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F JUNE / ON THAT YOUNGER DAY / WELL I BECAME A MAN / AT THE HANDS OF A GIRL 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MOST TWICE MY AGE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US  CAES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STORICAL FIGURE CROSSED THE RUBIC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OHN)  CAN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STARRED IN "UNCLE BUCK" AND "SPACEBALL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95160" y="762120"/>
            <a:ext cx="7753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CA-COLA ENERGY DRINK HAS THE OFFICIAL TAGLINE "FUEL YOUR FIRE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PER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95280" y="762120"/>
            <a:ext cx="6553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IRST APPEARED IN "ACTION COMICS #1" ON APRIL 18, 193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857160" y="4876920"/>
            <a:ext cx="7454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STREETCAR  NAMED  DES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47600" y="774720"/>
            <a:ext cx="7074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NNESSEE WILLIAMS PLAY WON THE PULITZER PRIZE IN 194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76440" y="762120"/>
            <a:ext cx="7791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JAPANESE WORD FOR GOODBY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– EYED  J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52600" y="762120"/>
            <a:ext cx="8038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HOME POKER GAMES, WHAT CARDS ARE OFTEN MADE WILD ALONG WITH "THE MAN WITH THE AX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RESH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43000" y="762120"/>
            <a:ext cx="6858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GHEST CHARTING SINGLE BY THE VERVE PI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90440" y="480060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MARLON  BRANDO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209520" y="761760"/>
            <a:ext cx="8724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NEIL DIAMOND SONG BEGINS "IT WAS THE 3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F JUNE / ON THAT YOUNGER DAY / WELL I BECAME A MAN / AT THE HANDS OF A GIRL /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MOST TWICE MY AGE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ISTORICAL FIGURE CROSSED THE RUBIC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STARRED IN "UNCLE BUCK" AND "SPACEBALL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57360" y="761760"/>
            <a:ext cx="7829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CA-COLA ENERGY DRINK HAS THE OFFICIAL TAGLINE "FUEL YOUR FIRE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314360" y="762120"/>
            <a:ext cx="65152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IRST APPEARED IN "ACTION COMICS #1" ON APRIL 18, 193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NNESSEE WILLIAMS PLAY WON THE PULITZER PRIZE IN 194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HOME POKER GAMES, WHAT CARDS ARE OFTEN MADE WILD ALONG WITH "THE MAN WITH THE AX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8:03:49Z</dcterms:created>
  <dc:creator>Jennifer Budzinski</dc:creator>
  <dc:description/>
  <dc:language>en-US</dc:language>
  <cp:lastModifiedBy>Erich Friedman</cp:lastModifiedBy>
  <dcterms:modified xsi:type="dcterms:W3CDTF">2020-08-31T17:08:40Z</dcterms:modified>
  <cp:revision>348</cp:revision>
  <dc:subject/>
  <dc:title>Slide 1</dc:title>
</cp:coreProperties>
</file>