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7FA-0584-4BF0-B243-1317F6E61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94F-BE8E-46D0-9B62-B7DCC2C9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773-4559-4BB8-B117-DC104FED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84F-4F20-4FBA-BE56-57857CDA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D04-9E32-48E0-B2BE-E4F3E161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59C-F74F-4875-BA41-19454A9D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6D32-4DEB-4439-9D45-7A53D295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26C-AA7C-42D4-AC89-B9E6C2F9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F603-594D-48CF-B8EC-36D07CD1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59A-82E6-40A4-B342-218A834D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AC1-DD6E-4A9C-A43D-3A6F8BA0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BEB6-69BD-4227-91F6-7020D4B4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59B0-167F-4142-B073-05B7FDF4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D2FB-23A9-46F1-9913-802DE9A9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060-EF78-4C4F-8DB2-E7B0C14E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C68-ED79-4226-A1E8-E73DC4B1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E77-371F-4235-A4B0-C0012961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B4BE-0658-40E0-91B0-AEDF7F81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8F1-466D-4D9E-AC67-88FBBA4E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9CCA-5321-4CF4-B229-F4DDC7C2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A05-D43D-4A19-876C-B27D46DA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B625-7D24-463E-9D77-74C0102B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A1D-EC8B-4017-8090-95C596E3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ON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62080" y="762120"/>
            <a:ext cx="86198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57160" y="4876920"/>
            <a:ext cx="745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REETCAR  NAMED 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74720"/>
            <a:ext cx="707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– EYED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ARLON  BRAND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40Z</dcterms:modified>
  <cp:revision>348</cp:revision>
  <dc:subject/>
  <dc:title>Slide 1</dc:title>
</cp:coreProperties>
</file>