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C87D-80D9-4923-B86E-7842FED6C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87BC-1F8D-4BD7-A6B5-1A76A6961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024A-61BF-4745-891A-46C2C9763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4F8F-7269-4D27-B3A7-39C9422E5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2AE0-6723-465D-A7A6-8DEE04719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BD9E-8F5F-44F3-8980-753C6DD84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51C9-9AA8-42DC-82ED-3BDB40354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D9F6-AAA9-4C2D-B96C-E301411B8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82F2-1767-4555-A6F7-CF5BEB766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EFF2-71AA-4AD4-A611-1BE9ECA34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A016-561B-44AC-AADB-28102D508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40EE-1385-4666-A199-B0F992B79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CB50-040B-46D3-92BF-3ACCDA5F1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5164-B49C-492C-B922-D3D3BA8D9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BFDE-9669-4651-B92B-6D134BA7F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07A3-4F6F-4F7E-A43E-798ADE099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56F1-3E50-45C8-B834-6B9A1CCB1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587B-6F9F-4915-83A4-4CC6FC6C8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0859-F760-4CF0-96CA-3D4C487BD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CE2F-8E3E-4DF7-A722-37270C143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7E21-5EA9-4FD4-9C18-8E4EB1BA6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F6C2-F128-4B70-B6F7-BC1F73FFD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34BC-11C8-4886-82AE-659A2FE0A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ESAME STREET" CHARACTER IS FAMOUS FOR SINGING "I LOVE TRAS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TAIN  HADD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AFARING CHARACTER IS FEATURED IN HERGÉ'S "ADVENTURES OF TIN T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SP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NURSERY RHYME, WHO COULD EAT NO F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KES  P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SUMMIT OF THE SOUTHERN FRONT RANGE OF THE ROCKY MOUNTA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LE  OF  YOUR  F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ART OF THE BODY IS STROKED IN ORDER TO TEST THE BABINSKI REFL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MON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09640" y="762120"/>
            <a:ext cx="75247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CTERIA IS BLAMED FOR THE COLLAPSE OF THE AZTEC SOCIE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S  GUI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219320" y="762120"/>
            <a:ext cx="6705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DID GEDDY LEE PLAY FOR RUS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LGORE  TR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SUCCESSFUL SCIENCE FICTION WRITER CHARACTER APPEARS IN 6 OF KURT VONNEGUT'S NO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AFARING CHARACTER IS FEATURED IN HERGÉ'S "ADVENTURES OF TIN T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57200" y="488952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  POL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666720" y="762120"/>
            <a:ext cx="7810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THIS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2273400" y="1968480"/>
            <a:ext cx="4597200" cy="27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SCAR  THE  GRO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ESAME STREET" CHARACTER IS FAMOUS FOR SINGING "I LOVE TRAS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NURSERY RHYME, WHO COULD EAT NO F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SUMMIT OF THE SOUTHERN FRONT RANGE OF THE ROCKY MOUNTA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ART OF THE BODY IS STROKED IN ORDER TO TEST THE BABINSKI REFLE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CTERIA IS BLAMED FOR THE COLLAPSE OF THE AZTEC SOCIE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DID GEDDY LEE PLAY FOR RU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SUCCESSFUL SCIENCE FICTION WRITER CHARACTER APPEARS IN 6 OF KURT VONNEGUT'S NOV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THIS PAIN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2273400" y="2076480"/>
            <a:ext cx="4597200" cy="270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8-31T17:06:47Z</dcterms:modified>
  <cp:revision>347</cp:revision>
  <dc:subject/>
  <dc:title>Slide 1</dc:title>
</cp:coreProperties>
</file>