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210D-29BC-43E8-9E36-5602CD4E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EE88-72A6-496D-A155-B39C287D6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A57A-BE3F-40CC-ADF0-F6E2078C7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1D4D-D9DC-4002-9255-4328293AD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5DE3-8B2F-476D-8948-4EDD7871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5305-BA86-4414-B0B4-C4E79B660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2426-2EFA-45D4-A928-D27529447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C09-AA8F-40AF-B854-6C0246769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2CE3-485E-484B-9201-CAE9F31F2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70C9-A445-446D-AF6B-590F366EA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2E74-D93A-4682-BD45-731AEF938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565F-CF05-4397-9A29-BAA21CE7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BB84-4D5F-472E-BBE4-68A5CC41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B1FF-05E5-4615-B088-DA0008C54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0218-5912-4862-8DA0-E3549923D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3BD3-9028-4AA1-ADEB-3F665AD85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A937-D237-4816-815A-B458CCE4B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C813-C349-40FB-AD7F-4B0764B5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C96A-8EB4-4A8D-9B73-CCDB16B1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FFA5-02FA-452E-91B5-309C264B1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3E23-71D4-4760-8E87-639B56952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3A35-FC68-4E0F-AAC3-7C6D48835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0B59-1DAE-4496-AA6E-B27F1BCA5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SAME STREET" CHARACTER IS FAMOUS FOR SINGING "I LOVE TRA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  HADD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FARING CHARACTER IS FEATURED IN HERGÉ'S "ADVENTURES OF TIN T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SP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NURSERY RHYME, WHO COULD EAT NO F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KES  P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SUMMIT OF THE SOUTHERN FRONT RANGE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E  OF  YOUR 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ART OF THE BODY IS STROKED IN ORDER TO TEST THE BABINSKI REFL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09640" y="762120"/>
            <a:ext cx="75247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TERIA IS BLAMED FOR THE COLLAPSE OF THE AZTEC SOCIE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  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GEDDY LEE PLAY FOR RU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GORE  TR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SUCCESSFUL SCIENCE FICTION WRITER CHARACTER APPEARS IN 6 OF KURT VONNEGUT'S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FARING CHARACTER IS FEATURED IN HERGÉ'S "ADVENTURES OF TIN T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89520"/>
            <a:ext cx="8229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666720" y="762120"/>
            <a:ext cx="781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273400" y="1968480"/>
            <a:ext cx="4597200" cy="27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AR  THE  GR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SAME STREET" CHARACTER IS FAMOUS FOR SINGING "I LOVE TRA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NURSERY RHYME, WHO COULD EAT NO F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SUMMIT OF THE SOUTHERN FRONT RANGE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ART OF THE BODY IS STROKED IN ORDER TO TEST THE BABINSKI REFL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TERIA IS BLAMED FOR THE COLLAPSE OF THE AZTEC SOCIE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GEDDY LEE PLAY FOR RU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SUCCESSFUL SCIENCE FICTION WRITER CHARACTER APPEARS IN 6 OF KURT VONNEGUT'S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273400" y="2076480"/>
            <a:ext cx="4597200" cy="270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6:47Z</dcterms:modified>
  <cp:revision>347</cp:revision>
  <dc:subject/>
  <dc:title>Slide 1</dc:title>
</cp:coreProperties>
</file>