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B303-5897-42BB-9948-4723F629C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6502-E21B-4789-852F-9D5E8C49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9FBF-005B-4790-B312-9B9A2347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4C17-8490-4A28-B000-159E7E04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9C8-E67A-48BC-BC8F-83340ADBC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7136-EB9E-4039-97FA-8F43A9087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99F9-5B89-409E-9CE7-75B455070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AD3F-E83C-4D5C-AE95-CD8B9058A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BFD9-BAB2-4ADC-A12A-334AD2CF0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34EA-8161-4C4C-B2DF-513F5564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6F74-6913-41C7-97A2-713AEDD3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E575-E843-467B-9B4B-1ED9F3996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BA85-2BB9-4802-ABD2-D12DF619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AF72-5C4B-42F3-9E86-9BA4F1FB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4F10-6639-4776-BCE0-ADCDBDA5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A982-0603-4735-B5A3-C6E76D20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DF5-EEB2-43F9-859F-4A095ADC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7CFA-05BF-4618-BD96-89BD53B8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D568-7A1B-42D9-B71F-348FF3E27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8CFB-E0E7-4575-8F52-0C062351D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5768-B3F6-4521-831E-B9BB70D3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AFF8-3801-4C43-BD56-847C515E9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7AAF-C846-4B22-8697-D20AEF867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SAME STREET" CHARACTER IS FAMOUS FOR SINGING "I LOVE TRA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  HADD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FARING CHARACTER IS FEATURED IN HERGÉ'S "ADVENTURES OF TIN T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SP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NURSERY RHYME, WHO COULD EAT NO F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KES  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SUMMIT OF THE SOUTHERN FRONT RANGE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E  OF  YOUR 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ART OF THE BODY IS STROKED IN ORDER TO TEST THE BABINSKI REFL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09640" y="762120"/>
            <a:ext cx="75247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TERIA IS BLAMED FOR THE COLLAPSE OF THE AZTEC SOCIE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  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GEDDY LEE PLAY FOR RU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GORE  TR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SUCCESSFUL SCIENCE FICTION WRITER CHARACTER APPEARS IN 6 OF KURT VONNEGUT'S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FARING CHARACTER IS FEATURED IN HERGÉ'S "ADVENTURES OF TIN T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895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666720" y="762120"/>
            <a:ext cx="781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273400" y="1968480"/>
            <a:ext cx="4597200" cy="27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AR  THE  GR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SAME STREET" CHARACTER IS FAMOUS FOR SINGING "I LOVE TRA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NURSERY RHYME, WHO COULD EAT NO F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SUMMIT OF THE SOUTHERN FRONT RANGE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ART OF THE BODY IS STROKED IN ORDER TO TEST THE BABINSKI REFL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TERIA IS BLAMED FOR THE COLLAPSE OF THE AZTEC SOCIE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GEDDY LEE PLAY FOR RU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SUCCESSFUL SCIENCE FICTION WRITER CHARACTER APPEARS IN 6 OF KURT VONNEGUT'S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273400" y="2076480"/>
            <a:ext cx="4597200" cy="270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6:47Z</dcterms:modified>
  <cp:revision>347</cp:revision>
  <dc:subject/>
  <dc:title>Slide 1</dc:title>
</cp:coreProperties>
</file>