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4C6A-40B2-44FA-89DB-513D3363E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AB52-F4C7-4AA5-A1E7-BF93D541E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4925-1CA7-43E8-8886-762E03097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7752-BD08-4F69-AF9D-07E026BBC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14DF-25F6-4BE3-A807-9C0983F06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3717-5DFF-4B82-B9BE-5FED4E9C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8A2A-B837-4CF2-A92D-3100CC23D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E42E-7DD6-4ABD-8555-2FB95471D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CC61-873A-4FCC-851A-A4F123B5D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55AF-B7AD-431C-AD09-C76792BCC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91BC-E247-4A75-976A-B957615E0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2877-7DC4-47DD-B6A9-EF28BEDB6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6DA9-5992-4039-92EF-E7FFD19D9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B1FA-DFE8-4987-B468-9FDA12CF8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5EB4-B911-47CF-B709-157B2E14B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3ED9-D079-4081-B401-7F4DE933D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D409-733D-4C33-A1BE-4264BBDCD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9CF1-0B33-43C0-9689-1418A97F8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F8F2-3217-4D01-8703-F63095E3A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E528-A1A8-49A2-BD4D-71DE23B5E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28B5-C572-4B90-BA32-EDBB8537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F5EE-E3D0-4643-85FD-E9889D3DF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70E4-9A73-4769-AE05-57E5266AC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A SPIN-OFF OF "THE CLOS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  OF  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WHAT NOVEL DID JOHN STEINBECK WRITE "I THINK EVERYTHING ELSE I HAVE WRITTEN HAS BEEN, IN A SENSE, PRACTICE FOR TH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8240" y="762120"/>
            <a:ext cx="7067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SOUTHERNER TO SERVE AS U.S. PRESIDENT AFTER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47760" y="4876920"/>
            <a:ext cx="844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  THE  FOURTH  (BE  WITH  YO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7760" y="762120"/>
            <a:ext cx="844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A PLAY ON WORDS, WHAT DAY OF THE YEAR IS KNOWN AS "STAR WARS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  LED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25520" y="762120"/>
            <a:ext cx="82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OSTHUMOUSLY WON BEST SUPPORTING ACTOR FOR "BATMAN"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  DI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DEBUTED OPPOSITE JIM CARREY IN "THE MASK", AND VOICED SHREK'S WIFE FIONA IN THE 4 "SHREK" FIL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VELAND  BR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HAS NO LOGO ON THEIR HELME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RCHILL  D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RACETRACK IS THE KENTUCKY DERBY H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WHAT NOVEL DID JOHN STEINBECK WRITE "I THINK EVERYTHING ELSE I HAVE WRITTEN HAS BEEN, IN A SENSE, PRACTICE FOR TH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T  CHAMBER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9120" y="762120"/>
            <a:ext cx="810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STAR CLAIMED HE HAD SEX WITH OVER 20,000 WO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JOR  CR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A SPIN-OFF OF "THE CLOS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34340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BRITISH  PRIME  MIN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0080" y="761760"/>
            <a:ext cx="7143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SOUTHERNER TO SERVE AS U.S. PRESIDENT AFTER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24000" y="76212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A PLAY ON WORDS, WHAT DAY OF THE YEAR IS KNOWN AS "STAR WARS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OSTHUMOUSLY WON BEST SUPPORTING ACTOR FOR "BATMAN"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DEBUTED OPPOSITE JIM CARREY IN "THE MASK", AND VOICED SHREK'S WIFE FIONA IN THE 4 "SHREK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HAS NO LOGO ON THEIR HELM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RACETRACK IS THE KENTUCKY DERBY H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0680" y="762120"/>
            <a:ext cx="8162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STAR CLAIMED HE HAD SEX WITH OVER 20,000 WO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7:05Z</dcterms:modified>
  <cp:revision>366</cp:revision>
  <dc:subject/>
  <dc:title>Slide 1</dc:title>
</cp:coreProperties>
</file>