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B62E-82B2-4211-9C03-56CACCA3B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08E6-D621-41C2-A5BB-A8C9C1BC8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72F4-31A1-4006-BD58-34F2D709E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15B2-5695-4E7A-BCC5-27BC60C5A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48DC-B97A-452B-ACAC-38D089149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5007-FFCF-47B2-8C16-395B346B0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D8DC-D3DA-470F-85C0-A988C4509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5712-749D-46AE-84C9-E3639147C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3529-A06B-4230-ACE9-0FB6107BD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D0DF-1E20-4044-BC68-20C7E8A7A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A862-4D7C-4167-B8B6-830C55314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B6DE-D51A-4152-8597-210B7F91D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02B6-44D3-4DE8-88B6-26A7D1386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0CA5-84F2-4D32-9774-A8B3071AC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72C5-F547-42B0-BE91-CBDE01ED8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8C92-7F32-43D6-902B-F99C4F56A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0364-64BF-4773-B8E2-D17057937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D83C-717B-4F10-9EDA-1C42F33F5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DF92-93B7-4874-B7B3-3ADE80501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9E8B-CA64-47FA-87DB-C0A418FF5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29B2-D07C-47C9-9DE7-B1D16CA4B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8E43-DB7E-47B9-9D6E-B15459378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8325-C516-487D-B82B-01F3EB0D5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A SPIN-OFF OF "THE CLOS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  OF  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WHAT NOVEL DID JOHN STEINBECK WRITE "I THINK EVERYTHING ELSE I HAVE WRITTEN HAS BEEN, IN A SENSE, PRACTICE FOR TH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ROW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8240" y="762120"/>
            <a:ext cx="7067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SOUTHERNER TO SERVE AS U.S. PRESIDENT AFTER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47760" y="4876920"/>
            <a:ext cx="844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  THE  FOURTH  (BE  WITH  YO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7760" y="762120"/>
            <a:ext cx="844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A PLAY ON WORDS, WHAT DAY OF THE YEAR IS KNOWN AS "STAR WARS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  LED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25520" y="762120"/>
            <a:ext cx="82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OSTHUMOUSLY WON BEST SUPPORTING ACTOR FOR "BATMAN"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  DI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DEBUTED OPPOSITE JIM CARREY IN "THE MASK", AND VOICED SHREK'S WIFE FIONA IN THE 4 "SHREK" FIL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VELAND  BR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HAS NO LOGO ON THEIR HELME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RCHILL  D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3400" y="762120"/>
            <a:ext cx="74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RACETRACK IS THE KENTUCKY DERBY H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WHAT NOVEL DID JOHN STEINBECK WRITE "I THINK EVERYTHING ELSE I HAVE WRITTEN HAS BEEN, IN A SENSE, PRACTICE FOR TH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T  CHAMBERL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19120" y="762120"/>
            <a:ext cx="810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STAR CLAIMED HE HAD SEX WITH OVER 20,000 WO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JOR  CR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A SPIN-OFF OF "THE CLOS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34340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BRITISH  PRIME  MINI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0080" y="761760"/>
            <a:ext cx="7143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SOUTHERNER TO SERVE AS U.S. PRESIDENT AFTER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24000" y="762120"/>
            <a:ext cx="849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A PLAY ON WORDS, WHAT DAY OF THE YEAR IS KNOWN AS "STAR WARS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OSTHUMOUSLY WON BEST SUPPORTING ACTOR FOR "BATMAN"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DEBUTED OPPOSITE JIM CARREY IN "THE MASK", AND VOICED SHREK'S WIFE FIONA IN THE 4 "SHREK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HAS NO LOGO ON THEIR HELM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RACETRACK IS THE KENTUCKY DERBY H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0680" y="762120"/>
            <a:ext cx="8162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STAR CLAIMED HE HAD SEX WITH OVER 20,000 WO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7:05Z</dcterms:modified>
  <cp:revision>366</cp:revision>
  <dc:subject/>
  <dc:title>Slide 1</dc:title>
</cp:coreProperties>
</file>