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04A-694A-435C-ACF2-92104FF72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7603-F28D-4BB0-BFDA-58C19378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9C60-2FDA-4167-A5F4-698E500C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714-ACBB-4740-B95B-81426227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1C9-5993-4084-9C9D-0A4988EA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3A61-0BE8-4B71-AEAD-65642569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8D2-1A2B-489E-986F-E8EF738AC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67A9-1D6C-4EFC-88E2-73040C87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F18-00BC-4B7F-8F51-9911B509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FD9-517C-4CEB-B9B5-61BFAA9F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C7B3-6273-4841-BD15-7CB1FB20C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63E-F0B6-4A94-A82D-1594186B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D731-CC5F-4B3C-8C18-3AB118BA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A27-7E17-4F39-9AA7-28112F77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1FFF-A292-42A9-A786-761C40B3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27E-628F-4688-8B11-3B4017BE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564E-E96D-4136-8558-EAD2A0305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F56-DBC8-4A7B-9443-CA17C7A1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4E3-CD42-40A0-A70A-DB3A2371D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93E-875A-42E2-96CC-A4034223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4DC-1864-4915-81BA-CF2043EE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CC5-FE1A-4B74-8C49-94EEB53C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A715-A502-41EE-8C3D-2AA4849D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A SPIN-OFF OF "THE CLO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OF  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WHAT NOVEL DID JOHN STEINBECK WRITE "I THINK EVERYTHING ELSE I HAVE WRITTEN HAS BEEN, IN A SENSE, PRACTICE FOR T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SOUTHERNER TO SERVE AS U.S. PRESIDENT AFTER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THE  FOURTH  (BE  WITH  YO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7760" y="762120"/>
            <a:ext cx="844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A PLAY ON WORDS, WHAT DAY OF THE YEAR IS KNOWN A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  LED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5520" y="762120"/>
            <a:ext cx="82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STHUMOUSLY WON BEST SUPPORTING ACTOR FOR "BATMAN"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EBUTED OPPOSITE JIM CARREY IN "THE MASK", AND VOICED SHREK'S WIFE FIONA IN THE 4 "SHREK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  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NO LOGO ON THEIR HELME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RCHILL  D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RACETRACK IS THE KENTUCKY DERBY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WHAT NOVEL DID JOHN STEINBECK WRITE "I THINK EVERYTHING ELSE I HAVE WRITTEN HAS BEEN, IN A SENSE, PRACTICE FOR TH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T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762120"/>
            <a:ext cx="81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CLAIMED HE HAD SEX WITH OVER 20,000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 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A SPIN-OFF OF "THE CLO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34340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BRITISH  PRIME  MIN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SOUTHERNER TO SERVE AS U.S. PRESIDENT AFTER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24000" y="762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A PLAY ON WORDS, WHAT DAY OF THE YEAR IS KNOWN A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STHUMOUSLY WON BEST SUPPORTING ACTOR FOR "BATMAN"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EBUTED OPPOSITE JIM CARREY IN "THE MASK", AND VOICED SHREK'S WIFE FIONA IN THE 4 "SH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NO LOGO ON THEIR HELM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RACETRACK IS THE KENTUCKY DERBY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CLAIMED HE HAD SEX WITH OVER 20,000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7:05Z</dcterms:modified>
  <cp:revision>366</cp:revision>
  <dc:subject/>
  <dc:title>Slide 1</dc:title>
</cp:coreProperties>
</file>