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97A9-1A20-4389-8BCE-6C7479EFC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9D33-6683-4190-9DE4-F2FA51CE7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7B7C-478F-4E4D-84B0-F0D0C080F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8292-C9DB-4DDF-BAAB-8F3ACFCF5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3BA2-60D1-4F56-80EB-DD9DCE130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A46E-9527-45E6-BD12-E6BD3635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B2F9-28CF-44BD-A365-15F86670B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32A0-8998-4C28-B40C-E59C07DEF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4A87-AE53-454E-B570-56D6DB1F2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7F12-EB3B-4922-92FB-31A89BD70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C355-62B6-42CC-96BC-9C2F3E4E5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2C89-1C45-4C76-B26A-BDEA78F8B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A2CF-85F2-4D99-A09E-AA42AA847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CB5D-20D9-4695-99E6-0B2D68C31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05CB2-C9B2-4C46-B190-CE66456E3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09FB-85B7-45A3-A696-8F54C6CF6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E03C-0B76-40FE-B99B-CFA565B57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7F35-0DC7-489A-8EDD-1F06DCC28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3BAD-27D2-49E4-8769-D5819B3B3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343D-0AE8-4CC7-9636-DD788A43C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BEA8-CA98-42AE-B5A6-6F03507C9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0259-1D5F-4B8B-95F0-189BC44BB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240D-F62A-4179-8C5F-4912302D4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09800" y="137124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N ANAGRAM OF "AUCTIONED" AND "CAUTION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47800" y="762120"/>
            <a:ext cx="744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STARRED MATTHEW BRODERICK AS  A HIGH SCHOOL TEACHER AND REESE WITHERSPOON AS A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96720" y="4876920"/>
            <a:ext cx="8350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SEMB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49240" y="762120"/>
            <a:ext cx="744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PROTECTS THE RIGHT TO PETITION, AND FREEDOMS OF RELIGION, SPEECH, THE PRESS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M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219320" y="762120"/>
            <a:ext cx="6705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SCAR WINNER FOR BEST SUPPORTING ACTOR FOR "RYAN'S DAUGHTER"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447920" y="48769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61880" y="762120"/>
            <a:ext cx="8220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OUNTY CONTAINS FORT M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52400" y="762120"/>
            <a:ext cx="7639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AL NOTATION, WHAT IS A SET OF 5 HORIZONTAL LIN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905120" y="4876920"/>
            <a:ext cx="533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LA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228600" y="965160"/>
            <a:ext cx="422928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M. C. ESCHER PRI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38559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ARY)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00240" y="762120"/>
            <a:ext cx="6743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AVORITE ACTOR OF DIRECTOR ALFRED HITCHC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STARRED MATTHEW BRODERICK AS A HIGH SCHOOL TEACHER AND REESE WITHERSPOON AS A STU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704880" y="4876920"/>
            <a:ext cx="773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  (LIGHT  ORCHEST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E" STAND FOR IN "EL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362320" y="4876920"/>
            <a:ext cx="441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81200" y="762120"/>
            <a:ext cx="7581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N  ANAGRAM OF "AUCTIONED" AND "CAUTION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76520" y="4343400"/>
            <a:ext cx="5790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GENERA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00000" y="761760"/>
            <a:ext cx="73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PROTECTS THE RIGHT TO PETITION, AND FREEDOMS OF RELIGION, SPEECH, THE PRESS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57320" y="762120"/>
            <a:ext cx="7029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SCAR WINNER FOR BEST SUPPORTING ACTOR FOR "RYAN'S DAUGHTER"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0600" y="762120"/>
            <a:ext cx="8362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OUNTY CONTAINS FORT MY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AL NOTATION, WHAT IS A SET OF 5 HORIZONTAL LIN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5960" y="990720"/>
            <a:ext cx="4343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M. C. ESCHER PRI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3855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AVORITE ACTOR OF DIRECTOR ALFRED HITCHCO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33640" y="762120"/>
            <a:ext cx="6876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E" STAND FOR IN "EL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7:07:21Z</dcterms:modified>
  <cp:revision>446</cp:revision>
  <dc:subject/>
  <dc:title>Slide 1</dc:title>
</cp:coreProperties>
</file>