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B087-3E7E-4C69-B493-3532E35D7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C209-350C-42D3-92D0-752A9EDB6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5D89-B73D-4150-8029-229B8CE60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961F-2DED-47DC-8D36-FE0EB731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72EF-BCA7-41C4-8312-B83517D20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B73A-EBD1-4B1E-9D94-3C893CF2E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54E9-65DF-4E77-8AF9-EDDBE4679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1E4E-DB61-4040-BC05-0FEA6AAD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323A-6593-4598-BE31-756220390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A50E-6A32-43C3-816D-55139C8D8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EAF6-05E8-4CEE-B62C-E8129A9F0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15A2-8002-4C17-B49D-EE2B1C4C1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8A98-E6D3-4B26-900A-5533B7592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B39C-5A2A-4075-B913-1E9B7B20D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F513-7CB4-4975-B4BD-470B24C41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1BFF-3457-4A32-B5BC-5BDA25F7D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2932-B7AC-40C5-AA12-430F32F31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C264-37E2-4FA6-9987-2E0F90C5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5EDE-A639-4002-BB3A-2BC935894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0A8C-7C14-4531-8586-DDD1228E1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2C80-D195-4BEA-BD0E-F7438E4C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4D73-E63D-4AD2-A8E0-3123F45BA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E83C-4DD9-428D-A934-3BC3D741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37124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AUCTIONED" AND "CAUTION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STARRED MATTHEW BRODERICK AS  A HIGH SCHOOL TEACHER AND REESE WITHERSPOON AS A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96720" y="4876920"/>
            <a:ext cx="835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SEMB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49240" y="762120"/>
            <a:ext cx="744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PROTECTS THE RIGHT TO PETITION, AND FREEDOMS OF RELIGION, SPEECH, THE PRESS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M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219320" y="762120"/>
            <a:ext cx="670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SCAR WINNER FOR BEST SUPPORTING ACTOR FOR "RYAN'S DAUGHTER"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61880" y="762120"/>
            <a:ext cx="822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OUNTY CONTAINS FORT M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52400" y="762120"/>
            <a:ext cx="7639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AL NOTATION, WHAT IS A SET OF 5 HORIZONTAL LIN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905120" y="487692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A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965160"/>
            <a:ext cx="42292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M. C. ESCHER PR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8559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ARY)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00240" y="762120"/>
            <a:ext cx="674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VORITE ACTOR OF DIRECTOR ALFRED HITCHC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STARRED MATTHEW BRODERICK AS A HIGH SCHOOL TEACHER AND REESE WITHERSPOON AS A STU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704880" y="4876920"/>
            <a:ext cx="773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(LIGHT  ORCHEST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"EL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362320" y="487692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81200" y="762120"/>
            <a:ext cx="7581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 ANAGRAM OF "AUCTIONED" AND "CAUTION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76520" y="4343400"/>
            <a:ext cx="579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GENERA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00000" y="761760"/>
            <a:ext cx="73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PROTECTS THE RIGHT TO PETITION, AND FREEDOMS OF RELIGION, SPEECH, THE PRESS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SCAR WINNER FOR BEST SUPPORTING ACTOR FOR "RYAN'S DAUGHTER"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OUNTY CONTAINS FORT M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AL NOTATION, WHAT IS A SET OF 5 HORIZONTAL LIN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5960" y="99072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M. C. ESCHER PR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855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VORITE ACTOR OF DIRECTOR ALFRED HITCHC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33640" y="762120"/>
            <a:ext cx="687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"EL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7:07:21Z</dcterms:modified>
  <cp:revision>446</cp:revision>
  <dc:subject/>
  <dc:title>Slide 1</dc:title>
</cp:coreProperties>
</file>