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23D3-84FF-43C3-A923-3C9150765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13E1-FD80-4AE8-AE30-3B2809EE1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2E0F-0381-476B-B35D-CC86100AA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C255-47B5-4BA9-9A9A-ACD187D71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5525-6DD9-41B2-A115-37EAF19E8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0E1F-10A6-409D-A3B1-28F5E430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B6BC-C93B-4DBE-AFDC-F9672AED2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AC0E-EE89-4F21-8004-DEA41434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0E47-933F-469F-AB9D-AF9BCD1D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83EF-3E8A-4F74-9835-E8301C89F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FA9-8F0F-4F11-8A49-F8E2B6323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6F29-FCA2-4E5B-ABEA-2342AF812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4BEF-FD4C-4B07-8838-631E17B2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DA08-9884-4116-84CF-83B96DB9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6C57-D91A-477A-9D38-1E65C7470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D13-215D-4120-8016-67407E535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6609-8A32-45EF-A86F-1FF063DB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D1A4-56C7-4DD9-8C89-A2A075452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B66E-7F45-4234-94B2-A5374855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C429-DBA5-4491-9671-81B01AA5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BDEB-1D89-448C-90A0-7A183C102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9569-9435-461E-A541-A1FE807D8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8284-6340-4035-8A81-EF008789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37124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AUCTIONED" AND "CAUTION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MATTHEW BRODERICK AS  A HIGH SCHOOL TEACHER AND REESE WITHERSPOON AS A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96720" y="4876920"/>
            <a:ext cx="835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SEMB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49240" y="762120"/>
            <a:ext cx="744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PROTECTS THE RIGHT TO PETITION, AND FREEDOMS OF RELIGION, SPEECH, THE PRES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219320" y="762120"/>
            <a:ext cx="670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SCAR WINNER FOR BEST SUPPORTING ACTOR FOR "RYAN'S DAUGHTER"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61880" y="762120"/>
            <a:ext cx="822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OUNTY CONTAINS FORT M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52400" y="762120"/>
            <a:ext cx="7639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AL NOTATION, WHAT IS A SET OF 5 HORIZONTAL LIN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905120" y="48769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A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965160"/>
            <a:ext cx="42292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M. C. ESCHER PR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8559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ARY)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00240" y="762120"/>
            <a:ext cx="674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VORITE ACTOR OF DIRECTOR ALFRED HITCHC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MATTHEW BRODERICK AS A HIGH SCHOOL TEACHER AND REESE WITHERSPOON AS A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704880" y="4876920"/>
            <a:ext cx="773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(LIGHT  ORCHEST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EL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362320" y="48769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81200" y="762120"/>
            <a:ext cx="7581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 ANAGRAM OF "AUCTIONED" AND "CAUTION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76520" y="434340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GENERA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00000" y="761760"/>
            <a:ext cx="73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PROTECTS THE RIGHT TO PETITION, AND FREEDOMS OF RELIGION, SPEECH, THE PRESS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SCAR WINNER FOR BEST SUPPORTING ACTOR FOR "RYAN'S DAUGHTER"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OUNTY CONTAINS FORT M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AL NOTATION, WHAT IS A SET OF 5 HORIZONTAL LIN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960" y="99072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M. C. ESCHER PR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855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VORITE ACTOR OF DIRECTOR ALFRED HITCHC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33640" y="762120"/>
            <a:ext cx="687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EL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7:07:21Z</dcterms:modified>
  <cp:revision>446</cp:revision>
  <dc:subject/>
  <dc:title>Slide 1</dc:title>
</cp:coreProperties>
</file>