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EB5B-6802-48C3-8E1D-BC00B099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117-28B8-44F3-9F72-C6CCC7EA7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12D1-B245-42C6-B908-991FBF36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6DC-ED31-4A0D-889F-520681F2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B74B-E40D-4258-AEBD-926EDFF6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98B-6B0C-4824-BB13-34671CEF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1D6-2537-499F-ACE2-4DB7AC42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2DA8-CD87-490A-B32E-F10B587D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C79E-0463-47B0-A0BC-C8B7FF53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3240-FEF5-4260-9124-61A3E6A6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20E-8F4F-436F-9DFD-0A85D346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3710-0649-4CDA-846D-C0CA9979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7CE-0B0A-42B2-97CF-2623A748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6DF-7388-4F4C-A204-447274D00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6F30-6138-4661-9120-66F3FDA4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DFBC-C283-48EC-AAA2-BEDD3CB6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DE9-E80E-429D-9499-630F9344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F42-8923-4CE4-AF61-88C10439C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DF0-E06D-4602-B8CB-AF4E4328D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75F1-AB62-4C59-9488-634BBFACE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E851-0347-442E-B700-A6978B7E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D9C9-344C-4BE1-BE94-BD9C3511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66E-5598-40F7-A1CA-3E5B8BAD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9676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S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(UC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OL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5680" y="762120"/>
            <a:ext cx="609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  &amp;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  &amp;  AU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520" y="762120"/>
            <a:ext cx="9048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,  DALLAS,  AUSTIN  &amp;  FORT 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8588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IONS  OF  TOURNAMENTS  ON  THE  PGA  T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9520" y="762120"/>
            <a:ext cx="6923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59080" y="761760"/>
            <a:ext cx="62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080" y="762120"/>
            <a:ext cx="88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7:07:38Z</dcterms:modified>
  <cp:revision>465</cp:revision>
  <dc:subject/>
  <dc:title>Slide 1</dc:title>
</cp:coreProperties>
</file>