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573D-9CC2-4A19-BD9C-BBFECA443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32E3-FCAE-4FA5-BC3B-6F8C8B49E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14E2-BF3E-4EC6-89F2-A8896BDE2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90EB-6A3C-4BAC-B258-C75856088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AD1-656E-4AEB-88A0-200DC3433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344C-2533-4B83-A387-513CC69C2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BC08-5F0D-4CDE-B343-A9E77D9ED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865-E316-446A-B911-648D7C23B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3C17-01FF-4CF9-88E7-B8AF9C1E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D446-42E5-4B07-8807-C42170D0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82C4-B1DC-4CA2-81A0-C2DF7F12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799-BF25-4C81-B39D-D07D02ED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0F42-94DA-46FC-B1ED-E95276BD4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4B7C-5D14-4833-859C-8FA4CDFD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647-93EB-4E82-9D37-E098BA9A9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5D8F-20C1-4E17-8595-177CA5B7E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C86-DD12-4492-AF13-A13B84A4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3DD4-9795-4C27-AB77-29143FE2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AB6E-1495-4C48-BFE2-B93BFA116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5796-D3C7-49FC-87C7-CE9CC690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1E62-ED3E-4026-88A1-8C7443B00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59A9-0FE7-456E-8F35-8B950E6A7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9957-B866-44CC-986F-7404B2276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EXAS, AFTER HOUS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9676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MOST PHOTOGRAPHED BRID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SB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CAROLINA CITY DROPPED "UGH" FROM THE END OF ITS NAME IN 18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ITY LOCATED ON THE 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(UC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34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UNIVERSITY CAMPUS WITH THE LARGEST NUMBER OF STUDENTS ENRO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OL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MOTEST CITY OF OVER 300,000 PEOP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5680" y="762120"/>
            <a:ext cx="609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  VEGAS  &amp;  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ITIES ARE IN THE TOP 3 MOST POPULATED CITIES IN NEVADA, BESIDES HEND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MOST PHOTOGRAPHED BRID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  &amp;  AUGU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520" y="762120"/>
            <a:ext cx="9048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TED CITIES IN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419720"/>
            <a:ext cx="6629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,  DALLAS,  AUSTIN  &amp;  FORT 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47880" y="762120"/>
            <a:ext cx="724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EXAS, AFTER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85880" y="4419720"/>
            <a:ext cx="757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IONS  OF  TOURNAMENTS  ON  THE  PGA  T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CAROLINA CITY DROPPED "UGH" FROM THE END OF ITS NAME IN 18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9520" y="762120"/>
            <a:ext cx="6923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ITY LOCATED ON THE 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UNIVERSITY CAMPUS WITH THE LARGEST NUMBER OF STUDENTS ENRO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MOTEST CITY OF OVER 300,000 PEOPL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59080" y="761760"/>
            <a:ext cx="62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ITIES ARE IN THE TOP 3 MOST POPULATED CITIES IN NEVADA, BESIDES HEND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4080" y="762120"/>
            <a:ext cx="883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TED CITIES IN GEORG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7:07:38Z</dcterms:modified>
  <cp:revision>465</cp:revision>
  <dc:subject/>
  <dc:title>Slide 1</dc:title>
</cp:coreProperties>
</file>