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3EB7-81E3-4C63-B670-663F31DA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988-CD68-4ED0-ABB6-581D62505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E35-9513-40EA-AABC-A363FAF15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438E-8B2E-4A91-B3E9-FBE45A6C7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E9F7-1E96-4096-9AB2-FE9996ED9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9203-9CB2-4513-8B1A-3649ADE7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DB9C-8197-498A-917F-7CB8381A7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2A30-4E5B-4F61-A556-2A9D7641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0B7-DE0D-49EF-A916-11380B16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7076-DDB8-4D1C-8001-95D1C94B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D0A5-04CB-45B6-91FE-803F08E8D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98CF-FCC7-41C4-8C54-83984731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791-7B10-4775-A962-704AEAD02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54CB-8A31-4996-8E2D-C698D851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9AA6-0DDA-445D-9677-29E05277A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E1B3-2F48-4003-9073-3AD09595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C124-DF8C-41D7-BF38-66F22285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29F-41F8-4620-BB1B-8F669166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BAC-B67A-4E3F-9652-F3FA4249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DE35-72D6-4564-9734-6A678EB4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ABAC-5EFA-47EB-9ECD-0B315FF8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50CD-3BDA-45A3-B0CA-D198D65D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245D-654B-40DA-9137-D2DB95BC5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9903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EXAS, AFTER HOUS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96760" y="762120"/>
            <a:ext cx="73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MOST PHOTOGRAPHED BRID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SB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12800" y="762120"/>
            <a:ext cx="771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CAROLINA CITY DROPPED "UGH" FROM THE END OF ITS NAME IN 18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ITY LOCATED ON THE 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(UC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34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UNIVERSITY CAMPUS WITH THE LARGEST NUMBER OF STUDENTS ENRO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OL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MOTEST CITY OF OVER 300,000 PEOPL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5680" y="762120"/>
            <a:ext cx="609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  VEGAS  &amp;  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41400" y="762120"/>
            <a:ext cx="725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ITIES ARE IN THE TOP 3 MOST POPULATED CITIES IN NEVADA, BESIDES HEND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4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MOST PHOTOGRAPHED BRID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  &amp;  AU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520" y="762120"/>
            <a:ext cx="9048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TED CITIES IN GEORG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419720"/>
            <a:ext cx="6629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,  DALLAS,  AUSTIN  &amp;  FORT 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47880" y="762120"/>
            <a:ext cx="724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EXAS, AFTER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85880" y="4419720"/>
            <a:ext cx="757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ATIONS  OF  TOURNAMENTS  ON  THE  PGA  T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CAROLINA CITY DROPPED "UGH" FROM THE END OF ITS NAME IN 18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9520" y="762120"/>
            <a:ext cx="6923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ITY LOCATED ON THE 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UNIVERSITY CAMPUS WITH THE LARGEST NUMBER OF STUDENTS ENRO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MOTEST CITY OF OVER 300,000 PEOPL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59080" y="761760"/>
            <a:ext cx="62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33560" y="761760"/>
            <a:ext cx="707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ITIES ARE IN THE TOP 3 MOST POPULATED CITIES IN NEVADA, BESIDES HEND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4080" y="762120"/>
            <a:ext cx="8834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TED CITIES IN GEORG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7:07:38Z</dcterms:modified>
  <cp:revision>465</cp:revision>
  <dc:subject/>
  <dc:title>Slide 1</dc:title>
</cp:coreProperties>
</file>