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1836-3DB5-4BFB-A917-4753435E5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3EB-389B-450D-84AA-84EC2999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84A7-9853-4212-92FB-DC6BE6C2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3F48-F235-4869-87F0-16BF3586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722-A550-4274-8695-FC6AADDF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248-3372-4FF0-8E23-BE21EAC5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0C5-4E9A-4884-BEA6-477C1C75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1239-083E-4564-8364-E569035C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F41-CA83-4D37-9E21-F761DAC79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6DD1-091B-48DB-AA49-FEF3F316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BA8-8A21-422A-B882-9D52CA30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3B8-6810-4D99-9C84-B84C60797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C79-7D62-4E82-AC90-BCA3200D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F5A-5995-4555-BD4B-B881A7D5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5EF8-8D09-4295-AD5A-F912E50E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9F09-5E4F-4AD1-AB4A-19602D74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B8A5-C8BC-42EF-BECD-2FEE82A1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B9A3-3582-41E7-A789-1D2A03FD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A96-9CE5-44AD-9631-2A0FA441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E356-B6D7-420E-9046-A9180451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78BD-05EC-4808-91D8-F3C6DEA9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8C4-7BF1-4466-94A2-BD7F9941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447-A1E7-48F6-9E0A-1A6B3B07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58880"/>
            <a:ext cx="7353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356000"/>
            <a:ext cx="685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  (MIGHTY  QUIN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O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02Z</dcterms:modified>
  <cp:revision>345</cp:revision>
  <dc:subject/>
  <dc:title>Slide 1</dc:title>
</cp:coreProperties>
</file>