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0C2E-EF25-499B-A28F-993B4A1C8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A39E-F075-4BC6-839D-9A86427C4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2FE0-8F58-46C8-B161-CEF2542AF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B264-7849-4822-852B-428964FB7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0FF3-0BCE-4BED-8B40-8B3D3523D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4670-F1CF-4A35-8E5B-37DE5F890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0A34-8801-403F-9EBC-4D85212C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1762-A9DA-49FA-9141-BCAEE391B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2AAC-474F-41C8-B278-B12FFCDA2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BC0C-C62A-41F2-A3B3-983A476D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C1AA-B2F8-4362-B1D8-0FC84AB49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68B5-455A-4B2A-94ED-6C989E97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A1C7-F044-46F0-ACAC-A12F8B4C0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A23F-C535-46E4-8F52-A4EC7E9AD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FA0E-DB95-4E7B-8308-6D0A1158A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09B0-D43D-42BE-A09B-981D3B79D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195C-DF8B-45ED-8634-B5757392A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99DB-AF9C-4955-A05A-8CFBC1805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97BE-DF84-4618-B370-DF230B16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E0BB-A2A3-4E02-9B33-9156C0F50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0555-8417-41E6-8F45-C73B369CA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85FE-41EA-4982-85AF-EE603E54B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21CA-ADF4-4546-AC08-1E28AC266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JACKSONVILLE JAGUARS 2014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PIONEERING    VIDEO GAME SERIES ABOUT SHOOTING DEMONS AND THE UNDEAD LEAD TO A 2005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95320" y="758880"/>
            <a:ext cx="7353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DOCUMENTARIES "THE WAR", "THE CIVIL WAR", AND "THE VIETNAM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H  BADER  GIN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APPOINTED TO THE U.S. SUPREME COURT, AFTER SANDRA DAY O'CON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FLAVORS OF QUARK ARE UP, DOWN, BOTTOM, TOP, CHARM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95160" y="762120"/>
            <a:ext cx="775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3 SCIENTISTS WHO RECEIVED THE 1962 NOBEL PRIZE IN PHYSIOLOGY FOR THE DOUBLE HELIX, WHICH ONE IS STILL ALI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55600" y="4356000"/>
            <a:ext cx="6858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N  THE  ESKIMO  (MIGHTY  QUIN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556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BOB DYLAN WAS A #1 HIT FOR MANFRED MA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PIONEERING    VIDEO GAME SERIES ABOUT SHOOTING DEMONS AND THE UNDEAD LEAD TO A 2005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ENTWISTLE PLAYED BASS GUITAR FOR WHAT ICONIC ROCK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BOR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JACKSONVILLE JAGUARS 2014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DO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DOCUMENTARIES "THE WAR", "THE CIVIL WAR", AND "THE VIETNAM W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APPOINTED TO THE U.S. SUPREME COURT, AFTER SANDRA DAY O'CON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FLAVORS OF QUARK ARE UP, DOWN, BOTTOM, TOP, CHARM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3 SCIENTISTS WHO RECEIVED THE 1962 NOBEL PRIZE IN PHYSIOLOGY FOR THE DOUBLE HELIX, WHICH ONE IS STILL AL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BOB DYLAN WAS A #1 HIT FOR MANFRED MA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ENTWISTLE PLAYED BASS GUITAR FOR WHAT ICONIC ROCK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8:02Z</dcterms:modified>
  <cp:revision>345</cp:revision>
  <dc:subject/>
  <dc:title>Slide 1</dc:title>
</cp:coreProperties>
</file>