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1B1-8D76-48E8-A469-AE6901AEC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38AA-DFDF-4CF5-B9FB-16BA0B23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427-3BCF-435E-A25C-BC710999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E7FA-7991-4F2F-A115-8D164AFF2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F725-5631-49CE-96FB-85CFE544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9BF-76A3-42C4-84EF-E7B9A1B4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3836-7DB0-4E3A-BD0D-19B997C8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E7C2-26DE-45B4-AAFA-919E4446C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5A05-6FFC-4178-A4E8-1C4910736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BC80-5BA8-4AD5-A6C0-F3451695C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433-E1F8-4203-99C8-E37CCC715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C4A4-FC7F-49B4-9D0E-EE3CE053D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DA2E-F9E2-4AFE-8D93-3DFA9565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C9F5-7F9E-4DC6-8CA9-593993E9F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33F0-3710-4B80-8039-0321181A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3047-6D93-4A83-8ED8-299F817FC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3449-A3BC-4D39-A718-256354B9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DC4D-0608-4ECE-9A67-312D0309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F50-9EBD-48EC-96C8-2EC6C3D10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78B8-A809-4548-88F8-E8DD1F28C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51E4-6F8B-4287-9A53-32A17069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7FD3-684B-401D-8E3B-C5ACF6D44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D272-ED68-4B2D-8606-427B43ACB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58880"/>
            <a:ext cx="7353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356000"/>
            <a:ext cx="6858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  (MIGHTY  QUIN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IONEERING    VIDEO GAME SERIES ABOUT SHOOTING DEMONS AND THE UNDEAD LEAD TO A 200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JACKSONVILLE JAGUARS 201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DO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DOCUMENTARIES "THE WAR", "THE CIVIL WAR", AND "THE VIETNAM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APPOINTED TO THE U.S. SUPREME COURT, AFTER SANDRA DAY O'CON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UP, DOWN, BOTTOM, TOP, CHARM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SCIENTISTS WHO RECEIVED THE 1962 NOBEL PRIZE IN PHYSIOLOGY FOR THE DOUBLE HELIX, WHICH ONE IS STILL A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BOB DYLAN WAS A #1 HIT FOR MANFRED MA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ENTWISTLE PLAYED BASS GUITAR FOR WHAT ICONIC ROCK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02Z</dcterms:modified>
  <cp:revision>345</cp:revision>
  <dc:subject/>
  <dc:title>Slide 1</dc:title>
</cp:coreProperties>
</file>