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60D-C2E6-42B4-A77F-1FF32286A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D8BB-3239-438B-A5DD-C20695525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63B2-A59C-403B-A26C-A037ADFC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6AC8-9199-48E4-B320-8FFB57BA1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5659-004C-49FE-82F5-E421CE520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6F91-E761-45F3-A59A-0E81318D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490E-54CE-4607-BF48-A260FA94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6DFA-0AFF-41EF-89F3-E4280178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7FE6-436D-4707-9FA4-983E5BB1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5DB9-23E2-40B1-A123-FC0CB334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9B3E-FC40-4FD4-9842-4CC56E89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161D-63D8-4EF0-B82C-F21DBEF9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2AE-F66A-4053-837C-F57B8E7C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9FDB-2D17-44F6-B973-96D6FF8B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32D-E6FC-4809-9376-11BEC167E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544D-9CF5-43F0-8C67-9AB0F0B2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1C40-48FF-48D2-89CD-579CF7CD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5106-E426-4B99-AB19-59D5BEDB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C25E-CEF4-4BEF-8711-21C422D99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E0A-8F33-4FB6-97BD-09BD5B6B6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B9CF-06FB-4435-B193-A4DBB8BB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163E-DCE8-49B9-B219-26CB6450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8D6A-DB75-422A-9986-CB010A45C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SYCHEDELIC FURS ONLY HAD TWO #1 SONGS: "UNTIL SHE COMES"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66880" y="762120"/>
            <a:ext cx="74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13, WHEN IT WAS 8:00 IN FLORIDA, WHAT TIME WAS IT IN EL PASO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IB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78000" y="762120"/>
            <a:ext cx="83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ELTON JOHN ALBUM NAMED AFTER AN ANIMAL CONTAINED THE #1 HIT SONGS "DON'T LET THE SUN GO DOWN ON ME" AND "BITCH IS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H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-1970 TORONTO MAPLE LEAF DEFENSEMAN PLAYED IN 7 NHL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STA  (RIC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COAST", WHICH STARTS THE NAME OF A CENTRAL AMERICA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J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52320" y="762120"/>
            <a:ext cx="783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PPOSITE W. C. FIELDS IN THE 1941 FILM "NEVER GIVE A SUCKER AN EVEN BREA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(WARS)  (TRE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420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BOTH THE HIGHEST-GROSSING FILM OF 1977 AN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-GROSSING FILM OF 1979, BOTH SCIENCE FICTION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95600" y="762120"/>
            <a:ext cx="5778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LWAUKEE NBA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25480" y="762120"/>
            <a:ext cx="749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13, WHEN IT WAS 8:00 IN FLORIDA, WHAT TIME WAS IT IN EL PASO,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71760" y="762120"/>
            <a:ext cx="600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BEATLES SONG, WHO OWNED A SILVER HA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SYCHEDELIC FURS ONLY HAD TWO #1 SONGS: "UNTIL SHE COMES"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ELTON JOHN ALBUM NAMED AFTER AN ANIMAL CONTAINED THE #1 HIT SONGS "DON'T LET THE SUN GO DOWN ON ME" AND "BITCH IS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-1970 TORONTO MAPLE LEAF DEFENSEMAN PLAYED IN 7 NHL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COAST", WHICH STARTS THE NAME OF A CENTRAL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PPOSITE W. C. FIELDS IN THE 1941 FILM "NEVER GIVE A SUCKER AN EVEN BRE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BOTH THE HIGHEST-GROSSING FILM OF 1977 AN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-GROSSING FILM OF 1979, BOTH SCIENCE FICTIO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LWAUKEE NBA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42960" y="762120"/>
            <a:ext cx="605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BEATLES SONG, WHO OWNED A SILVER HA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20Z</dcterms:modified>
  <cp:revision>351</cp:revision>
  <dc:subject/>
  <dc:title>Slide 1</dc:title>
</cp:coreProperties>
</file>