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B343-C416-4E77-9922-6B252A95C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3205-98C2-4C22-8C31-9F50AD08E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3179-0EA0-48BA-B7B5-8E928AE1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B7DE-2059-479E-AA5A-56EE38A54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E3BB-D6CC-45F8-B00A-E071525D5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B2C6-D49C-44D1-A14D-63CDA79A4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4FBD-FDBB-4962-8A69-EB746C44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D88-BC18-4F05-B2CE-6C2716C06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7B79-61FC-458E-8A86-1325F0C0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0B2-62BF-432D-86FD-8D45E1383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7EBB-5462-49E6-8D6C-F206C7005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7299-28F0-4E47-9230-48A9864A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D1B2-0F05-4C75-B964-BB9E7AA4D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8CF-0D5F-4162-BA35-2D15A333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86C6-B0B1-4A39-8AF7-845FA94F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5E8D-71C5-4CD3-A6D1-5C235F102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EE0E-A3E9-4C6C-AA06-A3141E45B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EE4C-5B71-4D32-B633-D89D13DE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0CEF-220A-4125-83A9-724FB747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0D64-2A98-4E03-9513-9326B13ED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F185-1DDC-403B-8C34-55588222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D6AC-794E-4F5B-ADB9-8B53BFD0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1647-F504-48E7-80BB-4F6130C59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SYCHEDELIC FURS ONLY HAD TWO #1 SONGS: "UNTIL SHE COMES" AND WHAT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66880" y="762120"/>
            <a:ext cx="74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13, WHEN IT WAS 8:00 IN FLORIDA, WHAT TIME WAS IT IN EL PASO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IB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78000" y="762120"/>
            <a:ext cx="83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ELTON JOHN ALBUM NAMED AFTER AN ANIMAL CONTAINED THE #1 HIT SONGS "DON'T LET THE SUN GO DOWN ON ME" AND "BITCH IS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H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-1970 TORONTO MAPLE LEAF DEFENSEMAN PLAYED IN 7 NHL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STA  (RIC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COAST", WHICH STARTS THE NAME OF A CENTRAL AMERICA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J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52320" y="762120"/>
            <a:ext cx="7839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PPOSITE W. C. FIELDS IN THE 1941 FILM "NEVER GIVE A SUCKER AN EVEN BREA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(WARS)  (TRE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420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BOTH THE HIGHEST-GROSSING FILM OF 1977 AN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-GROSSING FILM OF 1979, BOTH SCIENCE FICTION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95600" y="762120"/>
            <a:ext cx="5778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LWAUKEE NBA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25480" y="762120"/>
            <a:ext cx="749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13, WHEN IT WAS 8:00 IN FLORIDA, WHAT TIME WAS IT IN EL PASO,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71760" y="762120"/>
            <a:ext cx="600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BEATLES SONG, WHO OWNED A SILVER HA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SYCHEDELIC FURS ONLY HAD TWO #1 SONGS: "UNTIL SHE COMES" AND WHAT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ELTON JOHN ALBUM NAMED AFTER AN ANIMAL CONTAINED THE #1 HIT SONGS "DON'T LET THE SUN GO DOWN ON ME" AND "BITCH IS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-1970 TORONTO MAPLE LEAF DEFENSEMAN PLAYED IN 7 NHL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COAST", WHICH STARTS THE NAME OF A CENTRAL AMERICAN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PPOSITE W. C. FIELDS IN THE 1941 FILM "NEVER GIVE A SUCKER AN EVEN BREA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BOTH THE HIGHEST-GROSSING FILM OF 1977 AN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-GROSSING FILM OF 1979, BOTH SCIENCE FICTIO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LWAUKEE NBA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42960" y="762120"/>
            <a:ext cx="605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BEATLES SONG, WHO OWNED A SILVER HA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20Z</dcterms:modified>
  <cp:revision>351</cp:revision>
  <dc:subject/>
  <dc:title>Slide 1</dc:title>
</cp:coreProperties>
</file>