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22CF-0982-43D8-8942-AC1F30A5C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08A9-1E79-41B0-A70B-1584CC90F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3327-35E2-4896-BE75-DFC8B5F47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DCF5-64C3-487C-8B5A-2FBD1B2D7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481A-143B-4F3B-8E8B-810CA5BDF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D014-77CD-4981-88D1-8D9DA34CC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31AE-5417-4E94-8DB9-FF5332065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51CC-93BA-491C-9E46-67D2EA2ED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6DD2-0C27-4B90-8F8F-025062037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17A7-E6FE-4C15-A6AE-0CD7FF4B9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B544-F8BA-4033-9C36-39BA0C1FB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8B59-2489-445F-BAFA-237805C72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2EC6-1A6B-411F-B7C3-7BB5FCF62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6BC0-3FD0-4003-982E-3C4EE34CC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1699-EF89-4BC6-AB44-10CD0C8D4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ED43-E42B-4D4B-A2A5-6362067F5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C9E1-D417-4B6D-9771-8CA7F9DB8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EEA9-FD34-4575-9F88-19711464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C96F-C41C-4BEE-900C-648D622F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1732-08B4-4A75-B5D9-1708275B8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8DD7-2EA8-424A-A3FD-1357977D3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8CC7-92B3-4F71-BAAD-A70F39757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2430-6933-488C-B954-E38055DAE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SYCHEDELIC FURS ONLY HAD TWO #1 SONGS: "UNTIL SHE COMES" AND WHAT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: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66880" y="762120"/>
            <a:ext cx="74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13, WHEN IT WAS 8:00 IN FLORIDA, WHAT TIME WAS IT IN EL PASO,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IB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78000" y="762120"/>
            <a:ext cx="8386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ELTON JOHN ALBUM NAMED AFTER AN ANIMAL CONTAINED THE #1 HIT SONGS "DON'T LET THE SUN GO DOWN ON ME" AND "BITCH IS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H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-1970 TORONTO MAPLE LEAF DEFENSEMAN PLAYED IN 7 NHL ALL-STAR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STA  (RIC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COAST", WHICH STARTS THE NAME OF A CENTRAL AMERICAN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  J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52320" y="762120"/>
            <a:ext cx="7839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OPPOSITE W. C. FIELDS IN THE 1941 FILM "NEVER GIVE A SUCKER AN EVEN BREAK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(WARS)  (TRE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420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BOTH THE HIGHEST-GROSSING FILM OF 1977 AND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-GROSSING FILM OF 1979, BOTH SCIENCE FICTION FIL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95600" y="762120"/>
            <a:ext cx="5778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LWAUKEE NBA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25480" y="762120"/>
            <a:ext cx="749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13, WHEN IT WAS 8:00 IN FLORIDA, WHAT TIME WAS IT IN EL PASO,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71760" y="762120"/>
            <a:ext cx="600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BEATLES SONG, WHO OWNED A SILVER HA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SYCHEDELIC FURS ONLY HAD TWO #1 SONGS: "UNTIL SHE COMES" AND WHAT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ELTON JOHN ALBUM NAMED AFTER AN ANIMAL CONTAINED THE #1 HIT SONGS "DON'T LET THE SUN GO DOWN ON ME" AND "BITCH IS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-1970 TORONTO MAPLE LEAF DEFENSEMAN PLAYED IN 7 NHL ALL-STAR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COAST", WHICH STARTS THE NAME OF A CENTRAL AMERICAN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OPPOSITE W. C. FIELDS IN THE 1941 FILM "NEVER GIVE A SUCKER AN EVEN BREA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33360" y="762120"/>
            <a:ext cx="8477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BOTH THE HIGHEST-GROSSING FILM OF 1977 AND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-GROSSING FILM OF 1979, BOTH SCIENCE FICTION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LWAUKEE NBA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42960" y="762120"/>
            <a:ext cx="605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BEATLES SONG, WHO OWNED A SILVER HA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8:20Z</dcterms:modified>
  <cp:revision>351</cp:revision>
  <dc:subject/>
  <dc:title>Slide 1</dc:title>
</cp:coreProperties>
</file>