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0087-5F3A-4BB3-8A5E-E7EF570BE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C023-61C9-4B52-818A-05932C87C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0E80-A699-4D1C-923E-D37C7287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2B14-20A9-4EAF-82B1-360E49D7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63B7-FCEC-4D7C-97C9-E36289E84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0BA-F06B-4D1C-96BF-C4723919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2809-4302-4546-BB55-89653C7D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BBE4-E6AC-411E-A0BB-376D4D96E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1523-4DEE-4386-97D9-D5BCD12B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9322-732E-474F-9BAB-D8672AAE2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9413-8964-44C6-8749-22FE0324D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2898-4BDB-4DBF-A4B1-3059544F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DDDB-A212-4B73-9B5D-B1ED414C0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5514-3DD7-494A-BE41-98ADAC62F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30E9-E23B-4DF4-9E7D-A19C9995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9965-07BD-4534-B80D-9462CA54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DB05-214B-4D9B-99F9-0865A2068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ED2A-6BD4-446A-A533-6A5065AFA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7DB9-E596-4900-B72A-E76C3279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6F0A-2B9F-487D-ACB5-D37E4D0A2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175E-A78D-4810-A45E-7DD00710E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A3A2-FEC2-4456-90BB-333BF5AA6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28C4-8EBC-476D-8A44-CBF42CA9F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RPRISE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508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UCTURE HAD THE DOORS BEL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13992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PRISE!  WHAT DO ALL THES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QUES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G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85920" y="762120"/>
            <a:ext cx="657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, WHAT IS THE NAME OF BLONDIE'S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50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57280" y="762120"/>
            <a:ext cx="802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DECADE        DID REM SLEEP BECOME ASSOCIATED WITH DREAMS?  THE 1930'S, 1940'S OR 19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90400" y="762120"/>
            <a:ext cx="7963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ARS APPEAR ON THE CITY FLAG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560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IS CHAPTERS 6-9 IS MOSTLY ABOUT WHAT BIBLICAL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M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LARGER, MALE OR FEMAL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SH  TEST  DUMM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19160" y="762120"/>
            <a:ext cx="7105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AND WHO SANG "MMM MMM MMM MM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  B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POLICE FIRE AT FLEEING VEHICLES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0160" y="762120"/>
            <a:ext cx="69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IC STRIP, WHAT IS THE NAME OF BLONDIE'S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ICE CREAM FLAVO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RE  DAME  CATHED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909720"/>
            <a:ext cx="499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UCTURE HAD THE DOORS BE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313992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519200" y="4343400"/>
            <a:ext cx="6105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MUSICA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1160" y="76212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RPRISE!  WHAT DO ALL THES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QUESTION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8105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DECADE         DID REM SLEEP BECOME ASSOCIATED WITH DREAMS?  THE 1930'S, 1940'S OR 19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0120" y="762120"/>
            <a:ext cx="794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ARS APPEAR ON THE CITY FLAG OF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SIS CHAPTERS 6-9 IS MOSTLY ABOUT WHAT BIBLICAL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LARGER, MALE OR FEMAL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AND WHO SANG "MMM MMM MMM MM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POLICE FIRE AT FLEEING VEHICLES IN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ICE CREAM FLAVO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31T17:09:02Z</dcterms:modified>
  <cp:revision>445</cp:revision>
  <dc:subject/>
  <dc:title>Slide 1</dc:title>
</cp:coreProperties>
</file>