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EF91-CEDB-4782-B8BB-0635789B6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7BDE-C640-41D0-B97B-85BACCB72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66FC-1775-4B40-AA6C-55F35AEBB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6492-3659-48FA-9A50-47BF142CF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0612-2C90-44F4-9864-4E31D74CF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7261-D728-41A5-83D3-65A2B59ED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B842-684D-469D-8B6F-2B8828481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5BFE-511C-4634-AA57-C5C9ECC90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EE4E-483C-4311-8C26-A7973947A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825F-02D7-4F9F-BCAD-D8378F0F5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6B2A-2677-4CF0-9C6E-B09FD36FB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BBEE-9418-4893-AB8B-720456C40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CAB3-7EDA-4890-B238-2E8397E3F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71BC-AB78-4A79-BA70-77F9FD690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A2ED-E8E0-43DF-B3DF-09A589D76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AD6B-5B4E-4C4E-8FF8-04A7CE1EE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BC33-94E2-438B-9242-1459AF32F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DB56-8B96-4DF4-90F3-19E7A41EC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33BF-98D3-4E28-BB64-F528D50CE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96D3-22B1-4081-A093-3F5E5349F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0812-9DF7-461B-9D60-E4F7F0D2E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15DC-2251-49B8-815B-CF42B80B0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BF2B-1622-4177-BD8A-3759287FD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534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RPRISE        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240" y="914040"/>
            <a:ext cx="5086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RUCTURE HAD THE DOORS BEL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5486400" y="533520"/>
            <a:ext cx="313992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219320" y="762120"/>
            <a:ext cx="6705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RPRISE!  WHAT DO ALL THES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QUESTIO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G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285920" y="762120"/>
            <a:ext cx="6572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COMIC STRIP, WHAT IS THE NAME OF BLONDIE'S HUS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50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557280" y="762120"/>
            <a:ext cx="8029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WHAT DECADE        DID REM SLEEP BECOME ASSOCIATED WITH DREAMS?  THE 1930'S, 1940'S OR 195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590400" y="762120"/>
            <a:ext cx="7963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TARS APPEAR ON THE CITY FLAG OF CHICA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43080" y="48560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ESIS CHAPTERS 6-9 IS MOSTLY ABOUT WHAT BIBLICAL CHARAC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M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790560" y="762120"/>
            <a:ext cx="7562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RE LARGER, MALE OR FEMALE EAG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SH  TEST  DUMM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019160" y="762120"/>
            <a:ext cx="71056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BAND WHO SANG "MMM MMM MMM MM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INT  BA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347760" y="762120"/>
            <a:ext cx="8448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POLICE FIRE AT FLEEING VEHICLES IN JAP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00160" y="762120"/>
            <a:ext cx="6943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COMIC STRIP, WHAT IS THE NAME OF BLONDIE'S HUSB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NI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ICE CREAM FLAVOR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TRE  DAME  CATHED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304920" y="909720"/>
            <a:ext cx="4991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RUCTURE HAD THE DOORS BEL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5486400" y="533520"/>
            <a:ext cx="3139920" cy="41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1519200" y="4343400"/>
            <a:ext cx="6105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NAMES  OF  MUSICAL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1181160" y="762120"/>
            <a:ext cx="67816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RPRISE!  WHAT DO ALL THES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QUESTIO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81040" y="761760"/>
            <a:ext cx="8105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WHAT DECADE         DID REM SLEEP BECOME ASSOCIATED WITH DREAMS?  THE 1930'S, 1940'S OR 195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00120" y="762120"/>
            <a:ext cx="7943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TARS APPEAR ON THE CITY FLAG OF CHICA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14440" y="762120"/>
            <a:ext cx="8115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ESIS CHAPTERS 6-9 IS MOSTLY ABOUT WHAT BIBLICAL CHARAC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RE LARGER, MALE OR FEMALE EAG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BAND WHO SANG "MMM MMM MMM MM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9600" y="762120"/>
            <a:ext cx="8524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POLICE FIRE AT FLEEING VEHICLES IN JAP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33480" y="762120"/>
            <a:ext cx="7277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ICE CREAM FLAVOR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08-31T17:09:02Z</dcterms:modified>
  <cp:revision>445</cp:revision>
  <dc:subject/>
  <dc:title>Slide 1</dc:title>
</cp:coreProperties>
</file>