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4F8E-865D-4AE8-89AD-7B127F19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8F8-395B-4339-80CB-81F972A4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002-9373-4300-8924-B1CCE20E5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DE1B-027E-487E-B6BC-7DC7164E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2FFC-5225-409D-8C33-91DB345F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F8A5-949D-4804-BD7D-CAD2F0BF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AAA-DE6C-4185-8094-1C1CFBC4E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F9D-37D9-4F60-98F0-B3B1CE8DF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5D9-305D-4774-9CE0-4A64EDA33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1F15-F616-4CA7-9BE0-48C5426A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59B-7E0C-45D8-A40F-51B4D64C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7D19-E78F-4563-9E60-8C4C79AD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D573-2652-4947-B1EA-37C2758F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1A82-3430-40F8-AFF1-CE0D2CBB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7B2-6E31-43BC-BE3F-CE6DB7CF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2F3-C605-4CE1-A0DE-0F13ABA0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6D1-9BDA-46CD-B6F7-7046EDA93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1B9-1D3D-4652-833A-1B58ECEE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FE1-78A6-49E5-9798-B2B87C02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0D84-3298-4788-ABF4-12412BBA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455E-4041-4BA9-9E22-7A87BA35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516-5209-4D11-BE5C-9C2D5938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A611-E819-43A0-9CF8-92999F1E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PRIS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508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UCTURE HAD THE DOORS BE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39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!  WHAT DO ALL THES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G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85920" y="762120"/>
            <a:ext cx="657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, WHAT IS THE NAME OF BLONDIE'S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50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DECADE        DID REM SLEEP BECOME ASSOCIATED WITH DREAMS?  THE 1930'S, 1940'S OR 19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0400" y="762120"/>
            <a:ext cx="796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ARS APPEAR ON THE CITY FLAG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560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CHAPTERS 6-9 IS MOSTLY ABOUT WHAT BIBL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LARGER, MALE OR FEMAL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  TEST  DUM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AND WHO SANG "MMM MMM MMM MM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POLICE FIRE AT FLEEING VEHICL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0160" y="762120"/>
            <a:ext cx="69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, WHAT IS THE NAME OF BLONDIE'S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ICE CREAM FLAVO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  DAME  CATHED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909720"/>
            <a:ext cx="499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UCTURE HAD THE DOORS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3992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519200" y="4343400"/>
            <a:ext cx="6105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MUSICA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1160" y="76212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!  WHAT DO ALL THES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DECADE         DID REM SLEEP BECOME ASSOCIATED WITH DREAMS?  THE 1930'S, 1940'S OR 19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0120" y="762120"/>
            <a:ext cx="794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ARS APPEAR ON THE CITY FLAG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CHAPTERS 6-9 IS MOSTLY ABOUT WHAT BIBLICAL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LARGER, MALE OR FEMAL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AND WHO SANG "MMM MMM MMM MM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POLICE FIRE AT FLEEING VEHICLES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ICE CREAM FLAVO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31T17:09:02Z</dcterms:modified>
  <cp:revision>445</cp:revision>
  <dc:subject/>
  <dc:title>Slide 1</dc:title>
</cp:coreProperties>
</file>