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4F33-A04F-45EE-9C3E-16193406D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ACA3-6BA6-4F3E-B1BC-02DCC955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08D2-76AF-4FAD-9E30-BCD423C6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CFC-C34C-4FB1-BACB-21E257B7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2AE7-2E1A-49A7-9AC7-3C65BA7DF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F0FE-C971-4F8B-BC13-B0270FBC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597-B478-400A-BA5B-4EE7183AF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621B-13DB-429E-8FF7-67D0366F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7384-A752-44C3-A74A-C67BFE0AD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12E-1FD8-4852-9E2B-54F0158F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830-89F1-44D7-8104-EA5970E5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550A-CE1C-47FE-AA27-8D5D2A2C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9C47-BC79-42F5-8353-D03C9805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288-BD1F-4FB1-BCAE-2D39CF16D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BA3E-0A46-4DA5-8B44-BFC56960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2A56-6A58-4E81-9889-0BD4AB815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13A2-C373-485F-8800-AF87EB5F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4DC-BC69-43A4-B706-A1B9B491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70D8-934F-4146-A5F0-D6A49568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28B-BB0F-418A-BE5F-C2698B1E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182-7DA1-4D51-956E-36EDE443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E6A-2A10-4CA4-8786-19B6F6B6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D3E1-338D-45A5-ABBB-735C5871B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95320" y="1523880"/>
            <a:ext cx="7353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IUS RUCKER WON A GRAMMY BY COVERING WHAT OLD CROW MEDICINE SHOW SONG WITH AN ALLITERATIVE TITLE THAT WENT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ALONG  THE  WATCH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4760" y="762120"/>
            <a:ext cx="713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THERE MUST BE SOME KIND OF WAY OUTTA HERE SAID THE JOKER TO THE T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  YOU  FEEL  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1560" y="762120"/>
            <a:ext cx="7400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Y JOEL SONG BEGINS "WHEN THE RAIN IS BLOWING IN YOUR 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E WHOLE WORLD IS ON YOUR C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AMBOURINE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OFF THE FIRST ALBUM BY THE BYRDS WAS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N  THE  ESK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FRED MANN SONG CONTAINS THE REFRAIN "COME ALL WITHOUT /  COME ALL WITH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AIN'T  ME  B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6360" y="762120"/>
            <a:ext cx="7991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THE TUR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,  BEGINNING "GO 'WAY FROM MY WINDOW, LEAVE AT YOUR OWN CHOSEN SPEE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JUST  A  FOUR–LETTER 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38120" y="762120"/>
            <a:ext cx="826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7-WORD TITLE, THE LAST OF WHICH IS "WORD", DID JOAN BAEZ RECORD 4 TIME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6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97120" y="4356000"/>
            <a:ext cx="554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  LONG  AS  THE  GRASS  SHALL  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41360" y="774720"/>
            <a:ext cx="826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'S CHORUS BEGINS "AS LONG AS THE MOON SHALL RISE / AS LONG AS THE RIVERS F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01800" y="762120"/>
            <a:ext cx="7338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THERE MUST BE SOME KIND OF WAY OUTTA HERE SAID THE JOKER TO THE THIE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AD  OF  EASY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GER MCGUINN SONG WAS USED FOR THE THEME SONG FOR A 1969 PETER FONDA / DENNIS HOPP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GON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IUS RUCKER WON A GRAMMY BY COVERING WHAT OLD CROW MEDICINE SHOW SONG WITH AN ALLITERATIVE TITLE THAT WENT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ITTEN  BY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Y JOEL SONG BEGINS "WHEN THE RAIN IS BLOWING IN YOUR 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E WHOLE WORLD IS ON YOUR C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OFF THE FIRST ALBUM BY THE BYRDS WAS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FRED MANN SONG CONTAINS THE REFRAIN "COME ALL WITHOUT /  COME ALL WITH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THE TUR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,  BEGINNING "GO 'WAY FROM MY WINDOW, LEAVE AT YOUR OWN CHOSEN SPEED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71520" y="762120"/>
            <a:ext cx="8400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7-WORD TITLE, THE LAST OF WHICH IS "WORD", DID JOAN BAEZ RECORD 4 TIME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6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'S CHORUS BEGINS "AS LONG AS THE MOON SHALL RISE / AS LONG AS THE RIVERS F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GER MCGUINN SONG WAS USED FOR THE THEME SONG FOR A 1969 PETER FONDA / DENNIS HOPP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6:33Z</dcterms:modified>
  <cp:revision>357</cp:revision>
  <dc:subject/>
  <dc:title>Slide 1</dc:title>
</cp:coreProperties>
</file>