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F6685-D360-4983-ABD1-CC385C5FDB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25A4A-92C4-4484-B704-C516C0C85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AABAA-87DD-42EC-8A6C-E8DDC8AEC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E0ED9-38C5-49B3-858A-DD36B87E4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B22B4-3C2B-4C01-8EB8-5CD1D45EF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881AF-15AD-4900-9C03-776C9ABBF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61D82-C84E-4A07-9540-BE3D89F09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37806-56F8-4ED6-A44E-C1ABA0DF0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99812-2415-4E0C-9C90-83D46BCBC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61B17-7D5B-4C81-B266-1B0E1B8E8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07B71-CA00-4513-A8EB-2CED4EDC0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A2695-C06B-4192-814F-35FBD8034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E21AC-645A-4C5C-973D-3FF218FBD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0248B-D1FF-4BED-A679-F6D43732C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BF666-64CC-4F39-A130-60152822A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CE24C-783F-478E-8372-107EEC25E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FD1DD-5268-4F44-8C7C-DA00F5848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E7AC5-C77A-4170-A7A0-018BDDB32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94D52-6F1E-4B64-BEE7-C02CE2E63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8CD2C-0F3E-4FC7-8264-2637000EE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3ED5F-79BC-49BE-AE11-A0EAB2091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431CD-8DB9-41FA-AD79-45DC90EE9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E1B56-77DA-40A3-A5E8-AEA8FC00F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95320" y="1523880"/>
            <a:ext cx="73533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NG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ARIUS RUCKER WON A GRAMMY BY COVERING WHAT OLD CROW MEDICINE SHOW SONG WITH AN ALLITERATIVE TITLE THAT WENT PLATINU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SONG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609480" y="4876920"/>
            <a:ext cx="7925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L  ALONG  THE  WATCHT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04760" y="762120"/>
            <a:ext cx="71344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IMI HENDRIX SONG BEGINS "THERE MUST BE SOME KIND OF WAY OUTTA HERE SAID THE JOKER TO THE THIEF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9800"/>
            <a:ext cx="82296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KE  YOU  FEEL  MY  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71560" y="762120"/>
            <a:ext cx="7400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ILLY JOEL SONG BEGINS "WHEN THE RAIN IS BLOWING IN YOUR F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D THE WHOLE WORLD IS ON YOUR CAS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R.  TAMBOURINE  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ITLE TRACK OFF THE FIRST ALBUM BY THE BYRDS WAS A #1 HIT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752480" y="4876920"/>
            <a:ext cx="5639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INN  THE  ESKI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NFRED MANN SONG CONTAINS THE REFRAIN "COME ALL WITHOUT /  COME ALL WITHI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T  AIN'T  ME  BA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76360" y="762120"/>
            <a:ext cx="79912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WAS THE TURTLES'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OP-10 HIT,  BEGINNING "GO 'WAY FROM MY WINDOW, LEAVE AT YOUR OWN CHOSEN SPEED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752480" y="4343400"/>
            <a:ext cx="56390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marL="202320" indent="-202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VE  IS  JUST  A  FOUR–LETTER  W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38120" y="762120"/>
            <a:ext cx="82677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WITH A 7-WORD TITLE, THE LAST OF WHICH IS "WORD", DID JOAN BAEZ RECORD 4 TIMES,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IN 1968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797120" y="4356000"/>
            <a:ext cx="554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S  LONG  AS  THE  GRASS  SHALL  GR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41360" y="774720"/>
            <a:ext cx="8261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OHNNY CASH SONG'S CHORUS BEGINS "AS LONG AS THE MOON SHALL RISE / AS LONG AS THE RIVERS FLOW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01800" y="762120"/>
            <a:ext cx="7338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IMI HENDRIX SONG BEGINS "THERE MUST BE SOME KIND OF WAY OUTTA HERE SAID THE JOKER TO THE THIEF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044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LLAD  OF  EASY  RI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000080" y="762120"/>
            <a:ext cx="7143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GER MCGUINN SONG WAS USED FOR THE THEME SONG FOR A 1969 PETER FONDA / DENNIS HOPPER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GON  WHE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33520" y="762120"/>
            <a:ext cx="81532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ARIUS RUCKER WON A GRAMMY BY COVERING WHAT OLD CROW MEDICINE SHOW SONG WITH AN ALLITERATIVE TITLE THAT WENT PLATIN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762120" y="4876920"/>
            <a:ext cx="76197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RITTEN  BY  BOB  DY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SONG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85960" y="761760"/>
            <a:ext cx="7372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ILLY JOEL SONG BEGINS "WHEN THE RAIN IS BLOWING IN YOUR FA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D THE WHOLE WORLD IS ON YOUR CAS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ITLE TRACK OFF THE FIRST ALBUM BY THE BYRDS WAS A #1 HIT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NFRED MANN SONG CONTAINS THE REFRAIN "COME ALL WITHOUT /  COME ALL WITHI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WAS THE TURTLES'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OP-10 HIT,  BEGINNING "GO 'WAY FROM MY WINDOW, LEAVE AT YOUR OWN CHOSEN SPEED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71520" y="762120"/>
            <a:ext cx="840096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WITH A 7-WORD TITLE, THE LAST OF WHICH IS "WORD", DID JOAN BAEZ RECORD 4 TIMES,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IN 1968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38120" y="761760"/>
            <a:ext cx="82677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OHNNY CASH SONG'S CHORUS BEGINS "AS LONG AS THE MOON SHALL RISE / AS LONG AS THE RIVERS FLOW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2007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GER MCGUINN SONG WAS USED FOR THE THEME SONG FOR A 1969 PETER FONDA / DENNIS HOPPER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2T18:03:49Z</dcterms:created>
  <dc:creator>Jennifer Budzinski</dc:creator>
  <dc:description/>
  <dc:language>en-US</dc:language>
  <cp:lastModifiedBy>Erich Friedman</cp:lastModifiedBy>
  <dcterms:modified xsi:type="dcterms:W3CDTF">2020-09-01T00:36:33Z</dcterms:modified>
  <cp:revision>357</cp:revision>
  <dc:subject/>
  <dc:title>Slide 1</dc:title>
</cp:coreProperties>
</file>