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10B1-89B6-4B6C-85F0-0EF1214C7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2B34-7A4B-4C86-A595-215B7BAC6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4379-5043-44A4-BA34-7EE51985D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7943-E3A8-4BB3-87F6-8B7C41B13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B878-9DB3-45BE-9354-1995FD05B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1F8B-0034-4CE7-B885-F9D4FECC2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4F92-7770-464F-8471-B10DEB641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A5F3-2845-4C0B-8F85-6DE5FB013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071C-F33C-4F2A-8693-CF1B4ACF0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7DE5-CBF4-46FD-981B-BD45F62D8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E448-72FE-43A9-941A-E1501E60D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3AA6-8220-4D04-B5BD-A39DBB964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1F9D-F10A-4790-A4B0-088610189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0405-9E41-45DE-994A-5D5872BE2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4AD1-558A-4046-B2CA-005FAF842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2EDB-DA4C-4AAE-A1C6-9F7C70A82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457D-9509-4013-813C-8D99A3F60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7C7F-35EC-4CDF-AD1F-33DCA8C09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F043-7121-4FAC-A0B1-78C6C6A2A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7F83-2CC2-4C6D-AD07-520BDCAE3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3936-EEC6-4FFE-9375-0A8D6D247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C870-5166-4627-966A-C3624D953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BEC9-4FEB-48E7-9509-71CC02A14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95320" y="1523880"/>
            <a:ext cx="7353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RIUS RUCKER WON A GRAMMY BY COVERING WHAT OLD CROW MEDICINE SHOW SONG WITH AN ALLITERATIVE TITLE THAT WENT PLATIN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609480" y="48769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  ALONG  THE  WATCHT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04760" y="762120"/>
            <a:ext cx="7134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I HENDRIX SONG BEGINS "THERE MUST BE SOME KIND OF WAY OUTTA HERE SAID THE JOKER TO THE THIE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KE  YOU  FEEL  MY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1560" y="762120"/>
            <a:ext cx="7400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LLY JOEL SONG BEGINS "WHEN THE RAIN IS BLOWING IN YOUR 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THE WHOLE WORLD IS ON YOUR CA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R.  TAMBOURINE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TRACK OFF THE FIRST ALBUM BY THE BYRDS WAS A #1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NN  THE  ESKI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NFRED MANN SONG CONTAINS THE REFRAIN "COME ALL WITHOUT /  COME ALL WITH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  AIN'T  ME  BA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6360" y="762120"/>
            <a:ext cx="7991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AS THE TURTLES'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P-10 HIT,  BEGINNING "GO 'WAY FROM MY WINDOW, LEAVE AT YOUR OWN CHOSEN SPEED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752480" y="4343400"/>
            <a:ext cx="5639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VE  IS  JUST  A  FOUR–LETTER  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38120" y="762120"/>
            <a:ext cx="82677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ITH A 7-WORD TITLE, THE LAST OF WHICH IS "WORD", DID JOAN BAEZ RECORD 4 TIMES,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 1968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797120" y="4356000"/>
            <a:ext cx="554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  LONG  AS  THE  GRASS  SHALL  G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41360" y="774720"/>
            <a:ext cx="8261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NY CASH SONG'S CHORUS BEGINS "AS LONG AS THE MOON SHALL RISE / AS LONG AS THE RIVERS FL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01800" y="762120"/>
            <a:ext cx="7338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IMI HENDRIX SONG BEGINS "THERE MUST BE SOME KIND OF WAY OUTTA HERE SAID THE JOKER TO THE THIE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04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LLAD  OF  EASY  R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00080" y="762120"/>
            <a:ext cx="7143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GER MCGUINN SONG WAS USED FOR THE THEME SONG FOR A 1969 PETER FONDA / DENNIS HOPPER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GON  WH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ARIUS RUCKER WON A GRAMMY BY COVERING WHAT OLD CROW MEDICINE SHOW SONG WITH AN ALLITERATIVE TITLE THAT WENT PLATIN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RITTEN  BY  BOB  DY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85960" y="761760"/>
            <a:ext cx="7372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LLY JOEL SONG BEGINS "WHEN THE RAIN IS BLOWING IN YOUR F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D THE WHOLE WORLD IS ON YOUR CA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TRACK OFF THE FIRST ALBUM BY THE BYRDS WAS A #1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NFRED MANN SONG CONTAINS THE REFRAIN "COME ALL WITHOUT /  COME ALL WITH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AS THE TURTLES'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P-10 HIT,  BEGINNING "GO 'WAY FROM MY WINDOW, LEAVE AT YOUR OWN CHOSEN SPEED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71520" y="762120"/>
            <a:ext cx="84009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ITH A 7-WORD TITLE, THE LAST OF WHICH IS "WORD", DID JOAN BAEZ RECORD 4 TIMES,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 1968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38120" y="761760"/>
            <a:ext cx="8267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HNNY CASH SONG'S CHORUS BEGINS "AS LONG AS THE MOON SHALL RISE / AS LONG AS THE RIVERS FL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200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GER MCGUINN SONG WAS USED FOR THE THEME SONG FOR A 1969 PETER FONDA / DENNIS HOPPER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9-01T00:36:33Z</dcterms:modified>
  <cp:revision>357</cp:revision>
  <dc:subject/>
  <dc:title>Slide 1</dc:title>
</cp:coreProperties>
</file>