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309B-BA1F-42CE-B8EE-690682C0F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B5B0-6172-4CCD-AE6B-6889652D7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E2B5-1A89-49AC-A5C1-F7E1E4F10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937E-FD44-4B29-8950-548B18C16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713B-D528-421C-89C0-C15D4E27B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CFF9-4174-43FC-8FDE-1512D9309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5A34-0F6A-40BD-89DF-63B5B7672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246D-BAE3-4216-BFA5-6ED0BC478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DF59-E071-406C-809E-1CF950A18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2B7B-4B64-4545-A674-597803585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82E7-AD96-4EEB-9F4B-F1DC2DB15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87E8-0AF8-4F70-9F2B-B9F2BF78A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7231-219B-438E-AED2-A1EB009C3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FC0A-83B9-44AF-9DA5-A520F2067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236D-33A2-4ECB-A787-0007ED4CD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40B2-EC5F-4F7F-B3F2-B112D89B8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FE26-5C24-4E88-8D90-EF0CB5D58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B06C-AD44-4738-9915-374E2713E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BF1C-B858-4440-A28D-F4CEA6A32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5D75-56C3-4CEE-8A56-B18A1ECF2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2A8A-6DD2-4E4F-96AA-B8200CFF7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9BE6-588F-426F-BC5D-EBF0A5121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A01D-8D03-415B-A919-83C27B6C2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1988 CLINT EASTWOOD FILM ABOUT CHARLIE PAR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47600" y="762120"/>
            <a:ext cx="7048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HOW STARS MICHAEL WEATHERLY AS A TRIAL CONSULT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9800"/>
            <a:ext cx="822960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52480" y="762120"/>
            <a:ext cx="7439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CITIZEN KANE", WHAT IS "ROSEBU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.S. CROP EX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6 FLAVORS OF QUARK ARE CHARM, STRANGE, BOTTOM, UP, DOWN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95160" y="762120"/>
            <a:ext cx="7753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MOST COMMON POSITIONS IN BASKETBALL ARE FORWARD, CENTER, AND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762120"/>
            <a:ext cx="74678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AZINE'S MASCOT IS ALFRED E. NEUMA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68240" y="774720"/>
            <a:ext cx="7607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5-LETTER WORD STARTING WITH THE LETTER "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05040" y="762120"/>
            <a:ext cx="7333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BS SHOW STARS MICHAEL WEATHERLY AS A TRIAL CONSULT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  (WHEEL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95320" y="762120"/>
            <a:ext cx="7353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MAIN COMPETITOR TO MATCHBOX DIE-CAST CARS FROM 1968 TO 199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3352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1988 CLINT EASTWOOD FILM ABOUT CHARLIE PAR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52480" y="4343400"/>
            <a:ext cx="56390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DOG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CITIZEN KANE", WHAT IS "ROSEBU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.S. CROP EX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6 FLAVORS OF QUARK ARE CHARM, STRANGE, BOTTOM, UP, DOWN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REE MOST COMMON POSITIONS IN BASKETBALL ARE FORWARD, CENTER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GAZINE'S MASCOT IS ALFRED E. NEUMA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ITTEN ENGLISH, WHAT IS THE MOST COMMON 5-LETTER WORD STARTING WITH THE LETTER "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MAIN COMPETITOR TO MATCHBOX DIE-CAST CARS FROM 1968 TO 199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8:03:49Z</dcterms:created>
  <dc:creator>Jennifer Budzinski</dc:creator>
  <dc:description/>
  <dc:language>en-US</dc:language>
  <cp:lastModifiedBy>Erich Friedman</cp:lastModifiedBy>
  <dcterms:modified xsi:type="dcterms:W3CDTF">2020-09-01T00:36:52Z</dcterms:modified>
  <cp:revision>349</cp:revision>
  <dc:subject/>
  <dc:title>Slide 1</dc:title>
</cp:coreProperties>
</file>