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1F19-203C-4DCF-BCF4-A41C36F9B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7744-1D69-4C85-9B12-708478044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9321-ACC5-42F9-AEEF-C31108A9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9E92-F3A5-4232-900F-84DC6D46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77DB-9EC6-4B37-9735-9553EC0B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A490-3E5D-4B6F-89CD-4618DD75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5051-190D-4644-862C-7A851416F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6EF7-04CA-46F9-9BA1-E54809214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7032-C224-4F41-84A6-39488B867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4AAB-3C14-4B8E-AEC7-FDBBF23E8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C0E-4EA6-46B5-8EAD-D4541E8F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82DC-B050-423D-A777-BC81D5C9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D8A5-0166-4E50-90A5-5F5B28E96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793D-CAD9-44AA-B20C-2C85C005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325D-5AAF-48FC-B97F-C26EFBF3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19C3-2F84-4B5B-AFFA-149C9542D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E119-863D-4B34-AA2A-594C469A4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07D6-AFE2-4DD5-81BC-5C07B982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9DDB-13D4-48B0-9BE4-2381F35FE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4FE9-B8FD-4025-BBFC-82AF49B8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1075-7ACA-48CC-97A7-135365522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669B-E1DE-4B8E-AD9E-3D627FCD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309B-D30C-43B0-A7AD-45EF78BF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988 CLINT EASTWOOD FILM ABOUT CHARLIE PAR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47600" y="762120"/>
            <a:ext cx="7048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2480" y="762120"/>
            <a:ext cx="7439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CITIZEN KANE", WHAT IS "ROSEB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ROP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CHARM, STRANGE, BOTTOM, UP, DOWN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5160" y="762120"/>
            <a:ext cx="775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OST COMMON POSITIONS IN BASKETBALL ARE FORWARD, CENTER, AN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MASCOT IS ALFRED E. NEUM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8240" y="774720"/>
            <a:ext cx="760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THE LETTER "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(WHEE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95320" y="762120"/>
            <a:ext cx="735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MAIN COMPETITOR TO MATCHBOX DIE-CAST CARS FROM 1968 TO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988 CLINT EASTWOOD FILM ABOUT CHARLIE PAR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DO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CITIZEN KANE", WHAT IS "ROSEB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ROP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CHARM, STRANGE, BOTTOM, UP, DOWN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OST COMMON POSITIONS IN BASKETBALL ARE FORWARD, CENT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MASCOT IS ALFRED E. NEUM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THE LETTER "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MAIN COMPETITOR TO MATCHBOX DIE-CAST CARS FROM 1968 TO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36:52Z</dcterms:modified>
  <cp:revision>349</cp:revision>
  <dc:subject/>
  <dc:title>Slide 1</dc:title>
</cp:coreProperties>
</file>