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C7F2-7B56-4793-BE39-5786EA27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C860-594F-43F7-950B-C31D0FB3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8D7-A2DD-4D5F-A2BF-BF5DA356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ADB-A904-412C-876A-D91CD018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2959-4B09-4671-89AC-6652F47F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4852-AF33-4048-8A4B-9C1F1B99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2236-0E3E-4C9B-B9E6-7E83D281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435-C5D8-4FA7-A8E1-8EF3F3DB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535-1FEC-4003-A765-383EE384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06AD-0477-40D2-A18C-B17B1D22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740-5505-47B5-9B77-06FB351E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1CF-655E-4B28-8990-6B704BAF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C6F-9ABA-44BA-8F9C-30F5BC81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3B8-7C75-4E47-BCBD-2A6037E0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F1FD-2824-4693-8712-C4CDD444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A3BA-5BF3-473C-AD48-DE8CCD6A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6080-C9DF-4AE5-B9F6-B1DAEB32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E93-545A-4552-967D-78AD1BE4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53C0-02CE-4514-905B-E49D4C3B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2934-ED95-4B2A-82C2-388A4115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F9F-AC76-440E-B7D4-74F30F12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1854-1B63-4529-8FB5-0C7802E0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DF4-C9EE-4EA1-B16A-F795774CC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2480" y="762120"/>
            <a:ext cx="7439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8240" y="774720"/>
            <a:ext cx="760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(WHE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5320" y="762120"/>
            <a:ext cx="735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DO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52Z</dcterms:modified>
  <cp:revision>349</cp:revision>
  <dc:subject/>
  <dc:title>Slide 1</dc:title>
</cp:coreProperties>
</file>