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7207-1F1C-4BB7-BD65-6FCE8979C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E01A-B4CD-444A-9E60-E0954E243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82D5-C2CA-452C-A6D8-30DDBCD5D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49A6-917F-4F47-8F4A-1884761B0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3FC5-7C48-474A-8A7E-FB993DBEB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6438-96E2-44F8-B335-5B18C2AAB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2930-0858-4284-9654-257DA71AD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8B4A-D47F-4636-B92D-1830A2058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1029-76ED-451B-9A28-FB7568C72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F4C1-DD03-4685-A0AB-81B4DFAA9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0345-6474-4C67-924C-A1EFBE3F3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17CC-F839-4B97-B0A1-A2FB03EF3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E605-7EE8-4480-B9EF-FB1F820BB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2252-1ACA-4FE2-953B-9244E50F2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CD93-81EE-48EF-9458-4535C0DF9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4568-9948-406A-8035-1057BB0D8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EC3D-DBC9-40B4-B17D-447FC8858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0F7D-C9AC-4EFB-A242-BF0B80D6B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44F2-61CD-404A-BA62-99D02F3F0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C919-181E-4A6A-8D13-83AAC4636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95A5-1CE6-4FDA-8E41-B46DAA042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6FAE-A4F7-439D-95C4-4D3A34F2A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52F8-AA01-4CC0-A03D-E65526AFF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RTIFICATION DOES AN ALBUM GET IF IT SELLS MORE THAN A MILLION COP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6840" y="487692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DIE  MERC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QU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F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ARLY JAMES BOND FILM STARRING SEAN CONNERY WAS ABOUT FOILING A    THEFT OF FORT KNO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512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  TIN  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2216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SHEPHERD RESCUED FROM A WWI BATTLEFIELD WENT ON TO MAKE 27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EMY  I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BEST ACTOR OSCAR FOR PORTRAYING CLAUS VON BÜLOW IN "REVERSAL OF FORTU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LONE RANGER'S HO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0440" y="48006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YP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PLANET WAS SUPERMAN B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EARLY 1800'S, NYC POLICEMEN WORE BADGES MADE OF WHAT MATERIAL, WHICH BECAME A SLANG NAME FOR A POLIC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QUE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SENIC  AND  OLD  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19200" y="762120"/>
            <a:ext cx="7905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4 COMEDY FILM ABOUT POISONING WAS DIRECTED BY FRANK CAPRA AND STARRED CARY GR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TI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RTIFICATION DOES AN ALBUM GET IF IT SELLS MORE THAN A MILLION COP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5800" y="4800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CHEMICAL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ARLY JAMES BOND FILM STARRING SEAN CONNERY WAS ABOUT FOILING A   THEFT OF FORT KNO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SHEPHERD RESCUED FROM A WWI BATTLEFIELD WENT ON TO MAKE 27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BEST ACTOR OSCAR FOR PORTRAYING CLAUS VON BÜLOW IN "REVERSAL OF FORTU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LONE RANGER'S HO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PLANET WAS SUPERMAN B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EARLY 1800'S, NYC POLICEMEN WORE BADGES MADE OF WHAT MATERIAL, WHICH BECAME A SLANG NAME FOR A POLICE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4 COMEDY FILM ABOUT POISONING WAS DIRECTED BY FRANK CAPRA AND STARRED CARY GR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6T17:38:27Z</dcterms:created>
  <dc:creator>Jennifer Budzinski</dc:creator>
  <dc:description/>
  <dc:language>en-US</dc:language>
  <cp:lastModifiedBy>Erich Friedman</cp:lastModifiedBy>
  <dcterms:modified xsi:type="dcterms:W3CDTF">2020-08-24T17:45:52Z</dcterms:modified>
  <cp:revision>399</cp:revision>
  <dc:subject/>
  <dc:title>Slide 1</dc:title>
</cp:coreProperties>
</file>