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0F8F4-CFB8-4394-A525-51AF4D47B5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CC079-96C1-4998-896E-83B9A0EBCE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701C1-1708-434E-883E-4E246A2748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BB156-B760-41D7-BD22-877650902E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0AF77-A712-4609-BA72-88C7F9CDF2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53752-938C-4793-B1A4-9791961D7C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44AB7-A693-4076-92E9-75A910F7EB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7EC54-F0B9-4639-BE14-97711DA83F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0A42F-C574-49C9-8232-84E6A993CD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32A45-20B2-46DF-979A-D5BA2DF9CA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06598-2896-47ED-AAEE-0B5757A3D3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3B30D-A182-4A92-8505-99AEC4C86E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01313-6BA8-489F-8823-6E5256E29B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99C27-DCFC-4211-9A23-6077379DD1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16E80-66EF-4771-95C3-72EC1401F0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8A599-4E0E-4C77-929E-7FD10D23CA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11B13-A50F-4499-B1A3-20A9F2CF09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9454A-08AE-406C-A1E9-6EBB83BB3D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C30A5-023C-45F3-8ECA-08E8A32587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6EFC5-9CF8-452F-88F9-D4D1F6CA2F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50D22-5E10-47D7-8FA0-E404AAEE4C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8E547-2497-419C-AEC1-B48EEEDF69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57717-6685-4B0D-96A1-C0D37AED0A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600200" y="1523880"/>
            <a:ext cx="5943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495360" y="761760"/>
            <a:ext cx="81532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ERTIFICATION DOES AN ALBUM GET IF IT SELLS MORE THAN A MILLION COPIE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996840" y="4876920"/>
            <a:ext cx="716292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REDDIE  MERCU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1028880" y="762120"/>
            <a:ext cx="708660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LEAD SINGER FOR "QUEEN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88160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OLDFING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457200" y="762120"/>
            <a:ext cx="82296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EARLY JAMES BOND FILM STARRING SEAN CONNERY WAS ABOUT FOILING A    THEFT OF FORT KNOX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380880" y="4875120"/>
            <a:ext cx="838224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IN  TIN  T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990720" y="722160"/>
            <a:ext cx="71625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GERMAN SHEPHERD RESCUED FROM A WWI BATTLEFIELD WENT ON TO MAKE 27 FILM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43080" y="4876920"/>
            <a:ext cx="84582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EREMY  IR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685800" y="7621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ON A BEST ACTOR OSCAR FOR PORTRAYING CLAUS VON BÜLOW IN "REVERSAL OF FORTUN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1143000" y="4800600"/>
            <a:ext cx="6858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ILV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647640" y="762120"/>
            <a:ext cx="784872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NAME OF THE LONE RANGER'S HORS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190440" y="4800600"/>
            <a:ext cx="87631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KRYPT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876240" y="762120"/>
            <a:ext cx="73915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N WHAT PLANET WAS SUPERMAN BOR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43000" y="4876920"/>
            <a:ext cx="6858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OPP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647640" y="762120"/>
            <a:ext cx="784872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THE EARLY 1800'S, NYC POLICEMEN WORE BADGES MADE OF WHAT MATERIAL, WHICH BECAME A SLANG NAME FOR A POLICEMA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990720" y="762120"/>
            <a:ext cx="716256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LEAD SINGER FOR "QUEEN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380880" y="4876920"/>
            <a:ext cx="838224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RSENIC  AND  OLD  LA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619200" y="762120"/>
            <a:ext cx="790560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44 COMEDY FILM ABOUT POISONING WAS DIRECTED BY FRANK CAPRA AND STARRED CARY GRAN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LATINU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533520" y="762120"/>
            <a:ext cx="807696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ERTIFICATION DOES AN ALBUM GET IF IT SELLS MORE THAN A MILLION COPI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685800" y="480060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ONTAIN  CHEMICAL ELE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EARLY JAMES BOND FILM STARRING SEAN CONNERY WAS ABOUT FOILING A   THEFT OF FORT KNOX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1028880" y="762120"/>
            <a:ext cx="7086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GERMAN SHEPHERD RESCUED FROM A WWI BATTLEFIELD WENT ON TO MAKE 27 FILM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762120" y="762120"/>
            <a:ext cx="761976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ON A BEST ACTOR OSCAR FOR PORTRAYING CLAUS VON BÜLOW IN "REVERSAL OF FORTUNE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571320" y="762120"/>
            <a:ext cx="800100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NAME OF THE LONE RANGER'S HORS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609480" y="761760"/>
            <a:ext cx="792504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N WHAT PLANET WAS SUPERMAN BOR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799920" y="761760"/>
            <a:ext cx="75438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THE EARLY 1800'S, NYC POLICEMEN WORE BADGES MADE OF WHAT MATERIAL, WHICH BECAME A SLANG NAME FOR A POLICEMA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609480" y="762120"/>
            <a:ext cx="792504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44 COMEDY FILM ABOUT POISONING WAS DIRECTED BY FRANK CAPRA AND STARRED CARY GRAN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26T17:38:27Z</dcterms:created>
  <dc:creator>Jennifer Budzinski</dc:creator>
  <dc:description/>
  <dc:language>en-US</dc:language>
  <cp:lastModifiedBy>Erich Friedman</cp:lastModifiedBy>
  <dcterms:modified xsi:type="dcterms:W3CDTF">2020-08-24T17:45:52Z</dcterms:modified>
  <cp:revision>399</cp:revision>
  <dc:subject/>
  <dc:title>Slide 1</dc:title>
</cp:coreProperties>
</file>