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B18D-749C-4543-9D73-E58C0DB0D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1713-C76E-41DB-9291-E8FC72A8D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385-8128-4422-AE98-BB6879A6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B5FF-2510-40E7-A2E8-7F9B1864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996C-848B-4CA7-B00C-85CC9CD7A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5B32-5508-446D-89A0-3DD375DC3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ED52-B751-4BB6-A5B9-2C6BF59D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F5BD-A9C1-4C2D-AC12-DEEBDB109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1B22-0763-49C9-AD11-91D648C3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5587-4866-4CAE-9129-7EC3848A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CC17-5449-4FF7-8864-F8ED937C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9406-358C-485E-864E-8CDE7B58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9321-F422-461F-A765-B2FDDD4C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877F-5BB9-4429-A192-F648A28B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DD0-E728-41D0-8CF7-073847663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094-2B1F-4F70-94F9-7EBD675DC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230-F1EF-4C84-BF9B-88F6DA65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453A-A32E-4397-AF06-A1C966A2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B7F5-4A40-4DB0-AAE2-354A4F80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A6F-C921-4289-BB7D-51305FB2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84C9-1F75-473B-902E-59C6B05E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9FEF-8822-453A-8514-313E3D396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2F7C-A028-4BAD-9A06-0200408E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TIFICATION DOES AN ALBUM GET IF IT SELLS MORE THAN A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684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RLY JAMES BOND FILM STARRING SEAN CONNERY WAS ABOUT FOILING A    THEFT OF FORT KN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51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  TIN  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2216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SHEPHERD RESCUED FROM A WWI BATTLEFIELD WENT ON TO MAKE 2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Y  I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OR OSCAR FOR PORTRAYING CLAUS VON BÜLOW IN "REVERSA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ONE RANGER'S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006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Y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ANET WAS SUPERMAN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ARLY 1800'S, NYC POLICEMEN WORE BADGES MADE OF WHAT MATERIAL, WHICH BECAME A SLANG NAME FOR A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QU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C  AND  OLD  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COMEDY FILM ABOUT POISONING WAS DIRECTED BY FRANK CAPRA AND STARRED CARY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TIFICATION DOES AN ALBUM GET IF IT SELLS MORE THAN A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0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HEMICAL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RLY JAMES BOND FILM STARRING SEAN CONNERY WAS ABOUT FOILING A   THEFT OF FORT KN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SHEPHERD RESCUED FROM A WWI BATTLEFIELD WENT ON TO MAKE 2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OR OSCAR FOR PORTRAYING CLAUS VON BÜLOW IN "REVERSAL OF FORTU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ONE RANGER'S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ANET WAS SUPERMAN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ARLY 1800'S, NYC POLICEMEN WORE BADGES MADE OF WHAT MATERIAL, WHICH BECAME A SLANG NAME FOR A POLIC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COMEDY FILM ABOUT POISONING WAS DIRECTED BY FRANK CAPRA AND STARRED CARY G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7:38:27Z</dcterms:created>
  <dc:creator>Jennifer Budzinski</dc:creator>
  <dc:description/>
  <dc:language>en-US</dc:language>
  <cp:lastModifiedBy>Erich Friedman</cp:lastModifiedBy>
  <dcterms:modified xsi:type="dcterms:W3CDTF">2020-08-24T17:45:52Z</dcterms:modified>
  <cp:revision>399</cp:revision>
  <dc:subject/>
  <dc:title>Slide 1</dc:title>
</cp:coreProperties>
</file>