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D575-2F80-491E-8910-CB4DB0D41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6D25-4C85-4C4F-B3BF-2F62DDDE1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D75A-2ED8-4884-9931-0D37ED975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1729-32DC-4C70-BD00-3C1547778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90C9-FEC6-4DA3-BEC4-C7B2DC650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E3A0-6CF2-40B1-94DA-959CBE36A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74C1-A281-473F-8F92-753142E39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3E28-CB8A-4ADA-A190-58AAB6968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9720-7604-45B2-B10B-E3CFCD5AD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560E-204A-4C72-884C-B56DE121C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BD5C-366D-4A66-A565-E1F2F877B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832C-8C75-4D2F-8E83-5B3CC0701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7507-C56B-4932-A54F-50A8649D3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FF4A-2A5E-41E9-BA87-B02433790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4473-D3BC-45F7-B225-5B4390127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20F2-3814-4240-B00B-43ABB34F2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520C-2581-4EDE-81F6-B1A16ECD4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B790-C0A5-40C8-9F2C-1ACEAA5E9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E2A3-8583-4898-BF8B-5A227F14D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3C54-71C4-4868-9452-55234DA26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B575-54CB-44C0-9738-A99300397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34FE-1511-47D6-81A9-9B8D8D9E0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2F2E-2927-4F6D-8020-E98DC453C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NGELA MERKEL'S TITLE IN THE GERMAN GOVERN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KE  WOODRU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209520" y="762120"/>
            <a:ext cx="8724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DY OF WATER IS 5 MILES SOUTH OF BARBERVIL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9800"/>
            <a:ext cx="82296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NIE  LEE  COCHR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0120" y="762120"/>
            <a:ext cx="7943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WYER REPRESENTED O.J. SIMPSON, SNOOP DOG, MICHAEL JACKSON, AND TUPAC SHAKU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IE  BRINK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PPEARED IN SEVERAL OF BILLY JOEL'S MUSIC VIDEOS WHEN SHE WAS MARRIED TO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RENA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IVE FEMALE TENNIS PLAYER HAS WON THE MOST MAJ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HO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95440" y="762120"/>
            <a:ext cx="7953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CHNICAL TERM FOR AN OTTER'S DE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981080" y="4343400"/>
            <a:ext cx="5181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DVENTURES  OF  TOM  SAW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K TWAIN BOOK WAS HIS BEST-SELLING WORK DURING HIS LIFETIM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556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MU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556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FATHER OF THE NATIONAL PARKS" CO-FOUNDED THE SIERRA CLU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81080" y="762120"/>
            <a:ext cx="8781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DY OF WATER IS 5 MILES SOUTH OF BARBERVIL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6900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'D  RATHER  LOVE 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24000" y="762120"/>
            <a:ext cx="8496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LIE PRIDE #1 SONG BEGINS "IF TONIGHT SHOULD BE OUR LAST NIGHT TOGETHER I'M NOT SORRY THAT WE FELL IN LOVE AT A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NCEL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153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NGELA MERKEL'S TITLE IN THE GERMAN GOVERN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62120" y="43434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AST  NAMES  OF  EVENING  NEWSCA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52600" y="761760"/>
            <a:ext cx="8038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WYER REPRESENTED O.J. SIMPSON, SNOOP DOG, MICHAEL JACKSON, AND TUPAC SHAKU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PPEARED IN SEVERAL OF BILLY JOEL'S MUSIC VIDEOS WHEN SHE WAS MARRIED TO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IVE FEMALE TENNIS PLAYER HAS WON THE MOST MAJO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19200" y="761760"/>
            <a:ext cx="7905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CHNICAL TERM FOR AN OTTER'S D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90400" y="762120"/>
            <a:ext cx="79632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K TWAIN BOOK WAS HIS BEST-SELLING WORK DURING HIS LIFE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FATHER OF THE NATIONAL PARKS" CO-FOUNDED THE SIERRA CLU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LIE PRIDE #1 SONG BEGINS "IF TONIGHT SHOULD BE OUR LAST NIGHT TOGETHER I'M NOT SORRY THAT WE FELL IN LOVE AT A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8:03:49Z</dcterms:created>
  <dc:creator>Jennifer Budzinski</dc:creator>
  <dc:description/>
  <dc:language>en-US</dc:language>
  <cp:lastModifiedBy>Erich Friedman</cp:lastModifiedBy>
  <dcterms:modified xsi:type="dcterms:W3CDTF">2020-09-01T00:37:17Z</dcterms:modified>
  <cp:revision>348</cp:revision>
  <dc:subject/>
  <dc:title>Slide 1</dc:title>
</cp:coreProperties>
</file>