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E52E-C1BA-4F5A-8B99-20CE6CB8B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5882-9575-4BF6-B58B-FC6D4708C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3681-6F02-4E52-B1F3-500FD29E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83EE-F73A-4256-9B4D-4EFF0893F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B57D-F2F5-4158-96A1-444D44899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CD86-570A-4ECA-857E-EF4DA85EB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D459-FE6C-40D1-A194-03D5FB65A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1B15-21EC-484E-AB07-35DB5818F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0CDC-4EB7-4A57-8686-B7CAB05CA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682B-7617-48DD-8E2A-DCA71FE58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55CB-B342-4054-8A66-973E1387F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B176-1839-44CA-A225-68A10BE7C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A056-5AEA-45DF-84FE-6FA27771D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C274-66D3-4968-A0C1-C21AB12B8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6522-1212-42D3-B48A-1C3BC9FD4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470C-EDF5-478A-8C09-0FF00C200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13DF-0285-4998-9A57-EBCD6EFED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2FA0-7E7E-405B-B042-5015B94F7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D02D-971C-4AFE-A561-844BCB09C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D7B1-9478-42A2-B389-9490B1B66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8EC8-8F95-42AD-9A6E-392CE446A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C619-1869-4A56-9995-97C0A874F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EEFE-7F98-4D12-A521-69DF78723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GELA MERKEL'S TITLE IN THE GERMAN GOVERN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KE  WOODRU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09520" y="762120"/>
            <a:ext cx="8724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IS 5 MILES SOUTH OF BARBERVIL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IE  LEE  COCHR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REPRESENTED O.J. SIMPSON, SNOOP DOG, MICHAEL JACKSON, AND TUPAC SHAK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E  BRIN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IN SEVERAL OF BILLY JOEL'S MUSIC VIDEOS WHEN SHE WAS MARRIED TO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A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IVE FEMALE TENNIS PLAYER HAS WON THE MOST MAJ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H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95440" y="762120"/>
            <a:ext cx="795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AN OTTER'S DE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81080" y="4343400"/>
            <a:ext cx="518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DVENTURES  OF  TOM  SAW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K TWAIN BOOK WAS HIS BEST-SELLING WORK DURING HIS LIFETIM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556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U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556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FATHER OF THE NATIONAL PARKS" CO-FOUNDED THE SIERRA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81080" y="762120"/>
            <a:ext cx="878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IS 5 MILES SOUTH OF BARBERVIL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69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D  RATHER  LOVE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24000" y="762120"/>
            <a:ext cx="849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LIE PRIDE #1 SONG BEGINS "IF TONIGHT SHOULD BE OUR LAST NIGHT TOGETHER I'M NOT SORRY THAT WE FELL IN LOVE AT 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CEL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GELA MERKEL'S TITLE IN THE GERMAN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34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EVENING  NEWSCA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REPRESENTED O.J. SIMPSON, SNOOP DOG, MICHAEL JACKSON, AND TUPAC SHAK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IN SEVERAL OF BILLY JOEL'S MUSIC VIDEOS WHEN SHE WAS MARRIED TO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IVE FEMALE TENNIS PLAYER HAS WON THE MOST MAJ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19200" y="761760"/>
            <a:ext cx="790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AN OTTER'S 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K TWAIN BOOK WAS HIS BEST-SELLING WORK DURING HIS LIFE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FATHER OF THE NATIONAL PARKS" CO-FOUNDED THE SIERRA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LIE PRIDE #1 SONG BEGINS "IF TONIGHT SHOULD BE OUR LAST NIGHT TOGETHER I'M NOT SORRY THAT WE FELL IN LOVE AT 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37:17Z</dcterms:modified>
  <cp:revision>348</cp:revision>
  <dc:subject/>
  <dc:title>Slide 1</dc:title>
</cp:coreProperties>
</file>