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95B7-B8EC-4C4F-9B77-6D71BAECC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84A3-B737-465D-86D9-744FCFD16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C46E-3FC6-4E47-8B4B-AA9C55AD8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57C7-BF88-4E76-8C20-348C36570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96AA-4F95-48A0-8450-1AE02C779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859B-12B4-4A56-9855-95C950356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6128-C6D5-44E0-9BC7-544C13E4B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6E95-DCDF-4705-A19F-0F8A4B37C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DCC6-998D-4ACF-B891-2A8572783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E6DE-8746-428D-939B-970FB3DF2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D611-59EC-4664-B3B4-00A32B02E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8B95-0CE2-4904-BC9A-A49309FB1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2F36-9D83-468D-A55A-CDF1B28A4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986D-7B1A-445C-8A7B-734FB22D0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EABA-978B-493F-81F4-FAB151510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FAB2-CF00-46E5-8796-74FFCA075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B744-39AC-4437-A995-53D6EB914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A8F0-8A06-47DB-9FBF-22C261AA9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4B0B-0280-4DF5-86DD-62C25F64A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1141-4497-43DF-BD8B-86A85DD32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C0E2-09D2-418B-9ABF-15A7E36FB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DEC2-9732-4847-ACDE-707D62373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6B6C-25DE-4E36-9A1E-664876483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GELA MERKEL'S TITLE IN THE GERMAN GOVERN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KE  WOODRU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09520" y="762120"/>
            <a:ext cx="8724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OF WATER IS 5 MILES SOUTH OF BARBERVIL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IE  LEE  COCHR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0120" y="762120"/>
            <a:ext cx="7943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WYER REPRESENTED O.J. SIMPSON, SNOOP DOG, MICHAEL JACKSON, AND TUPAC SHAK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E  BRINK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IN SEVERAL OF BILLY JOEL'S MUSIC VIDEOS WHEN SHE WAS MARRIED TO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ENA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IVE FEMALE TENNIS PLAYER HAS WON THE MOST MAJ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H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95440" y="762120"/>
            <a:ext cx="795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AN OTTER'S DE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81080" y="4343400"/>
            <a:ext cx="518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DVENTURES  OF  TOM  SAW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K TWAIN BOOK WAS HIS BEST-SELLING WORK DURING HIS LIFETIM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556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U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556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FATHER OF THE NATIONAL PARKS" CO-FOUNDED THE SIERRA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81080" y="762120"/>
            <a:ext cx="8781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OF WATER IS 5 MILES SOUTH OF BARBERVIL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6900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'D  RATHER  LOVE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24000" y="762120"/>
            <a:ext cx="8496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LIE PRIDE #1 SONG BEGINS "IF TONIGHT SHOULD BE OUR LAST NIGHT TOGETHER I'M NOT SORRY THAT WE FELL IN LOVE AT 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NCEL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GELA MERKEL'S TITLE IN THE GERMAN GOVER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3434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EVENING  NEWSCA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WYER REPRESENTED O.J. SIMPSON, SNOOP DOG, MICHAEL JACKSON, AND TUPAC SHAKU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IN SEVERAL OF BILLY JOEL'S MUSIC VIDEOS WHEN SHE WAS MARRIED TO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IVE FEMALE TENNIS PLAYER HAS WON THE MOST MAJ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19200" y="761760"/>
            <a:ext cx="7905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AN OTTER'S D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K TWAIN BOOK WAS HIS BEST-SELLING WORK DURING HIS LIFE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FATHER OF THE NATIONAL PARKS" CO-FOUNDED THE SIERRA 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LIE PRIDE #1 SONG BEGINS "IF TONIGHT SHOULD BE OUR LAST NIGHT TOGETHER I'M NOT SORRY THAT WE FELL IN LOVE AT 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0:37:17Z</dcterms:modified>
  <cp:revision>348</cp:revision>
  <dc:subject/>
  <dc:title>Slide 1</dc:title>
</cp:coreProperties>
</file>