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C86-0BCB-4F07-B81B-78A247E92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F80-8F4A-45E2-9352-73197BD5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421E-3054-43AF-AF74-25646492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DA51-6A6F-4691-AADF-AFFD40A15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6D11-9116-41BD-93A8-38E52EED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B652-3766-4B2F-8CBC-0A82451C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BE5C-C823-46FB-9D2D-1E01034F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6E8-5CC9-44F8-9810-8472B6CFA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9449-AE18-441F-8AB3-496AED4C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85E1-CE5B-4943-B19E-81000BAB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7F83-5C11-4402-8BE3-81A2C5264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0D19-8537-4066-9BA1-3677C288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CCCA-5A37-48AF-A2C9-27094BE70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FF2-9471-47D2-B786-60C920DA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1C4A-D3BF-4BD4-8C53-03168F1FC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DBDC-70BF-465A-B806-7BF05447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F407-3354-44E8-BCD7-7E00913A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75D6-DF07-4197-B6F2-7ED4F49D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DB45-4E10-4689-8926-9B5A5994D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1AD9-25DC-4E4C-B725-F581785F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1767-1A17-40ED-8D7B-82C424DB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F6D2-6981-4958-B57E-824557A00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1D9-B823-41BB-A8FA-ED5C2FF57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INTO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7640" y="762120"/>
            <a:ext cx="730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98480" y="762120"/>
            <a:ext cx="754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0640" y="762120"/>
            <a:ext cx="790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RO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9840" y="762120"/>
            <a:ext cx="720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THAT DEBUTED IN 1984 HAD A GRAPHICAL INTERFACE AND BUILT-IN 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9200" y="762120"/>
            <a:ext cx="66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FORD'S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RIETIES  OF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LVADOR DALI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HOW WITH A MOSTLY BLACK CAST WAS ABOUT A FICTIONAL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MOUNTAIN IS THE TALL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FILM OR THEATER LIGHTING THAT INVOLVES A SPOTLIGHT TO ACCENTUATE A SINGLE PE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HOW MUCH I FEEL" AND "BIGGEST PART OF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UTAH'S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2240" y="762120"/>
            <a:ext cx="6777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CTOBER BIRTHSTONE AND THE NATIONAL GEMSTONE OF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8:20:57Z</dcterms:modified>
  <cp:revision>362</cp:revision>
  <dc:subject/>
  <dc:title>Slide 1</dc:title>
</cp:coreProperties>
</file>