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5703-29EE-4F73-B70C-A0E1BB67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5BE2-5B8A-4168-9AB7-ADDA153D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0E8-6AE6-4D23-A99D-15B69114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BB1D-1229-4B73-BC38-174AD9F6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1BC-D580-4C78-BEFD-534928E8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D241-F2D6-47C1-830D-DEEA4410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C00-FA41-47A8-ABF5-D5131299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A711-7A4E-455E-BD2F-4F2DD165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BC9-4ED9-4C0F-A782-B6A909C7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99F-04FB-484C-A8F8-5B41CE30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C08-668E-4C01-B91F-72E0CD5F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BC55-8547-420F-8E16-C43DA040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471-7E5F-4DAB-BCF6-B26A42E1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F53-D2AE-4CD7-ACD2-A43C9375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621-61B1-4D19-A1DD-26790552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3C3-8F1E-4427-BAC5-90235A77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DB6-FE25-4AB4-9AAF-1326743ED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E77-B391-43AE-A05C-28EB4CBA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405-ECDB-450C-8C2B-ABF3D1DE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ACE-54A9-4CA5-99D3-0A8589BC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6219-5945-4F24-819B-88C60F63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53D-4ADF-4D83-9CC3-DB814016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F6C-6890-4470-9D62-EE5BCF4D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INTO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7640" y="762120"/>
            <a:ext cx="730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0640" y="762120"/>
            <a:ext cx="790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9200" y="762120"/>
            <a:ext cx="66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RIETIES  OF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2240" y="762120"/>
            <a:ext cx="6777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8:20:57Z</dcterms:modified>
  <cp:revision>362</cp:revision>
  <dc:subject/>
  <dc:title>Slide 1</dc:title>
</cp:coreProperties>
</file>