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2F42-2A77-492C-840A-A132E6ED9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6F89-35CA-4CA1-B094-8D9EA21C9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091E-1E15-44ED-9BE9-2C87E5EF0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F8CE-1EC4-487A-9401-2C70A2508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4F42-F071-4F76-834A-4E259611F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2C8E-8F67-4D2F-A203-D66A4391D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B889-CC36-4174-91AA-30710C868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7652-D879-43DF-ADA0-2CE1B9963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ACC3-202B-4C1E-8DEA-0BD57B489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77F5-5B16-4329-B75C-813426030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CF20-0A3B-4D99-9FF9-278F83AE7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B4A5-0238-4D68-AE82-838163FD7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D097-9E59-4196-A818-69B3C6252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9A88-0C8A-4865-BAA4-ECD09901B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6F1E-70A2-4F49-9734-5AE8488F4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DBA5-D51E-4B5E-B271-290E28D34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D2C1-5B58-457E-8D11-707D482E2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21C8-C248-49F5-89FB-A39719321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A85E-6F2A-4DF4-8942-DD27FB2B6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EEDF-10F5-4E1B-8132-A61C31A48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FFB1-18DE-4D76-A0F1-533550C91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D050-E395-4528-B434-3DEA99BEC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A913-6C7A-45E0-9BB1-F1ADB22CA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PRESIDENT FORD'S DO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CINTO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7640" y="762120"/>
            <a:ext cx="7308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UTER THAT DEBUTED IN 1984 HAD A GRAPHICAL INTERFACE AND BUILT-IN SCRE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9800"/>
            <a:ext cx="82296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98480" y="762120"/>
            <a:ext cx="7545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SALVADOR DALI'S W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P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-2020 FOX SHOW WITH A MOSTLY BLACK CAST WAS ABOUT A FICTIONAL HIP-HOP MUSIC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U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PANESE MOUNTAIN IS THE TALL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20640" y="762120"/>
            <a:ext cx="7902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FILM OR THEATER LIGHTING THAT INVOLVES A SPOTLIGHT TO ACCENTUATE A SINGLE PER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981080" y="4876920"/>
            <a:ext cx="518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BRO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81200" y="762120"/>
            <a:ext cx="7581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ANG "HOW MUCH I FEEL" AND "BIGGEST PART OF ME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Z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06480" y="762120"/>
            <a:ext cx="7331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UTAH'S NBA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69840" y="762120"/>
            <a:ext cx="720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UTER THAT DEBUTED IN 1984 HAD A GRAPHICAL INTERFACE AND BUILT-IN SCRE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49200" y="762120"/>
            <a:ext cx="66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CTOBER BIRTHSTONE AND THE NATIONAL GEMSTONE OF AUSTRAL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B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PRESIDENT FORD'S DO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RIETIES  OF  AP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5040" y="761760"/>
            <a:ext cx="7691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SALVADOR DALI'S WI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-2020 FOX SHOW WITH A MOSTLY BLACK CAST WAS ABOUT A FICTIONAL HIP-HOP MUSIC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33320" y="762120"/>
            <a:ext cx="7677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PANESE MOUNTAIN IS THE TALL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57360" y="761760"/>
            <a:ext cx="7829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FILM OR THEATER LIGHTING THAT INVOLVES A SPOTLIGHT TO ACCENTUATE A SINGLE PER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6800" y="761760"/>
            <a:ext cx="7610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ANG "HOW MUCH I FEEL" AND "BIGGEST PART OF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UTAH'S NBA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82240" y="762120"/>
            <a:ext cx="6777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CTOBER BIRTHSTONE AND THE NATIONAL GEMSTONE OF AUSTRAL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8:03:49Z</dcterms:created>
  <dc:creator>Jennifer Budzinski</dc:creator>
  <dc:description/>
  <dc:language>en-US</dc:language>
  <cp:lastModifiedBy>Erich Friedman</cp:lastModifiedBy>
  <dcterms:modified xsi:type="dcterms:W3CDTF">2020-09-01T08:20:57Z</dcterms:modified>
  <cp:revision>362</cp:revision>
  <dc:subject/>
  <dc:title>Slide 1</dc:title>
</cp:coreProperties>
</file>