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79F9-4C91-4716-B529-E75542AEC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FE4A-383F-414E-A533-60DFC8B42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77C-A148-446E-A056-14EDC9734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200A-F020-4F2B-B094-A157BB4CB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4E77-F156-4D36-BAE1-6B8CEDA99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E73-6E23-4A5A-843C-9E2963BD3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1A2C-46B1-497B-B8C9-E66D18434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BB5C-F1A0-4A3A-8A62-90FF224C1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4B6-4BB2-424F-B416-927C1E237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FB58-2375-4FD7-A82A-B678E94D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9579-06FE-416A-BDD9-DD027BA7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0146-A894-4C33-8E4B-186DBE2EF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6F0-8F6A-4CED-9F14-917758B6D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2233-25FB-4466-BCC3-64EF38610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C8C2-57B3-4B8C-9DBE-F18D9CD74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5983-7685-485B-92F4-B05A41427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513E-6F3C-49E3-83B4-0A47B43A7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5D69-4B13-4623-A087-769FCA729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A295-A258-4ACC-8BCB-73C69D434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371B-B2E9-4E5E-A133-C2AAC422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394F-2C18-4F55-9C94-5259BCF17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303F-AA9D-4A66-8234-0F6CC84F1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515A-0457-4CAF-98D5-F6DD4DFE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ING LANA TURNER FEATURES A TOWN WITH TRANQUIL FAÇADE THAT HIDES SCANDALS, CRIMES, AND MORAL HYPOCRI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  OF  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DRAMA FILM STARRED MICHAEL PEÑA  AND JAKE GYLLENHAAL AS LAPD OFFIC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TTING  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DEPICTED THE BATTLE OF THE LITTLE BIGHORN AND CUSTER'S LAST ST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AWK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WAS ABOUT A 1993 RAID AND ENSUING FIREFIGHT IN MOGADISH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YING  A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JOHN TRAVOLTA DANCE FILM WAS THE SEQUEL TO "SATURDAY NIGHT F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  OVER  HE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5564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MONICA POTTER AS A WOMAN SPYING ON A CRUSH AND WITNESSES HIM COMMITTING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ITING  TO  EX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68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CE FILM WITH AN ALL-AFRICAN-AMERICAN CAST STARRED WHITNEY HOUSTON AND ANGELA BASSE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DREAMS  MAY 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ABOUT THE AFTERLIFE STARRED ROBIN WILLIAMS AND CUBA GOODING,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DRAMA FILM STARRED MICHAEL PEÑA  AND JAKE GYLLENHAAL AS LAPD OFFIC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IS  BUELLER'S  DAY 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      FILM STARS MATTHEW BRODERICK AS A TRUANT HIGH SCHOOL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ING LANA TURNER FEATURES A TOWN WITH TRANQUIL FAÇADE THAT HIDES SCANDALS, CRIMES, AND MORAL HYPOCRI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43280" y="434340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OMMON  DOG 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DEPICTED THE BATTLE OF THE LITTLE BIGHORN AND CUSTER'S LAST ST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WAS ABOUT A 1993 RAID AND ENSUING FIREFIGHT IN MOGADISH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JOHN TRAVOLTA DANCE FILM WAS THE SEQUEL TO "SATURDAY NIGHT FE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MONICA POTTER AS A WOMAN SPYING ON A CRUSH AND WITNESSES HIM COMMITTING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CE FILM WITH AN ALL-AFRICAN-AMERICAN CAST STARRED WHITNEY HOUSTON AND ANGELA BASSET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ABOUT THE AFTERLIFE STARRED ROBIN WILLIAMS AND CUBA GOODING,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      FILM STARS MATTHEW BRODERICK AS A TRUANT HIGH SCHOOL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6:00:30Z</dcterms:created>
  <dc:creator>Jennifer Budzinski</dc:creator>
  <dc:description/>
  <dc:language>en-US</dc:language>
  <cp:lastModifiedBy>Erich Friedman</cp:lastModifiedBy>
  <dcterms:modified xsi:type="dcterms:W3CDTF">2020-09-01T00:38:02Z</dcterms:modified>
  <cp:revision>416</cp:revision>
  <dc:subject/>
  <dc:title>Slide 1</dc:title>
</cp:coreProperties>
</file>