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EC7A-C411-4C17-A33A-EE0211287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AF61-C17C-4F14-8A53-D1AB963F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649-44DF-45C8-B6D7-957922C6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308F-8413-4E72-94AD-CC79C88E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99B-0101-49EA-B0FB-A88911D6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861-7D42-4B15-A07A-5416BE4F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BE36-8121-4E04-863E-9DA06880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653-F632-470A-9A7B-B877A509A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DAAF-DA11-4675-A80C-CB98029A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AB63-A176-409F-B5DA-A59FEE3E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B659-55E3-4E10-A659-08F21D4E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4845-766A-4FA3-99F5-3980F01A2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CFA2-8794-45BD-9305-B056512E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F9AA-09E0-4A56-A602-3BABCE9D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FCF-B57B-47C1-9C28-07603ED0A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464-F6CE-407C-93C7-B28A24F77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B5E5-4358-4CFF-A272-CE69CDCB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3DAB-3F0C-4AAF-BB3F-E2467470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7591-CA77-4A9B-9E02-AE84487B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0B1A-53F6-43FD-ABDA-BAECC3539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2312-33E6-411F-A4C0-8E7F63E9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424-C3D1-4B4C-9F15-571848C5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FFE3-FA84-47C0-B68F-DE2407FDF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ING LANA TURNER FEATURES A TOWN WITH TRANQUIL FAÇADE THAT HIDES SCANDALS, CRIMES, AND MORAL HYPOCRI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  OF  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DRAMA FILM STARRED MICHAEL PEÑA  AND JAKE GYLLENHAAL AS LAPD OFFIC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TTING  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DEPICTED THE BATTLE OF THE LITTLE BIGHORN AND CUSTER'S LAST ST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WAS ABOUT A 1993 RAID AND ENSUING FIREFIGHT IN MOGADISH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YING 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JOHN TRAVOLTA DANCE FILM WAS THE SEQUEL TO "SATURDAY NIGHT F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  OVER  HE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5564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MONICA POTTER AS A WOMAN SPYING ON A CRUSH AND WITNESSES HIM COMMITTING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ITING  TO  EX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68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CE FILM WITH AN ALL-AFRICAN-AMERICAN CAST STARRED WHITNEY HOUSTON AND ANGELA BASS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DREAMS  MAY 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ABOUT THE AFTERLIFE STARRED ROBIN WILLIAMS AND CUBA GOODING,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DRAMA FILM STARRED MICHAEL PEÑA  AND JAKE GYLLENHAAL AS LAPD OFFIC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BUELLER'S  DAY 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      FILM STARS MATTHEW BRODERICK AS A TRUANT HIGH SCHOOL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ING LANA TURNER FEATURES A TOWN WITH TRANQUIL FAÇADE THAT HIDES SCANDALS, CRIMES, AND MORAL HYPOCRI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43280" y="434340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OMMON  DOG 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DEPICTED THE BATTLE OF THE LITTLE BIGHORN AND CUSTER'S LAST ST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WAS ABOUT A 1993 RAID AND ENSUING FIREFIGHT IN MOGADISH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JOHN TRAVOLTA DANCE FILM WAS THE SEQUEL TO "SATURDAY NIGHT FE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MONICA POTTER AS A WOMAN SPYING ON A CRUSH AND WITNESSES HIM COMMITTING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CE FILM WITH AN ALL-AFRICAN-AMERICAN CAST STARRED WHITNEY HOUSTON AND ANGELA BASSET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ABOUT THE AFTERLIFE STARRED ROBIN WILLIAMS AND CUBA GOODING,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      FILM STARS MATTHEW BRODERICK AS A TRUANT HIGH SCHOOL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6:00:30Z</dcterms:created>
  <dc:creator>Jennifer Budzinski</dc:creator>
  <dc:description/>
  <dc:language>en-US</dc:language>
  <cp:lastModifiedBy>Erich Friedman</cp:lastModifiedBy>
  <dcterms:modified xsi:type="dcterms:W3CDTF">2020-09-01T00:38:02Z</dcterms:modified>
  <cp:revision>416</cp:revision>
  <dc:subject/>
  <dc:title>Slide 1</dc:title>
</cp:coreProperties>
</file>