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A010-87EE-4F2C-9AB8-2AE5DDA84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DE7AC-6852-4FB9-8073-97E4D1DEC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D1C7-AD40-469B-8340-0EDDC74BD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49FE-425A-4DEF-A1F3-FAAB457AF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E670-574C-4590-A2EC-792BFA441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E4E9-0B21-4987-9A6E-812B40D4F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5C2E-DAEE-4D9F-A439-A6F2634F5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D24A-1863-40AF-A3CA-2E42C9C6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7074-BF60-4F42-B3EC-0B374DFE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02E-3315-45E7-A820-659B37933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5459-A396-4976-9F4E-A89F33F33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159D-EC66-4BD4-9CA2-8C56FCF52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99DF-8D2C-4ACC-B739-361646A0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EED6-B325-4A7D-87F1-FEE2F9F8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F2FC-630B-483D-85EE-D6364CCCD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7B4-8615-451C-B2CA-6455505B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A83B-57C7-41FE-8283-351B75F5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0EF5-DD1F-4803-808E-A5818854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695F-43F6-4C11-B92D-FB927EA9A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F494-B8FB-4B25-A41B-A8ADC14FE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EA8A-46AD-482C-B201-E95C4E92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716E-AB45-47DD-B611-8724EBD8A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A6B2-DA3C-4CCA-B2FB-8A3B3705F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  OF  W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TING  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 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YING  AL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D  OVER  HE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55640"/>
            <a:ext cx="76197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ITING  TO  EXH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6800"/>
            <a:ext cx="73915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DREAMS  MAY  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DRAMA FILM STARRED MICHAEL PEÑA  AND JAKE GYLLENHAAL AS LAPD OFFIC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RIS  BUELLER'S  DAY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7 FILM STARRING LANA TURNER FEATURES A TOWN WITH TRANQUIL FAÇADE THAT HIDES SCANDALS, CRIMES, AND MORAL HYPOCRIS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43280" y="4343400"/>
            <a:ext cx="5257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OMMON  DOG 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4 FILM DEPICTED THE BATTLE OF THE LITTLE BIGHORN AND CUSTER'S LAST ST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WAS ABOUT A 1993 RAID AND ENSUING FIREFIGHT IN MOGADISH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JOHN TRAVOLTA DANCE FILM WAS THE SEQUEL TO "SATURDAY NIGHT F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MONICA POTTER AS A WOMAN SPYING ON A CRUSH AND WITNESSES HIM COMMITTING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ROMANCE FILM WITH AN ALL-AFRICAN-AMERICAN CAST STARRED WHITNEY HOUSTON AND ANGELA BASSET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ABOUT THE AFTERLIFE STARRED ROBIN WILLIAMS AND CUBA GOODING,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COMEDY       FILM STARS MATTHEW BRODERICK AS A TRUANT HIGH SCHOOL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6:00:30Z</dcterms:created>
  <dc:creator>Jennifer Budzinski</dc:creator>
  <dc:description/>
  <dc:language>en-US</dc:language>
  <cp:lastModifiedBy>Erich Friedman</cp:lastModifiedBy>
  <dcterms:modified xsi:type="dcterms:W3CDTF">2020-09-01T00:38:02Z</dcterms:modified>
  <cp:revision>416</cp:revision>
  <dc:subject/>
  <dc:title>Slide 1</dc:title>
</cp:coreProperties>
</file>