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6159-9F97-4A1A-8DFF-6C4AF7B33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E2B9-6D97-42D7-9BAA-D5DD4EAA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5910-61B3-4BDE-98A0-C8D77635E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415E-C299-46A1-933F-753699112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97D2-C1AA-4EB3-B162-F63DED4E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7982-994C-47CF-8898-333CE3A8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C657-05D2-4622-A662-CFCAFD4F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2BB-94AC-407A-86D3-AC806793E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AEAE-7F33-4D9B-990D-8CD0087B6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7BF8-08E1-44EC-92AE-C1B806D5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DA46-97AB-42D3-8921-BC5B9B7F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EE59-0DB5-4F4C-A4D4-258083E4E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2D16-DBDA-45A6-830F-F7074691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585-D095-4EAA-B034-66C87C395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857A-9CCF-4BBE-9C4E-22D949440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778A-2D09-4F03-9A59-444AABD6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335C-864D-4BEC-9019-A5BEF028E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6BC2-8D1F-465F-AECA-909BDA81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6E9B-F681-43C7-96F5-C16F889B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FDC-799E-4A01-B0D5-8346E03B2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85C3-70DF-4AE6-AEB7-E0F0CE2D2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57F3-D283-4D27-A182-CA8806F93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A8B6-6AF0-49DD-AA22-4867A23D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FROM THIS JOSEPH STALIN QUOTE: "WHEN WE ___ THE CAPITALISTS THEY WILL SELL US THE ROPE WE US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TO  (VON  BISMAR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81000" y="762120"/>
            <a:ext cx="7182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AN PENN HAS WON AN OSCAR FOR BEST ACTOR TWICE: FOR "MYSTIC PIZZA" AND WHAT OTHER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GEOLOGISTS, WHAT IS BETWEEN GRAVEL AND SILT IN S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47760" y="4343400"/>
            <a:ext cx="66484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MA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MISSING  FROM THIS JOSEPH STALIN   QUOTE: "WHEN WE ___ THE CAPITALISTS THEY WILL SELL US THE ROPE WE US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CIENT EGYPTIAN GODDESS WITH A HUMAN FACE AND COW EARS AND HORNS IS ANOTHER TYPE OF ANIMAL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ME OF THE FIRST CHANCELLOR OF THE GERMAN EMP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-2018 TV SERIES ABOUT THE HECK FAMILY STARRED PATRICIA HEATON AND NEIL FLYN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COOL &amp; THE GANG HAD THE SHORTEST TITLE, ONLY 5 LETTER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MOVIE MERYL STREEP AND TOM HANKS MADE TOGET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09-01T00:38:23Z</dcterms:modified>
  <cp:revision>436</cp:revision>
  <dc:subject/>
  <dc:title>Slide 1</dc:title>
</cp:coreProperties>
</file>