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4B59-CB01-4E97-9029-E0236DC9D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F222-6289-4324-B513-8B722F37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23E8-946C-44B5-899B-CFB275B3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F1DA-F2D8-4A95-B51A-AF039505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02FA-036A-4599-A452-956AFAAF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97A0-1580-494A-A57A-CE4BF792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36A1-87A6-4F86-9514-8A41AC5D9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C09A-9E49-440B-9C3D-F9922948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33FD-809E-4798-AE94-41B33FE11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D2DA-A2BC-4A4B-9A2C-7EC1CF4B3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54A9-6D42-42C5-8C06-BA16EDE4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7DA1-8D5C-4366-BA9D-64451D5D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79FF-6670-4C0C-A1BF-81242C53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8323-68DA-4864-88A2-0EA17007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FAA4-3D00-4063-B82E-E1785FA25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B1E-25E0-4D01-AE25-7FC752C8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168-4793-4A1A-A817-3D036D94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885-EA45-4BC9-8F5B-0D1D8FC6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466B-525A-48E8-8DE4-2AA00400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602-0F23-4699-92AB-E26C24630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12A2-788F-4456-B308-BA331A1D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F3B-C8EB-4267-8A1D-9640C2D8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31FB-C7AC-48A4-8AB6-1B96A1ED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OLOGISTS, WHAT IS BETWEEN GRAVEL AND SILT IN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PENN HAS WON AN OSCAR FOR BEST ACTOR TWICE: FOR "MYSTIC PIZZA" AND WHAT OTH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OSEPH STALIN QUOTE: "WHEN WE ___ THE CAPITALISTS THEY WILL SELL US THE ROPE WE 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EGYPTIAN GODDESS WITH A HUMAN FACE AND COW EARS AND HORNS IS ANOTHER TYPE OF ANIMAL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  (VON  BISMAR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IRST CHANCELLOR OF THE GER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8 TV SERIES ABOUT THE HECK FAMILY STARRED PATRICIA HEATON AND NEIL FLY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COOL &amp; THE GANG HAD THE SHORTEST TITLE, ONLY 5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MOVIE MERYL STREEP AND TOM HANKS MADE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PENN HAS WON AN OSCAR FOR BEST ACTOR TWICE: FOR "MYSTIC PIZZA" AND WHAT OTH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OLOGISTS, WHAT IS BETWEEN GRAVEL AND SILT I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47760" y="4343400"/>
            <a:ext cx="664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MA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 FROM THIS JOSEPH STALIN   QUOTE: "WHEN WE ___ THE CAPITALISTS THEY WILL SELL US THE ROPE WE 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EGYPTIAN GODDESS WITH A HUMAN FACE AND COW EARS AND HORNS IS ANOTHER TYPE OF ANIMAL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IRST CHANCELLOR OF THE GERMAN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8 TV SERIES ABOUT THE HECK FAMILY STARRED PATRICIA HEATON AND NEIL FLY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COOL &amp; THE GANG HAD THE SHORTEST TITLE, ONLY 5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MOVIE MERYL STREEP AND TOM HANKS MADE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38:23Z</dcterms:modified>
  <cp:revision>436</cp:revision>
  <dc:subject/>
  <dc:title>Slide 1</dc:title>
</cp:coreProperties>
</file>