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5BA-4112-4AB4-8893-6C3EFA6A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4F9-596E-410A-993E-335844BA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D989-7A19-44DE-8E90-D7B61173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559F-DF9C-493C-BD55-69A620F0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BF6-9192-4B3C-8737-31F8ED10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035-8377-4082-8830-C370B98D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0800-DDC6-49B6-9E70-C3DF69BC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3D94-8CC2-4545-BD44-54B848A8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303-2175-4F8C-A9ED-218FFF0AA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9E6-1CB0-43CD-B73D-62AEC043C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5090-A8B7-4609-B5FC-AA0DFCEC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55AA-A728-49BE-B4C7-1232F874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6F8C-81B0-41F4-8BB2-C87227A4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513C-F257-49DD-A98F-37302183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0E5A-49B4-41DE-A30E-1F618E1D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1688-47CE-42A8-AFE2-AC8C648D7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665-C8A1-4FDD-8D5A-533748A4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AF98-0953-4678-9246-FF243193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2DFF-9BDF-4A59-8E31-716E2F8D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A9A-2552-4A24-803A-931FE635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C475-7627-462A-8294-43E279E6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C61-9FF9-4DA8-A27C-C0A1455A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C3B7-DE05-4064-89E9-4AA5A189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OLOGISTS, WHAT IS BETWEEN GRAVEL AND SILT IN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PENN HAS WON AN OSCAR FOR BEST ACTOR TWICE: FOR "MYSTIC PIZZA" AND WHAT OTH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OSEPH STALIN QUOTE: "WHEN WE ___ THE CAPITALISTS THEY WILL SELL US THE ROPE WE 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EGYPTIAN GODDESS WITH A HUMAN FACE AND COW EARS AND HORNS IS ANOTHER TYPE OF ANIMAL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  (VON  BISMAR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IRST CHANCELLOR OF THE GER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8 TV SERIES ABOUT THE HECK FAMILY STARRED PATRICIA HEATON AND NEIL FLY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COOL &amp; THE GANG HAD THE SHORTEST TITLE, ONLY 5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MOVIE MERYL STREEP AND TOM HANKS MADE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PENN HAS WON AN OSCAR FOR BEST ACTOR TWICE: FOR "MYSTIC PIZZA" AND WHAT OTH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OLOGISTS, WHAT IS BETWEEN GRAVEL AND SILT I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47760" y="4343400"/>
            <a:ext cx="664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MA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 FROM THIS JOSEPH STALIN   QUOTE: "WHEN WE ___ THE CAPITALISTS THEY WILL SELL US THE ROPE WE 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EGYPTIAN GODDESS WITH A HUMAN FACE AND COW EARS AND HORNS IS ANOTHER TYPE OF ANIMAL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IRST CHANCELLOR OF THE GERMAN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8 TV SERIES ABOUT THE HECK FAMILY STARRED PATRICIA HEATON AND NEIL FLY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COOL &amp; THE GANG HAD THE SHORTEST TITLE, ONLY 5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MOVIE MERYL STREEP AND TOM HANKS MADE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38:23Z</dcterms:modified>
  <cp:revision>436</cp:revision>
  <dc:subject/>
  <dc:title>Slide 1</dc:title>
</cp:coreProperties>
</file>