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757E-A4BF-450F-A3ED-45402D488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CCA9-8BFD-43CC-AD25-24BD0E42D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2179-9D4B-4D5C-BF89-DFA94394E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E06A-9623-4026-91CF-2B96976DD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32B8-210F-4658-A82D-4903F6B6C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912B-54C3-429D-8EAD-4DD147EE9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F8FD-AA36-45C1-9D68-5A7699CDB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27DC-2278-45E8-84DC-53AEF26DC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A00F-73A0-494C-BA3F-43EF3F75C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BD29-F8E1-4A0E-8660-FFD2E2496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1D5E-024D-4CB5-A5F3-AB138C682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063A-738D-45CE-9704-1099CDC34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5223-3AF5-4103-AEC1-9BC63082C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F6AC-68C8-455D-ACD2-AE396DE5A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C673-0BA0-4402-8A6B-21C5D3397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E430-7654-4C5D-BE13-9C89F5A6B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28FB-B5DA-44D8-8B78-B96192AD2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64B0-E502-45BE-9DF5-7E9BC566D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A304-9EF2-4847-90F2-C0C3D7078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907B-0027-409E-9F44-854CA4D06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7E55-5A20-4AA7-81D1-A16522BD7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C407B-2A07-452A-A543-DAC3CA851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5A81-B161-4DEE-B0C8-6FB5608CA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THE ST. LOUIS NHL T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PP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63680" y="762120"/>
            <a:ext cx="8215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BELL, POBLANO, AND SERRANO TYPES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9800"/>
            <a:ext cx="82296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RRI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98480" y="762120"/>
            <a:ext cx="7545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FOX, BOSTON, AND BORDER TYPES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OSI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FILM STARRED GENE HACKMAN AS AN INDIANA HIGH SCHOOL BASKETBALL COA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I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-DOOR ROADSTERS DID ALFA ROMEO MANUFACTURE FROM 1966 TO 199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82640" y="762120"/>
            <a:ext cx="75772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4 LARGEST MAMMALS BELONG TO WHAT INFORMAL GROUPING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981080" y="4876920"/>
            <a:ext cx="5181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L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266760" y="762120"/>
            <a:ext cx="8420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ITIAL TV EPISODES USED      TO SELL THE SHOW TO A NETWORK ARE CALLED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W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06480" y="762120"/>
            <a:ext cx="7331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NFL TEAM THAT WAS NAMED FOR ITS FIRST OW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2120" y="762120"/>
            <a:ext cx="815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BELL, POBLANO, AND SERRANO TYPES O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N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76320" y="762120"/>
            <a:ext cx="7191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UG JONES, PAT ROBERTS, GARY PETERS, AND MIKE LEE ALL HOLD WHAT GOVERNMENT JO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THE ST. LOUIS NHL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DEFUNCT  MLB  TE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25040" y="761760"/>
            <a:ext cx="7691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FOX, BOSTON, AND BORDER TYPES O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FILM STARRED GENE HACKMAN AS AN INDIANA HIGH SCHOOL BASKETBALL COA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76280" y="762120"/>
            <a:ext cx="8191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-DOOR ROADSTERS DID ALFA ROMEO MANUFACTURE FROM 1966 TO 199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57360" y="761760"/>
            <a:ext cx="7829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4 LARGEST MAMMALS BELONG TO WHAT INFORMAL GROUP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12840" y="761760"/>
            <a:ext cx="8518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ITIAL TV EPISODES USED      TO SELL THE SHOW TO A NETWORK ARE CALLED WHAT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95320" y="761760"/>
            <a:ext cx="73533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NFL TEAM THAT WAS NAMED FOR ITS FIRST OWN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43120" y="762120"/>
            <a:ext cx="7457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UG JONES, PAT ROBERTS, GARY PETERS, AND MIKE LEE ALL HOLD WHAT GOVERNMENT JO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2T18:03:49Z</dcterms:created>
  <dc:creator>Jennifer Budzinski</dc:creator>
  <dc:description/>
  <dc:language>en-US</dc:language>
  <cp:lastModifiedBy>Erich Friedman</cp:lastModifiedBy>
  <dcterms:modified xsi:type="dcterms:W3CDTF">2020-09-01T00:41:22Z</dcterms:modified>
  <cp:revision>357</cp:revision>
  <dc:subject/>
  <dc:title>Slide 1</dc:title>
</cp:coreProperties>
</file>