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31B6-AF6A-4F3E-8249-7AAFDC8DE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3FA1-0657-4B55-A416-5EEEABE64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AFC0-1ED6-43D1-964D-C9713BD1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8AF7-88A6-416B-9FE3-2A025D561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03E2-F9E3-455D-BE50-49998C88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4F76-F52A-488D-9689-D82162870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CEBD-76C7-4C77-A65C-E2F60EA29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BC90-2DFE-4185-B8B9-1E9D1B9E2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7EEF-F1F6-44C2-A258-E78CF7F57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160F-95A9-4728-8BD8-BD6965AEE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9FBA-9861-49A3-BB90-689AD9284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D243-A345-448F-A016-112C9B11B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51B5-A2A3-4A55-AA8F-7691B77D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B9FE-F4FA-4F41-85EB-28DE1B81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CC95-2540-42DC-9495-0A56D51D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2B43-5B89-4EF3-93A2-70CD340FA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340D-B4BB-4AE8-998E-764C60BC8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D523-B313-47A9-895D-B844B71A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290F-A330-4708-A0C7-ACD17E262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E377-2F92-4BF8-B912-EC777C418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0049-A9D4-440A-ADED-FE2CE0F9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F827-B9B6-4CD7-A636-59D048304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04FD-3A78-4881-AE62-32072CC14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 ST. LOUIS NH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3680" y="762120"/>
            <a:ext cx="82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BELL, POBLANO, AND SERRANO TYPES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8480" y="762120"/>
            <a:ext cx="7545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OX, BOSTON, AND BORDER TYPES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S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STARRED GENE HACKMAN AS AN INDIANA HIGH SCHOOL BASKETBALL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OOR ROADSTERS DID ALFA ROMEO MANUFACTURE FROM 1966 TO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82640" y="762120"/>
            <a:ext cx="757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 LARGEST MAMMALS BELONG TO WHAT INFORMAL GROUP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420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ITIAL TV EPISODES USED      TO SELL THE SHOW TO A NETWORK ARE CALLE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THAT WAS NAMED FOR ITS FIRST OW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2120" y="762120"/>
            <a:ext cx="815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BELL, POBLANO, AND SERRANO TYPES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N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6320" y="762120"/>
            <a:ext cx="71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UG JONES, PAT ROBERTS, GARY PETERS, AND MIKE LEE ALL HOLD WHAT GOVERNMENT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 ST. LOUI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EFUNCT  MLB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OX, BOSTON, AND BORDER TYPES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STARRED GENE HACKMAN AS AN INDIANA HIGH SCHOOL BASKETBALL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OOR ROADSTERS DID ALFA ROMEO MANUFACTURE FROM 1966 TO 199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 LARGEST MAMMALS BELONG TO WHAT INFORMAL GROUP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12840" y="761760"/>
            <a:ext cx="8518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ITIAL TV EPISODES USED      TO SELL THE SHOW TO A NETWORK ARE CALLED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THAT WAS NAMED FOR ITS FIRST OW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43120" y="762120"/>
            <a:ext cx="745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UG JONES, PAT ROBERTS, GARY PETERS, AND MIKE LEE ALL HOLD WHAT GOVERNMENT JO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41:22Z</dcterms:modified>
  <cp:revision>357</cp:revision>
  <dc:subject/>
  <dc:title>Slide 1</dc:title>
</cp:coreProperties>
</file>