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6F08-D850-4A5E-95FA-6AF3267F3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27E4-09F3-408C-B425-3E3E23B2E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4E23-74DD-4388-8501-2360AFC0E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0CA6-9F02-4A44-8AD2-3DCE4FCA1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C8B7-42D1-460F-B3D8-EA1E91F8E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24C6-C039-4260-B19B-2EA33722C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AEB9-152D-4BCA-9835-C2936E2DC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2C74-7A23-4DF4-ABB9-ADEEB14A8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2081-52F2-4BC7-82F4-23D44B530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4212-8637-4655-83DD-7B87B0893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BA44-68C7-4ACC-9FC6-2F21ACE99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0053-5101-47E8-AC4A-E5F66490E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25CA-1FDF-4533-9FF1-8798F1725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BA5A-C75B-4B6B-9FAF-338AB16B0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4140-3CA7-4151-BAFD-303499FE5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3D6C-AF75-42C2-8AEE-8A8B734A0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9545-D40C-43D9-92B5-8200CACE8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77BD-D289-4534-9E3F-837021432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BB51-4D12-4433-9A94-39F14E9A9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7132-8043-406D-A2F4-8438284FD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A811-957C-4DD1-90AA-C4C194B99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0657-E65E-41D9-A681-AD7B186D7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360C-80B7-41E2-BF1C-AF2395434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E ST. LOUIS NHL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P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63680" y="762120"/>
            <a:ext cx="82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BELL, POBLANO, AND SERRANO TYPES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98480" y="762120"/>
            <a:ext cx="7545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FOX, BOSTON, AND BORDER TYPES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S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FILM STARRED GENE HACKMAN AS AN INDIANA HIGH SCHOOL BASKETBALL CO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DOOR ROADSTERS DID ALFA ROMEO MANUFACTURE FROM 1966 TO 199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82640" y="762120"/>
            <a:ext cx="7577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4 LARGEST MAMMALS BELONG TO WHAT INFORMAL GROUP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420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ITIAL TV EPISODES USED      TO SELL THE SHOW TO A NETWORK ARE CALLED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06480" y="762120"/>
            <a:ext cx="7331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FL TEAM THAT WAS NAMED FOR ITS FIRST OW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2120" y="762120"/>
            <a:ext cx="815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BELL, POBLANO, AND SERRANO TYPES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N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76320" y="762120"/>
            <a:ext cx="7191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UG JONES, PAT ROBERTS, GARY PETERS, AND MIKE LEE ALL HOLD WHAT GOVERNMENT JO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E ST. LOUIS NH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DEFUNCT  MLB 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5040" y="761760"/>
            <a:ext cx="7691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FOX, BOSTON, AND BORDER TYPES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FILM STARRED GENE HACKMAN AS AN INDIANA HIGH SCHOOL BASKETBALL CO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DOOR ROADSTERS DID ALFA ROMEO MANUFACTURE FROM 1966 TO 199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4 LARGEST MAMMALS BELONG TO WHAT INFORMAL GROUP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12840" y="761760"/>
            <a:ext cx="8518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ITIAL TV EPISODES USED      TO SELL THE SHOW TO A NETWORK ARE CALLED WH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FL TEAM THAT WAS NAMED FOR ITS FIRST OW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43120" y="762120"/>
            <a:ext cx="7457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UG JONES, PAT ROBERTS, GARY PETERS, AND MIKE LEE ALL HOLD WHAT GOVERNMENT JO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9-01T00:41:22Z</dcterms:modified>
  <cp:revision>357</cp:revision>
  <dc:subject/>
  <dc:title>Slide 1</dc:title>
</cp:coreProperties>
</file>