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9899-F76A-42AF-824C-5FDE6B2D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2270-8BC2-45DA-94B2-F15DD505D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7A2F-D2EE-4B69-B2FF-4E5D83CD0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29E5-4BB4-4A18-A282-38FE9574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2ABF-7E61-47F5-9885-270453208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FD70-6484-47BF-A94A-A24FA4AA8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375B-4ABE-44F9-845F-837796571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D492-6554-49D0-830A-B762A75D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CEEF-7D5E-4293-ABB7-66876490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FB62-7CEB-4062-9821-F4B0E223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EEBA-D23F-43C4-8EC2-D814578D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19DB-5777-4E36-8E75-7EC05506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E59A-943C-4C3A-9DA4-6DB124E7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4BD8-EDCA-4D2B-BFDA-460136D0F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5FAC-8070-48E0-8300-BA39C8BDC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E5CD-8E22-4AA0-AFCD-B8FE2BF6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C22B-09FD-4455-878B-116DA49DF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0656-A359-4675-88FF-3E7A178FA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EF70-3590-4AE2-90F8-A3F187CCB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6FA4-885A-4242-B0E1-FDD343A45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212-722E-41D5-96C2-6C217B3C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ABA5-791E-4421-83E3-AA667FE9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11F2-BCC4-48B5-9D7A-ACC159CA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IA AND PAKISTAN HAVE FOUGHT THREE MAJOR WARS OVER WHAT RE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3680" y="762120"/>
            <a:ext cx="82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MIGHT HAVE BEEN INVENTED WHEN THE GLOVES OFFERED TO CUSTOMERS TO EAT HOT SAUSAGES WERE NOT BEING RETU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1720" y="762120"/>
            <a:ext cx="808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DO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AND  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LL OF FAME IS LOCATED IN DOWNTOWN CLEV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NG  IT  ON 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AN OSBORNE ALBUM WAS NOMINATED FOR A BLUES GRAMMY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52320" y="762120"/>
            <a:ext cx="7839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COM'S THEME SONG WAS "I'LL BE THERE FOR YOU" BY THE REMBRAND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BR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YAN ADAMS ALBUM WAS NAMED AFTER A MARIAH CAREY #1 SONG WHICH BEGINS WITH THE LYRICS "GIVE ME YOUR LOVE" REPEATED 8 TIM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Y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1 NOVEL IS ABOUT THE CAPTAIN OF THE WHALING SHIP PEQU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74760" y="762120"/>
            <a:ext cx="839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MIGHT HAVE BEEN INVENTED WHEN THE GLOVES OFFERED TO CUSTOMERS TO EAT HOT SAUSAGES WERE NOT BEING RETUR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GE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MED FOR THE MOST NORTHERN CITY IN MOROC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SH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IA AND PAKISTAN HAVE FOUGHT THREE MAJOR WARS OVER WHAT RE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LED  ZEPPELI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DO'S BIGGE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LL OF FAME IS LOCATED IN DOWNTOWN CLEV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AN OSBORNE ALBUM WAS NOMINATED FOR A BLUES GRAMMY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COM'S THEME SONG WAS "I'LL BE THERE FOR YOU" BY THE REMBRAND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YAN ADAMS ALBUM WAS NAMED AFTER A MARIAH CAREY #1 SONG WHICH BEGINS WITH THE LYRICS "GIVE ME YOUR LOVE" REPEATED 8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1 NOVEL IS ABOUT THE CAPTAIN OF THE WHALING SHIP PEQU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MED FOR THE MOST NORTHERN CITY IN MOROC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41:44Z</dcterms:modified>
  <cp:revision>353</cp:revision>
  <dc:subject/>
  <dc:title>Slide 1</dc:title>
</cp:coreProperties>
</file>