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E3268-641D-4B5C-8969-48D4577AB7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614F4-81BD-4A63-ABD7-B9B1BDA797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7F712-7312-4AFF-ADD4-784F62D762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62032-D1D1-4E62-911C-3925C2EA60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12818-4078-4583-AB54-35E548D21D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0ADCC-8594-4D39-83EB-6722A6CF95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F03D2-8AB8-4B9B-BC36-8CDBE757E4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EB6B5-6802-4B0A-A0DD-450051BB04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95033-968F-4365-830C-63D0BDE7A1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7EFDF-7EF3-4829-BD4D-BB30AE76BC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1A2C1-FBBC-4E4A-867C-76045EE8A1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5880E-4B83-43EE-A1F1-FCF39C3EB4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5AD9C-ACD5-41A8-B9CF-2635DCEFBC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C1FFF-BA79-45E3-9FDC-A61662193F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83F21-D06C-471D-AE65-5482697101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B0F46-A32B-4341-A180-F5543EF06C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B7F90-8600-4A8B-8278-0BBF1BFF50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6DFBA-B9ED-4867-A9F4-FF9426B149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07ECD-15AA-4F32-938C-0EADDDAC1A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F0A30-6008-4500-A308-A577052C3D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F7B42-AD26-40C5-8CCB-E854FB8816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18770-9F8A-40C1-8D75-B1B8DB211F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5C113-B80E-49EC-8E47-A74584219B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485720" y="1523880"/>
            <a:ext cx="6172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647640" y="761760"/>
            <a:ext cx="78487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DIA AND PAKISTAN HAVE FOUGHT THREE MAJOR WARS OVER WHAT REGI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1676520" y="4876920"/>
            <a:ext cx="57909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OT  DO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463680" y="762120"/>
            <a:ext cx="82152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OOD MIGHT HAVE BEEN INVENTED WHEN THE GLOVES OFFERED TO CUSTOMERS TO EAT HOT SAUSAGES WERE NOT BEING RETURN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9800"/>
            <a:ext cx="8229600" cy="6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ANK  YO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531720" y="762120"/>
            <a:ext cx="80805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NAME OF DIDO'S BIGGEST HIT SO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OCK  AND  RO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838080" y="762120"/>
            <a:ext cx="74678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HALL OF FAME IS LOCATED IN DOWNTOWN CLEVELAN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1752480" y="4876920"/>
            <a:ext cx="56390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RING  IT  ON  HO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571680" y="762120"/>
            <a:ext cx="8001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JOAN OSBORNE ALBUM WAS NOMINATED FOR A BLUES GRAMMY IN 2013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RIE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652320" y="762120"/>
            <a:ext cx="78393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ITCOM'S THEME SONG WAS "I'LL BE THERE FOR YOU" BY THE REMBRANDT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1981080" y="4876920"/>
            <a:ext cx="51818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EARTBREAK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266760" y="762120"/>
            <a:ext cx="86104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RYAN ADAMS ALBUM WAS NAMED AFTER A MARIAH CAREY #1 SONG WHICH BEGINS WITH THE LYRICS "GIVE ME YOUR LOVE" REPEATED 8 TIME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OBY  DI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906480" y="762120"/>
            <a:ext cx="73310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851 NOVEL IS ABOUT THE CAPTAIN OF THE WHALING SHIP PEQUO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374760" y="762120"/>
            <a:ext cx="83944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OOD MIGHT HAVE BEEN INVENTED WHEN THE GLOVES OFFERED TO CUSTOMERS TO EAT HOT SAUSAGES WERE NOT BEING RETURN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457200" y="4876920"/>
            <a:ext cx="8229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ANGER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976320" y="762120"/>
            <a:ext cx="71913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RUIT IS NAMED FOR THE MOST NORTHERN CITY IN MOROCC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228600" y="4876920"/>
            <a:ext cx="8763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ASHMI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647640" y="762120"/>
            <a:ext cx="784872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DIA AND PAKISTAN HAVE FOUGHT THREE MAJOR WARS OVER WHAT REG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876920"/>
            <a:ext cx="82296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4000"/>
          </a:bodyPr>
          <a:p>
            <a:pPr marL="82080" indent="-82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ITLES  OF  LED  ZEPPELIN  SO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82080" indent="-82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82080" indent="-82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461880" y="761760"/>
            <a:ext cx="82202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NAME OF DIDO'S BIGGEST HIT SONG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685800" y="762120"/>
            <a:ext cx="7696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HALL OF FAME IS LOCATED IN DOWNTOWN CLEVELAN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571320" y="762120"/>
            <a:ext cx="80010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JOAN OSBORNE ALBUM WAS NOMINATED FOR A BLUES GRAMMY IN 2013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657360" y="761760"/>
            <a:ext cx="78292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ITCOM'S THEME SONG WAS "I'LL BE THERE FOR YOU" BY THE REMBRANDT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243000" y="761760"/>
            <a:ext cx="86580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RYAN ADAMS ALBUM WAS NAMED AFTER A MARIAH CAREY #1 SONG WHICH BEGINS WITH THE LYRICS "GIVE ME YOUR LOVE" REPEATED 8 TIM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895320" y="761760"/>
            <a:ext cx="73533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851 NOVEL IS ABOUT THE CAPTAIN OF THE WHALING SHIP PEQUO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1000080" y="762120"/>
            <a:ext cx="714384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RUIT IS NAMED FOR THE MOST NORTHERN CITY IN MOROCCO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12T18:03:49Z</dcterms:created>
  <dc:creator>Jennifer Budzinski</dc:creator>
  <dc:description/>
  <dc:language>en-US</dc:language>
  <cp:lastModifiedBy>Erich Friedman</cp:lastModifiedBy>
  <dcterms:modified xsi:type="dcterms:W3CDTF">2020-09-01T00:41:44Z</dcterms:modified>
  <cp:revision>353</cp:revision>
  <dc:subject/>
  <dc:title>Slide 1</dc:title>
</cp:coreProperties>
</file>