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4843-65F7-4EC7-A99C-F875AA06E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A4A6-7DF9-47CD-A2D7-9CBFEC3D1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C313-9A22-4257-AF6E-7A5A8CEB1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F566-048C-49DB-88BB-A6B339634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91A5-B59C-49ED-87FA-F89D09BC3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0769-227C-46C9-A355-AE661CAE5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699E-4764-45B6-8BDA-E49F26402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5137-55E0-492F-9A21-CFC49F0CD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33CB-F7CE-43FE-A1A0-313058057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B87F-9CAF-4627-86ED-D06E17D9A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5A7E-0BCC-4B20-94D3-E9B1DED76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1A21-C10D-41A6-A064-E9F14E536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6078-67B4-4A3B-8852-6C6A1B187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F5A8-EEAF-4935-8C2B-95309401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19E9-F16B-4B47-A07A-BDBCB88D7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088E-4E24-45FB-B7C2-B59A26F96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F850-09FA-40E0-8288-2E19393DD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1B4C-6C29-4A79-8366-D68D74CB9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7847-13F7-431E-A9A3-5E5F3FDEA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D973-C878-46B5-9AF2-BF59F62BA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2DA6-7CA1-409D-90E8-93914BDFD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1B7E-A71D-4B23-86B8-E1EE8168C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A3A9-D455-4843-B8B1-9FD271BD9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IA AND PAKISTAN HAVE FOUGHT THREE MAJOR WARS OVER WHAT REG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3680" y="762120"/>
            <a:ext cx="82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MIGHT HAVE BEEN INVENTED WHEN THE GLOVES OFFERED TO CUSTOMERS TO EAT HOT SAUSAGES WERE NOT BEING RETU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NK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1720" y="762120"/>
            <a:ext cx="8080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IDO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AND  R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LL OF FAME IS LOCATED IN DOWNTOWN CLEV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NG  IT  ON 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AN OSBORNE ALBUM WAS NOMINATED FOR A BLUES GRAMMY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52320" y="762120"/>
            <a:ext cx="7839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TCOM'S THEME SONG WAS "I'LL BE THERE FOR YOU" BY THE REMBRAND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BRE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YAN ADAMS ALBUM WAS NAMED AFTER A MARIAH CAREY #1 SONG WHICH BEGINS WITH THE LYRICS "GIVE ME YOUR LOVE" REPEATED 8 TIM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Y  D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6480" y="762120"/>
            <a:ext cx="733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51 NOVEL IS ABOUT THE CAPTAIN OF THE WHALING SHIP PEQU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74760" y="762120"/>
            <a:ext cx="839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MIGHT HAVE BEEN INVENTED WHEN THE GLOVES OFFERED TO CUSTOMERS TO EAT HOT SAUSAGES WERE NOT BEING RETUR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NGE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6320" y="762120"/>
            <a:ext cx="71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NAMED FOR THE MOST NORTHERN CITY IN MOROC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SHM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IA AND PAKISTAN HAVE FOUGHT THREE MAJOR WARS OVER WHAT RE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LED  ZEPPELI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IDO'S BIGGE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LL OF FAME IS LOCATED IN DOWNTOWN CLEV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AN OSBORNE ALBUM WAS NOMINATED FOR A BLUES GRAMMY IN 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TCOM'S THEME SONG WAS "I'LL BE THERE FOR YOU" BY THE REMBRAND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YAN ADAMS ALBUM WAS NAMED AFTER A MARIAH CAREY #1 SONG WHICH BEGINS WITH THE LYRICS "GIVE ME YOUR LOVE" REPEATED 8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51 NOVEL IS ABOUT THE CAPTAIN OF THE WHALING SHIP PEQU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NAMED FOR THE MOST NORTHERN CITY IN MOROC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41:44Z</dcterms:modified>
  <cp:revision>353</cp:revision>
  <dc:subject/>
  <dc:title>Slide 1</dc:title>
</cp:coreProperties>
</file>