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C153-2570-499E-ABB9-CDB57F55F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6547-42BB-402D-9B1C-F605B54B2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769B-1654-4928-B812-6F27A4514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FA7C-CB3D-4C59-A47C-03C8F2378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E731-9984-4CE5-81ED-2C2CBDB04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2B07-5FCC-4C00-89FF-1F7E6A85D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35A2-03EF-4124-883D-88D903594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84D8-1B85-4535-8B0C-CCC7FA547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A8C5-4773-473D-927E-F91184ADA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E18B-DD7F-4644-B93B-719C24CD3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21E6-C067-4AD6-AFF1-8D540AF20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6E71-6001-440B-9710-A6A552D9E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9363-6331-46B9-8E68-37C4ADDF4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FA37-9700-42EC-8F53-1E9FD2433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7769-6D70-44A4-A5D8-D9DB61064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9E0A-1382-4315-8B76-EFBD0E63F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F80F-FD4C-4E82-8714-1095B0277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C65F-2022-43C6-8B34-B5164C6E7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7B26-1152-44F9-BF32-E5BC7F91B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A67A-4AA7-4026-95E9-4CAEAB772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ACBD-32D3-4D18-BB2E-C5F8AA5B1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1422-F913-4123-A902-98D835F9E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1E9D-9F00-4166-9167-04B3F00DB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LARGEST CITY WAS ACTUALLY THE LAST PART OF THE STATE TO BE SETT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PO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INDIA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  IS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ST. THOMAS, TORTOLA, AND CULEB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OURI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WATERWAY IN NORTH AMERICA, FLOWING FROM MONTANA TO ST. LOU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95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WERE 8 U.S. PRESIDENTS B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WIN 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MINNEAPOLIS AND ST. PAUL KNOWN AS TOGE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NCINNA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OHIO WAS THE FIRST MAJOR CITY FOUNDED AFTER THE AMERICAN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TISH  COLUM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ESTERN-MOST PROVINCE OF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INDIA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HILIPP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THER PREDOMINANTLY CHRISTIAN NATION IN SOUTHEAST ASIA BESIDES EAST TIM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LLINO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LARGEST CITY WAS ACTUALLY THE LAST PART OF THE STATE TO BE SETT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CONTAIN  EXACTLY  3  I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ST. THOMAS, TORTOLA, AND CULEB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WATERWAY IN NORTH AMERICA, FLOWING FROM MONTANA TO ST. LOU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WERE 8 U.S. PRESIDENTS B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MINNEAPOLIS AND ST. PAUL KNOWN AS TOGE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3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OHIO WAS THE FIRST MAJOR CITY FOUNDED AFTER THE AMERICAN REV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ESTERN-MOST PROVINCE OF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THER PREDOMINANTLY CHRISTIAN NATION IN SOUTHEAST ASIA BESIDES EAST TIM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1:24:07Z</dcterms:created>
  <dc:creator>Jennifer Budzinski</dc:creator>
  <dc:description/>
  <dc:language>en-US</dc:language>
  <cp:lastModifiedBy>Erich Friedman</cp:lastModifiedBy>
  <dcterms:modified xsi:type="dcterms:W3CDTF">2020-09-01T00:42:14Z</dcterms:modified>
  <cp:revision>401</cp:revision>
  <dc:subject/>
  <dc:title>Slide 1</dc:title>
</cp:coreProperties>
</file>