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FC9-F2B5-4703-BCE1-ACD177F6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A4F-E233-4204-B8D7-03458EBF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434D-315D-448F-9CC8-F4491D4C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E03-AA32-436C-8F0F-F688002F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8A8-AF29-486F-838A-B30FF77D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378-9239-4571-9E4C-79178BC2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74E-8CF9-4517-AEA5-19C2629B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E615-3A25-49FE-BF47-4699D661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C79-D8A9-4738-9C73-44B0BA16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E4C9-162F-450F-872A-AD0AA0D4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3E4-B0D2-4524-B502-B2C805CB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FEDA-137B-4A86-B939-CA96B128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FCCE-6787-49C4-98FE-0D5D9E6E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38A-1F93-417B-81CD-4749AD5E4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38C1-59E3-48E4-BC84-BE08EBD5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EA0-5059-474C-AA75-61F0470D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E63-4B5A-461E-9878-89564320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7CC-7BF4-4843-AD2E-B888EA35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FA3A-C5C8-4405-9424-34CC8EF3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CA5-7111-438E-9D19-8DF5E21A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54D5-BBB1-4C5F-8DF3-DA0807D2D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EB8-1309-4AB8-B1E9-E59C6FE3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575-8447-4488-B570-8D7E2FC6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N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HILIP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XACTLY  3  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24:07Z</dcterms:created>
  <dc:creator>Jennifer Budzinski</dc:creator>
  <dc:description/>
  <dc:language>en-US</dc:language>
  <cp:lastModifiedBy>Erich Friedman</cp:lastModifiedBy>
  <dcterms:modified xsi:type="dcterms:W3CDTF">2020-09-01T00:42:14Z</dcterms:modified>
  <cp:revision>401</cp:revision>
  <dc:subject/>
  <dc:title>Slide 1</dc:title>
</cp:coreProperties>
</file>