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E4D1-76BC-4CB8-915D-852145755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D720-49EA-422F-9350-4226F03D5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F403-CE71-4A66-AA1C-1E857DD0F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4B2E-0083-4776-AC80-D84F49CD2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4884-5546-4EDC-94AE-DE4C0B80A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3701-C5F1-4BC3-BCCF-4E6F4C54E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3145-AD13-431B-9438-5C8AAB7A0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5773-A2F3-4251-8C69-4CAC2FAC3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1997-9BD4-40E7-A955-98782B3B5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F915-8BC9-4DE7-9556-87BD6988A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4402-0C04-4ECB-8CFB-943D1E834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9E71-82BC-47A4-A38F-0EA203840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DA6A-DDA2-45A5-9788-8B38A97A8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8F33-9543-4349-B64D-AC6057FC6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9599-2CC5-4C19-8304-72A1E77CB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5368-562E-46B0-8343-D6C219EC7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9160-98C5-448D-AECB-50FDB04D7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C922-D796-4B18-A547-388609663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E053-2BD7-4B31-B8EE-9A7B841F0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B512-ABD3-4536-96AC-76272B046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889D-6C17-46D0-B817-DC4971D9F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F6D0-7FE3-4FCE-935C-C1701260C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F618-6E93-4306-B931-17905631E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LARGEST CITY WAS ACTUALLY THE LAST PART OF THE STATE TO BE SETT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PO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INDIA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  IS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T. THOMAS, TORTOLA, AND CULEB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OURI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WATERWAY IN NORTH AMERICA, FLOWING FROM MONTANA TO ST. LOU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95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WERE 8 U.S. PRESIDENTS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WIN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MINNEAPOLIS AND ST. PAUL KNOWN AS TOGE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NCINN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OHIO WAS THE FIRST MAJOR CITY FOUNDED AFTER THE AMERICAN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ISH  COLU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ESTERN-MOST PROVINCE OF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INDIA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HILIPP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THER PREDOMINANTLY CHRISTIAN NATION IN SOUTHEAST ASIA BESIDES EAST TIM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LARGEST CITY WAS ACTUALLY THE LAST PART OF THE STATE TO BE SETT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CONTAIN  EXACTLY  3  I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T. THOMAS, TORTOLA, AND CULEB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WATERWAY IN NORTH AMERICA, FLOWING FROM MONTANA TO ST. LOU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WERE 8 U.S. PRESIDENTS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MINNEAPOLIS AND ST. PAUL KNOWN AS TOGE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3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OHIO WAS THE FIRST MAJOR CITY FOUNDED AFTER THE AMERICAN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ESTERN-MOST PROVINCE OF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THER PREDOMINANTLY CHRISTIAN NATION IN SOUTHEAST ASIA BESIDES EAST TIM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1:24:07Z</dcterms:created>
  <dc:creator>Jennifer Budzinski</dc:creator>
  <dc:description/>
  <dc:language>en-US</dc:language>
  <cp:lastModifiedBy>Erich Friedman</cp:lastModifiedBy>
  <dcterms:modified xsi:type="dcterms:W3CDTF">2020-09-01T00:42:14Z</dcterms:modified>
  <cp:revision>401</cp:revision>
  <dc:subject/>
  <dc:title>Slide 1</dc:title>
</cp:coreProperties>
</file>