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F0F5-26DD-49B1-9E38-87B0C6E54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9DBA-7A6D-4F53-A2D8-83B24F15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431F-113A-4BE9-82E9-B74E83F7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0210-82AD-4D2E-86B8-15C6493E4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39A0-0BA2-491B-AD00-470C4919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F8FE-5ED0-40CF-B435-4E0086FE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52E3-8DE6-415B-AB24-BF172336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A739-CBAC-4DA7-8BB4-37F2809D8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06AC-62E4-40F9-8B9E-A1E7A79E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5BC4-5670-4C79-933C-1FA97DC9B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D531-B102-4F13-8529-164DB3EB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BBD4-F7D9-44BE-9F36-EB055D07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F0C7-DB0C-4541-BE27-A1C478FF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FAF-2FD6-4F5D-A467-514B4A5DF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D271-B131-4DB0-8C4A-8A833031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A031-9D07-4F58-9B6E-4AF42302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C58D-B633-4707-A5DC-07D80E23C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1AB4-1753-42AD-B317-E46DEF71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65A-1366-4AA7-8C11-AEC7CEF3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BB1C-5474-482F-8680-058C25D5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F08-1B96-4E5D-9CC4-7440735B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DB56-9233-4C13-BBE7-42E10D4A0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1A77-0652-4F4A-9073-890A95B5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(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70000" y="762120"/>
            <a:ext cx="8604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2960" y="762120"/>
            <a:ext cx="731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512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A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4920" y="762120"/>
            <a:ext cx="7272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47600" y="4876920"/>
            <a:ext cx="704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  AND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5360" y="762120"/>
            <a:ext cx="869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THAT HAD THE #1 HIT 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AND  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OMEDY FILM STARRED WILLIAM H. MACY, SARAH JESSICA PARKER, ALEC BALDWIN, JULIA STILES, AND PHILIP SEYMOUR HO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T  COMMON  STREE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RESIDENT OF THE CONFEDERATE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H RUSSIA AND CHINA BORDER 14 DIFFERENT COUNTRIES.  WHAT ARE THEIR RANKS AMONG THE LARGEST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10-JACK-QUEEN-KING-ACE STRAIGHT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8160" y="761760"/>
            <a:ext cx="72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D MORE PEOPLE DIE AS A CONSEQUENC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POLLS OF HISTORICAL SCHOLARS, WHICH TWO U.S. PRESIDENTS ARE CONSIDERED TO HAVE BEEN THE B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HOENIX BROTHER DIED OF A DRUG OVERDOS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BEETHOVEN'S SYMPHONIES IS CALLED THE ERO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2:34Z</dcterms:modified>
  <cp:revision>359</cp:revision>
  <dc:subject/>
  <dc:title>Slide 1</dc:title>
</cp:coreProperties>
</file>