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6AAC7-4485-48CF-AC9E-D39D7FB83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AD721-F1AF-4453-B642-33EE520F6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EA24-8C1D-463B-A311-80FBE7E53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663AB-75E4-475C-8729-0CA90D348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30866-0669-4163-9B4C-9255FF684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EC7D0-B7EB-45AC-8721-E4B543BDF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55D14-B118-4CBA-9529-552331B1F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9181-5CE0-40F9-9A17-73AD9862E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5CA3E-E2B7-43B0-9456-71DBCF7A2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C8014-E14D-4F7C-A871-2535C7AE1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E639F-8E87-4C9A-AECA-D962CE182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5A419-F4DE-4A1B-96E6-B10298D6F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232F8-9A2C-4737-8768-A35693C2A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92047-05CF-4B73-B12B-919894836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C90AF-0778-4FF8-AFD2-1B61558C7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26FD3-C984-4D64-A3AC-9B9473D6A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7C00B-AE9E-491B-891C-13DECAE87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01E1A-25FC-47DC-A7AD-D85CEFDD4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EBFA4-E6DF-4543-B13F-FCEC0D50E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2193F-B5E6-4BA3-8BF1-F8D68AD4A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4145A-57BE-42F5-8EBC-E76193002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50B02-5A9C-430B-BB87-1BB2E9C7A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F9D9-4921-44CF-B879-13E293170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24000" y="761760"/>
            <a:ext cx="8496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0 COMEDY FILM STARRED WILLIAM H. MACY, SARAH JESSICA PARKER, ALEC BALDWIN, JULIA STILES, AND PHILIP SEYMOUR HOFF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THE)  5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(DIMENSI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270000" y="762120"/>
            <a:ext cx="8604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IDDLE WORD IN THE NAME OF THE GROUP THAT HAD THE #1 HIT "AQUARIUS / LET THE SUNSHINE I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9800"/>
            <a:ext cx="82296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FFERSON  (DAVI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12960" y="762120"/>
            <a:ext cx="73166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PRESIDENT OF THE CONFEDERATE ST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AND  4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OTH RUSSIA AND CHINA BORDER 14 DIFFERENT COUNTRIES.  WHAT ARE THEIR RANKS AMONG THE LARGEST COUNT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752480" y="4875120"/>
            <a:ext cx="5639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OAD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66720" y="762120"/>
            <a:ext cx="7810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ICKNAME FOR A 10-JACK-QUEEN-KING-ACE STRAIGHT IN POK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34920" y="762120"/>
            <a:ext cx="72723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D MORE PEOPLE DIE AS A CONSEQUENCE OF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R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ORLD W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047600" y="4876920"/>
            <a:ext cx="7048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NCOLN  AND  WASHING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266760" y="762120"/>
            <a:ext cx="8610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OST POLLS OF HISTORICAL SCHOLARS, WHICH TWO U.S. PRESIDENTS ARE CONSIDERED TO HAVE BEEN THE BES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81120" y="762120"/>
            <a:ext cx="77803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PHOENIX BROTHER DIED OF A DRUG OVERDOSE IN 199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225360" y="762120"/>
            <a:ext cx="869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IDDLE WORD IN THE NAME OF THE GROUP THAT HAD THE #1 HIT "AQUARIUS / LET THE SUNSHINE I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76320" y="762120"/>
            <a:ext cx="71913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BEETHOVEN'S SYMPHONIES IS CALLED THE EROIC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TE  AND  M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04920" y="762120"/>
            <a:ext cx="85341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0 COMEDY FILM STARRED WILLIAM H. MACY, SARAH JESSICA PARKER, ALEC BALDWIN, JULIA STILES, AND PHILIP SEYMOUR HOFF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4000"/>
          </a:bodyPr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ST  COMMON  STREET  NA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9880" y="761760"/>
            <a:ext cx="7462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PRESIDENT OF THE CONFEDERATE STAT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OTH RUSSIA AND CHINA BORDER 14 DIFFERENT COUNTRIES.  WHAT ARE THEIR RANKS AMONG THE LARGEST COUNT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28560" y="762120"/>
            <a:ext cx="7886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ICKNAME FOR A 10-JACK-QUEEN-KING-ACE STRAIGHT IN POK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38160" y="761760"/>
            <a:ext cx="7267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D MORE PEOPLE DIE AS A CONSEQUENCE OF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R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ORLD W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243000" y="761760"/>
            <a:ext cx="8658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OST POLLS OF HISTORICAL SCHOLARS, WHICH TWO U.S. PRESIDENTS ARE CONSIDERED TO HAVE BEEN THE BE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76440" y="761760"/>
            <a:ext cx="7791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PHOENIX BROTHER DIED OF A DRUG OVERDOSE IN 199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000080" y="762120"/>
            <a:ext cx="7143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BEETHOVEN'S SYMPHONIES IS CALLED THE EROIC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2T18:03:49Z</dcterms:created>
  <dc:creator>Jennifer Budzinski</dc:creator>
  <dc:description/>
  <dc:language>en-US</dc:language>
  <cp:lastModifiedBy>Erich Friedman</cp:lastModifiedBy>
  <dcterms:modified xsi:type="dcterms:W3CDTF">2020-09-01T00:42:34Z</dcterms:modified>
  <cp:revision>359</cp:revision>
  <dc:subject/>
  <dc:title>Slide 1</dc:title>
</cp:coreProperties>
</file>