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D8B00-BD65-4381-9CCB-3FAD334AF5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44913-9C8D-41F6-AC97-11CB5FEB08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8B26C-EA83-445E-86A2-2FAF775B98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05691-903D-4EED-9195-364A94648A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DCEA9-55C0-42A1-A8E4-23C69AFD18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69C1A-70F8-4656-9DB9-701E561A44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3B281-DF10-4F1E-B01C-48F7755B8F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F6F99-5FE0-4379-82E7-6EEAA695C4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536F9-090A-4424-9BBF-181FFFBA5E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1888F-9DBC-4A82-B19E-792B892477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38721-173B-4CE1-82F9-7CB39356C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39451-5990-4FBD-B653-A466102C69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BAB95-FF0C-4CE1-8EF9-11119A28F0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E606B-F819-4399-AB18-051A21FA0A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0043B-3C0F-4F1D-9784-EB55F66939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ABB24-EDFD-4265-93B9-201D65C529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B976A-F4D6-4404-9A81-ECC22F2548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F6CFE-D527-4754-8305-05A212920C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D82AD-BA5C-4F39-9B2F-A84F8192CF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F7D42-38E6-4A0A-A499-9398C88EE7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EB3D1-9116-42B1-BFAB-8C1EA58528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93927-4688-4161-8EFD-FEB7439031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6CBA1-5254-45CE-83DB-45F12039C8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24000" y="761760"/>
            <a:ext cx="8496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0 COMEDY FILM STARRED WILLIAM H. MACY, SARAH JESSICA PARKER, ALEC BALDWIN, JULIA STILES, AND PHILIP SEYMOUR HOFFM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THE)  5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(DIMENSIO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270000" y="762120"/>
            <a:ext cx="86040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IDDLE WORD IN THE NAME OF THE GROUP THAT HAD THE #1 HIT "AQUARIUS / LET THE SUNSHINE I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9800"/>
            <a:ext cx="822960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FFERSON  (DAVI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12960" y="762120"/>
            <a:ext cx="73166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PRESIDENT OF THE CONFEDERATE STAT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AND  4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OTH RUSSIA AND CHINA BORDER 14 DIFFERENT COUNTRIES.  WHAT ARE THEIR RANKS AMONG THE LARGEST COUNTR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752480" y="4875120"/>
            <a:ext cx="56390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OAD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66720" y="762120"/>
            <a:ext cx="7810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ICKNAME FOR A 10-JACK-QUEEN-KING-ACE STRAIGHT IN POK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934920" y="762120"/>
            <a:ext cx="72723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D MORE PEOPLE DIE AS A CONSEQUENCE OF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R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ORLD W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047600" y="4876920"/>
            <a:ext cx="7048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NCOLN  AND  WASHING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266760" y="762120"/>
            <a:ext cx="86104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MOST POLLS OF HISTORICAL SCHOLARS, WHICH TWO U.S. PRESIDENTS ARE CONSIDERED TO HAVE BEEN THE BES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81120" y="762120"/>
            <a:ext cx="77803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PHOENIX BROTHER DIED OF A DRUG OVERDOSE IN 1993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225360" y="762120"/>
            <a:ext cx="8693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IDDLE WORD IN THE NAME OF THE GROUP THAT HAD THE #1 HIT "AQUARIUS / LET THE SUNSHINE I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76320" y="762120"/>
            <a:ext cx="71913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F BEETHOVEN'S SYMPHONIES IS CALLED THE EROIC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22860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TE  AND  M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304920" y="762120"/>
            <a:ext cx="85341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0 COMEDY FILM STARRED WILLIAM H. MACY, SARAH JESSICA PARKER, ALEC BALDWIN, JULIA STILES, AND PHILIP SEYMOUR HOFFM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4000"/>
          </a:bodyPr>
          <a:p>
            <a:pPr marL="82080" indent="-82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ST  COMMON  STREET  NA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39880" y="761760"/>
            <a:ext cx="7462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PRESIDENT OF THE CONFEDERATE STAT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OTH RUSSIA AND CHINA BORDER 14 DIFFERENT COUNTRIES.  WHAT ARE THEIR RANKS AMONG THE LARGEST COUNTR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28560" y="762120"/>
            <a:ext cx="7886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ICKNAME FOR A 10-JACK-QUEEN-KING-ACE STRAIGHT IN POK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38160" y="761760"/>
            <a:ext cx="72676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D MORE PEOPLE DIE AS A CONSEQUENCE OF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R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ORLD W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243000" y="761760"/>
            <a:ext cx="8658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MOST POLLS OF HISTORICAL SCHOLARS, WHICH TWO U.S. PRESIDENTS ARE CONSIDERED TO HAVE BEEN THE BE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76440" y="761760"/>
            <a:ext cx="7791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PHOENIX BROTHER DIED OF A DRUG OVERDOSE IN 1993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000080" y="762120"/>
            <a:ext cx="71438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F BEETHOVEN'S SYMPHONIES IS CALLED THE EROIC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12T18:03:49Z</dcterms:created>
  <dc:creator>Jennifer Budzinski</dc:creator>
  <dc:description/>
  <dc:language>en-US</dc:language>
  <cp:lastModifiedBy>Erich Friedman</cp:lastModifiedBy>
  <dcterms:modified xsi:type="dcterms:W3CDTF">2020-09-01T00:42:34Z</dcterms:modified>
  <cp:revision>359</cp:revision>
  <dc:subject/>
  <dc:title>Slide 1</dc:title>
</cp:coreProperties>
</file>