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DFB6F-BBCB-4065-8709-C3140F2F8C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58131-56CB-4C8C-9C4D-F5F8E96277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57CB4-EB04-497E-A64F-E4A702C5D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E54D2-414F-4394-8A4B-C2B45CB7C8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E4230-576F-42E8-A12E-78CE3F335B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C098E-2D4B-447E-8CF8-4F30828969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E40E1-8B4A-45FA-B210-CB7CF9D1AE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4CB27-3BCE-4476-97F2-75C9F5B4FD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5A003-BD80-43E8-BD12-81866FB2CB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EE250-6CA8-4E3A-BB0E-DBBDBEAA3C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00CB3-DDC6-4B76-AFB6-0E072F2BA2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25C44-E1B8-41B7-A826-549D500AE7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FE889-FEF9-4A7B-96B1-6EED9BA0AE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EADAA-9793-4B71-988F-8AC7BA75E6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8C5AE-05A4-4D60-8638-6BE70379D6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2894B-855F-41ED-AED2-CBC3E862C0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63CF4-6A26-4BCC-8A9B-72D5AA3087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BC946-6E59-4ED4-8037-F49A8D9DCF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950F6-D867-4A1A-9A16-8E5C4CF46D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F5BB6-1FB3-4E4E-A9F9-1FA791A914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771FB-ADEC-426C-B9D1-CB079DE51D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326B1-ECD4-4FAF-83A2-5DDF4EC749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52A53-3E53-49D4-AD65-88F370CA5D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28520" y="15238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534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MON TOOL DO THE FRENCH CALL "TOURNEVIS"? AND THE GERMANS CALL "SCHRAUBENDREH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GENT  OR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033560" y="762120"/>
            <a:ext cx="7086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MOST COMMON HERBICIDE DROPPED ON VIETNA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LOMB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IS ADJACENT TO BOTH VENEZUELA AND ECUAD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EYH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181160" y="762120"/>
            <a:ext cx="67816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ASTEST DOG BRE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URPLE  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INCE ALBUM CONTAINS THE HIT SONGS "WHEN DOVES CRY" AND "LET'S GO CRAZ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QUA  VEL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AND OF BLUE AFTER SHAVE STILL AVAILABLE TODAY WAS INTRODUCED OVER 100 YEARS AG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MIKAZ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71680" y="762120"/>
            <a:ext cx="8001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TRARY TO POPULAR BELIEF, WHAT JAPANESE WORD MEANS "SPIRIT WIND", NOT "SUICIDE ATTAC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76920"/>
            <a:ext cx="5943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LUE  LAG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104840" y="762120"/>
            <a:ext cx="69343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0 FILM STARRED BROOKE SHIELDS AND CHRISTOPHER ATKINS  AS CHILD CASTAWAY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MOST COMMON HERBICIDE DROPPED ON VIETNA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295280" y="4876920"/>
            <a:ext cx="6553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OODY  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80880" y="762120"/>
            <a:ext cx="8382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ICKNAME DID THE QUEEN OF ENGLAND DURING 1553-1558 HAVE FOR BRUTALLY TRYING TO REVERSE THE ENGLISH REFORM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CREWDRI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19040" y="762120"/>
            <a:ext cx="8305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MON TOOL DO THE FRENCH CALL "TOURNEVIS"? AND THE GERMANS CALL "SCHRAUBENDREH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0" y="48006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VODKA  COCKTAI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IS ADJACENT TO BOTH VENEZUELA AND ECUAD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66680" y="762120"/>
            <a:ext cx="70106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ASTEST DOG BRE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INCE ALBUM CONTAINS THE HIT SONGS "WHEN DOVES CRY" AND "LET'S GO CRAZ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AND OF BLUE AFTER SHAVE STILL AVAILABLE TODAY WAS INTRODUCED OVER 100 YEARS AG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TRARY TO POPULAR BELIEF, WHAT JAPANESE WORD MEANS "SPIRIT WIND", NOT "SUICIDE ATTACK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0 FILM STARRED BROOKE SHIELDS AND CHRISTOPHER ATKINS AS CHILD CASTAWAY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ICKNAME DID THE QUEEN OF ENGLAND DURING 1553-1558 HAVE FOR BRUTALLY TRYING TO REVERSE THE ENGLISH REFORMA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0T02:07:23Z</dcterms:created>
  <dc:creator>Jennifer Budzinski</dc:creator>
  <dc:description/>
  <dc:language>en-US</dc:language>
  <cp:lastModifiedBy>Erich Friedman</cp:lastModifiedBy>
  <dcterms:modified xsi:type="dcterms:W3CDTF">2020-09-01T00:42:52Z</dcterms:modified>
  <cp:revision>413</cp:revision>
  <dc:subject/>
  <dc:title>Slide 1</dc:title>
</cp:coreProperties>
</file>