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EA6A4-80C6-4FBB-84BC-19A49B9D30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2EAB4-6F03-4F0B-AB59-4EA9CD2C70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4DBB6-75BA-458B-A936-B2CA90251D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67DCA-E0F7-4C27-9944-E98A250942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1D74B-E9BB-4F67-9561-BDE6CA5076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3D084-1534-40D4-9E8D-2B47196DF8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DF097-EEFF-4B97-B640-BE4B2E779F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43255-7BD5-40F0-BD30-10CB37BBAF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80449-80E7-4D91-B624-550809A06B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643E9-D300-4DAD-B314-09B5444773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547AF-F76C-461B-B2A2-B9F04A9E0D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CBA9D-C87D-4A32-B865-6DACB3FE29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5F141-E8FC-47AE-861E-6DB480AFC0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BDDFD-EB53-4130-8CA3-6A17AAB6AE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F10AB-24A0-4076-8058-CAABAA2A14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9330A-162B-4FB7-A963-AD1746DD50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B1612-F28E-4320-B875-B9AC2A3E2B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533DA-37D0-4524-B179-9E510C6E35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189C1-E41A-4EB8-AC4C-599A728B15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35787-9B26-45A6-AC14-C98BCDFA6F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E56B3-C3DB-4124-8731-F9C87EBFC9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1BB30-6231-4D28-8A84-5F5CE06095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951E4-905D-48EA-81D5-EC0588BB22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028520" y="15238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304920" y="762120"/>
            <a:ext cx="85341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MMON TOOL DO THE FRENCH CALL "TOURNEVIS"? AND THE GERMANS CALL "SCHRAUBENDREHER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GENT  ORAN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1033560" y="762120"/>
            <a:ext cx="70866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MOST COMMON HERBICIDE DROPPED ON VIETNA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600200" y="4876920"/>
            <a:ext cx="60958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LOMB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685800" y="762120"/>
            <a:ext cx="77724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UNTRY IS ADJACENT TO BOTH VENEZUELA AND ECUADO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REYHOU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1181160" y="762120"/>
            <a:ext cx="678168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ASTEST DOG BRE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4582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URPLE  RA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838080" y="762120"/>
            <a:ext cx="74678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RINCE ALBUM CONTAINS THE HIT SONGS "WHEN DOVES CRY" AND "LET'S GO CRAZ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QUA  VELV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533520" y="762120"/>
            <a:ext cx="80769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RAND OF BLUE AFTER SHAVE STILL AVAILABLE TODAY WAS INTRODUCED OVER 100 YEARS AG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AMIKAZ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571680" y="762120"/>
            <a:ext cx="80010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NTRARY TO POPULAR BELIEF, WHAT JAPANESE WORD MEANS "SPIRIT WIND", NOT "SUICIDE ATTACK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600200" y="4876920"/>
            <a:ext cx="5943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BLUE  LAGO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1104840" y="762120"/>
            <a:ext cx="69343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80 FILM STARRED BROOKE SHIELDS AND CHRISTOPHER ATKINS  AS CHILD CASTAWAY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952560" y="762120"/>
            <a:ext cx="72388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MOST COMMON HERBICIDE DROPPED ON VIETNA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295280" y="4876920"/>
            <a:ext cx="65534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LOODY  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380880" y="762120"/>
            <a:ext cx="83822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ICKNAME DID THE QUEEN OF ENGLAND DURING 1553-1558 HAVE FOR BRUTALLY TRYING TO REVERSE THE ENGLISH REFORMAT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CREWDRIV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419040" y="762120"/>
            <a:ext cx="83059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MMON TOOL DO THE FRENCH CALL "TOURNEVIS"? AND THE GERMANS CALL "SCHRAUBENDREHER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0" y="48006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AMES  OF  VODKA  COCKTAI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533520" y="761760"/>
            <a:ext cx="80769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UNTRY IS ADJACENT TO BOTH VENEZUELA AND ECUADO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1066680" y="762120"/>
            <a:ext cx="70106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ASTEST DOG BRE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914400" y="762120"/>
            <a:ext cx="73152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RINCE ALBUM CONTAINS THE HIT SONGS "WHEN DOVES CRY" AND "LET'S GO CRAZY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533520" y="762120"/>
            <a:ext cx="80769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RAND OF BLUE AFTER SHAVE STILL AVAILABLE TODAY WAS INTRODUCED OVER 100 YEARS AGO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571320" y="7617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NTRARY TO POPULAR BELIEF, WHAT JAPANESE WORD MEANS "SPIRIT WIND", NOT "SUICIDE ATTACK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1066680" y="762120"/>
            <a:ext cx="70106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80 FILM STARRED BROOKE SHIELDS AND CHRISTOPHER ATKINS AS CHILD CASTAWAY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342720" y="76212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ICKNAME DID THE QUEEN OF ENGLAND DURING 1553-1558 HAVE FOR BRUTALLY TRYING TO REVERSE THE ENGLISH REFORMATI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10T02:07:23Z</dcterms:created>
  <dc:creator>Jennifer Budzinski</dc:creator>
  <dc:description/>
  <dc:language>en-US</dc:language>
  <cp:lastModifiedBy>Erich Friedman</cp:lastModifiedBy>
  <dcterms:modified xsi:type="dcterms:W3CDTF">2020-09-01T00:42:52Z</dcterms:modified>
  <cp:revision>413</cp:revision>
  <dc:subject/>
  <dc:title>Slide 1</dc:title>
</cp:coreProperties>
</file>