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D0D3-E09D-4B1D-B3C7-B13F9A64B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2AC7-211B-49E8-9931-006FD03A0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2AC8-0B12-4D4A-8F8F-DC5587378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1990-54EA-4B2B-AF44-F6A87AD29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FE98-CEAF-49BC-843A-0EB438771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4B14-04AD-4C28-A5C4-A2C12F868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AA15-CEF5-4324-B6BF-088366F52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CC1E-0E05-4288-93A2-42F662445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67C4-2079-4B57-B715-D645BF9EB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6C88-14D7-44A1-9B5E-CD4AD2C74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F65B-F8DE-4888-9BDB-4A06303E0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1572-800F-4F10-8AF5-69F44FE4A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8F09-F6DE-40C7-85F2-7227575E4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88DC-B43F-415E-8179-2C92E0C05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1BCA-2CC0-46CD-9622-6ECCBDA96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1CC5-ECF1-455F-AB93-677200079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C8EE-D5AB-4A4D-9E64-3801F1234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9F95-32D8-4F3E-AAE3-9BBBEDF82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AD45-3B4B-4AB6-A34D-234E6B383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5AE3-C064-4487-A0C8-0D2F0F8D4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B68E-CA98-40E8-B8A4-E70A2EB71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EB5E-92FA-4509-8C8C-9D18005FD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9189-1BFA-4E01-8A85-C7BF8F08F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TOOL DO THE FRENCH CALL "TOURNEVIS"? AND THE GERMANS CALL "SCHRAUBENDRE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ENT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3356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COMMON HERBICIDE DROPPED ON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ADJACENT TO BOTH VENEZUELA AND ECUAD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YH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DOG BR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NCE ALBUM CONTAINS THE HIT SONGS "WHEN DOVES CRY" AND "LET'S GO CRAZ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QUA  VEL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BLUE AFTER SHAVE STILL AVAILABLE TODAY WAS INTRODUCED OVER 100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MIKA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ARY TO POPULAR BELIEF, WHAT JAPANESE WORD MEANS "SPIRIT WIND", NOT "SUICIDE ATT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LUE  LAG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FILM STARRED BROOKE SHIELDS AND CHRISTOPHER ATKINS  AS CHILD CASTAW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COMMON HERBICIDE DROPPED ON VIETN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Y 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ID THE QUEEN OF ENGLAND DURING 1553-1558 HAVE FOR BRUTALLY TRYING TO REVERSE THE ENGLISH REFORM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WD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TOOL DO THE FRENCH CALL "TOURNEVIS"? AND THE GERMANS CALL "SCHRAUBENDRE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006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VODKA  COCK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ADJACENT TO BOTH VENEZUELA AND ECUA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DOG BR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NCE ALBUM CONTAINS THE HIT SONGS "WHEN DOVES CRY" AND "LET'S GO CRAZ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BLUE AFTER SHAVE STILL AVAILABLE TODAY WAS INTRODUCED OVER 100 YEARS 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ARY TO POPULAR BELIEF, WHAT JAPANESE WORD MEANS "SPIRIT WIND", NOT "SUICIDE ATT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FILM STARRED BROOKE SHIELDS AND CHRISTOPHER ATKINS AS CHILD CASTAWA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ID THE QUEEN OF ENGLAND DURING 1553-1558 HAVE FOR BRUTALLY TRYING TO REVERSE THE ENGLISH REFOR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02:07:23Z</dcterms:created>
  <dc:creator>Jennifer Budzinski</dc:creator>
  <dc:description/>
  <dc:language>en-US</dc:language>
  <cp:lastModifiedBy>Erich Friedman</cp:lastModifiedBy>
  <dcterms:modified xsi:type="dcterms:W3CDTF">2020-09-01T00:42:52Z</dcterms:modified>
  <cp:revision>413</cp:revision>
  <dc:subject/>
  <dc:title>Slide 1</dc:title>
</cp:coreProperties>
</file>