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4457-16F2-434F-A923-C82B6D95B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2274-B595-496A-8C22-287B8E1E1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C23A-3211-4A28-AF55-097E71B5C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2D6E-FFB0-4CA5-A612-0CF87346F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F2F9-1F29-47DB-9879-B63C05164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9001-C5D2-48D8-8210-17A524574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263B-A221-4547-BB51-7F1B06638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6130-381F-4164-9A4A-88CD235A1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F847-9E95-407D-88A9-8F9C9F204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A284-4F17-4965-A26C-1ECC81EDD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A2D1-8F47-4CBD-A120-0D31B5FEE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DFAA-F40A-4E6D-93B8-CB494A872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64C1-FF68-46B7-B047-CF833DD9A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7EE0-479B-4112-8FA2-CD0DFAD13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690D-CC6C-4074-9829-BBE57312B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CE4C-90C9-42B8-BBB3-21A14B1F2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2042-B49F-467C-9D8A-50A6F28E5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AB30-211F-4517-A537-9B9BE404B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EDB4-134A-4F41-8676-1F5753E1D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89F9-EA3D-4053-996C-6C8218E3A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E5B0-3F39-47CA-9F40-EA7981EAB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5514-829A-4D1C-8A1B-5FF713036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7FFD-15F1-48FC-AEA2-4FB1961AC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04720" y="762120"/>
            <a:ext cx="8134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SMALLEST CAR THAT AUSTIN-HEALEY MADE 1958-197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05040" y="762120"/>
            <a:ext cx="7333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AY, HARD, POROUS FUEL DO YOU GET WHEN YOU HEAT COAL OR OIL IN THE ABSENCE OF 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AIN  D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00160" y="762120"/>
            <a:ext cx="874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FOR MOONSHINE IS SOMETHING YOU WOULD SEE IN THE MORNING RATHER THAN AT N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61880" y="762120"/>
            <a:ext cx="8220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MOVEMENTS OF A BOAT, UP/DOWN IS CALLED "HEAVE", LEFT/RIGHT IS CALLED "ROLL", AND FRONT/BACK I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04880" y="770040"/>
            <a:ext cx="7734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BLOID DID ROBERT MURDOCH FOUND IN 1974 AS COMPETITION TO "THE NATIONAL ENQUIR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85720" y="762120"/>
            <a:ext cx="797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DON'T THINK YOUR OPPONENTS CAN MAKE THEIR CONTRACT IN BRIDGE, WHAT SHOULD YOU B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LOW  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19160" y="762120"/>
            <a:ext cx="71056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NOVAN HIT SONG WAS ABOUT VIBRATORS, CONTAINING THE LYRICS "ELECTRICAL BAN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34920" y="762120"/>
            <a:ext cx="7272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IS ABOVE THE "CAPS LOCK" KEY ON MOST KEYBO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AY, HARD, POROUS FUEL DO YOU GET WHEN YOU HEAT COAL OR OIL IN THE ABSENCE OF 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  THE REMOTE CONTROL BUGGY IN "TOY ST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SMALLEST CAR THAT AUSTIN-HEALEY MADE 1958-197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52400" y="4876920"/>
            <a:ext cx="763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OFT  DRI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76040" y="761760"/>
            <a:ext cx="8791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FOR MOONSHINE IS SOMETHING YOU WOULD SEE IN THE MORNING RATHER THAN AT N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47840" y="762120"/>
            <a:ext cx="8248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MOVEMENTS OF A BOAT, UP/DOWN IS CALLED "HEAVE", LEFT/RIGHT IS CALLED "ROLL", AND FRONT/BACK I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BLOID DID ROBERT MURDOCH FOUND IN 1974 AS COMPETITION TO "THE NATIONAL ENQUIR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DON'T THINK YOUR OPPONENTS CAN MAKE THEIR CONTRACT IN BRIDGE, WHAT SHOULD YOU BI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NOVAN HIT SONG WAS ABOUT VIBRATORS, CONTAINING THE LYRICS "ELECTRICAL BANA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3640" y="762120"/>
            <a:ext cx="7234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IS ABOVE THE "CAPS LOCK" KEY ON MOST KEYBO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  THE REMOTE CONTROL BUGGY IN "TOY ST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9-01T00:49:12Z</dcterms:modified>
  <cp:revision>445</cp:revision>
  <dc:subject/>
  <dc:title>Slide 1</dc:title>
</cp:coreProperties>
</file>