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819-8C3A-4208-B7CB-A8ADEAC6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242-CA8C-453D-86E9-98278E70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79B-EE23-41DD-AA18-A7363269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52A-F34D-4A3C-8827-3234C5ED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B496-2544-4A24-8808-702548CD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0EE-5197-446B-9380-FC79766E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E8F7-936C-4081-A44F-6D2FECD9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374-45D1-4023-844D-A1780353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DDF-E30C-4DD9-AFBD-85B271EB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4AD1-EB66-47F3-BC90-6CE38960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C51-9355-4BD6-BCD9-792ED170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31B5-80CF-411D-98BD-67670967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627-97D9-4656-9E5E-1D6FCE3F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3B3-6F68-4780-8389-2233744F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851-3F0C-4FC7-84A4-DA3661E9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9E6-1BCE-434B-A5B9-39916708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D2D-862C-46B6-AECF-9E74212E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B9BB-8841-4C3B-A493-B3B33739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8C8-9A93-4974-A13C-06ACCDBB0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C83-48DA-403C-94EE-EF309BE0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0194-A96A-4465-80AC-0F214E64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C17E-8AA2-4767-B604-DBD0C9F8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523F-172A-4C5E-B931-133D503E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61880" y="762120"/>
            <a:ext cx="8220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7004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5720" y="762120"/>
            <a:ext cx="797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34920" y="762120"/>
            <a:ext cx="7272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OFT  DR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3640" y="76212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12Z</dcterms:modified>
  <cp:revision>445</cp:revision>
  <dc:subject/>
  <dc:title>Slide 1</dc:title>
</cp:coreProperties>
</file>