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A045-4C0D-4675-B87D-C85F35121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BC40-CC4D-40A9-AEF4-F5E47F4BC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75E0-05F8-4AA2-A6A0-590F4D0CD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B210-F104-46D6-A087-70E2EA155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0CE9-7339-4266-87E7-5F2BD9E0A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99CB-3091-43CC-A7D9-4691A9A2A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DCF2-D8E0-4A5F-BEA5-F6FA732BB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E90D-DEDD-4BF6-8527-424BCB3A5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001D-715C-4736-9636-1915DDBD1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3E38-1626-4808-9E4C-E42B7FC45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4D0F-8C0F-47ED-B3B8-1870F0888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5DEC-5D5D-4FD7-9A02-6097B7CD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2D86-56A3-48E0-B955-13603658D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3BD2-96DB-4ED8-B806-104229E6B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E166-419F-468C-B6A6-E292375B9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5563-EEB8-41B1-B7B3-AA1C6BA8F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807C-1215-488B-8F16-FC5A906D3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211F-2E4C-47EB-9DC6-706EFA169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283B-22A0-445D-8DB7-D9B6CEA12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4615-1A72-46A6-933B-ACDA6589B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02F3-36C7-4134-852A-ABDD15E0A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7421-AF72-41D1-98E8-6D6B41F6E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8208-825A-4512-A3CE-8FD23C929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SMALLEST CAR THAT AUSTIN-HEALEY MADE 1958-197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05040" y="762120"/>
            <a:ext cx="7333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Y, HARD, POROUS FUEL DO YOU GET WHEN YOU HEAT COAL OR OIL IN THE ABSENCE OF 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AIN  D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FOR MOONSHINE IS SOMETHING YOU WOULD SEE IN THE MORNING RATHER THAN AT N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61880" y="762120"/>
            <a:ext cx="8220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MOVEMENTS OF A BOAT, UP/DOWN IS CALLED "HEAVE", LEFT/RIGHT IS CALLED "ROLL", AND FRONT/BACK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4880" y="770040"/>
            <a:ext cx="7734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BLOID DID ROBERT MURDOCH FOUND IN 1974 AS COMPETITION TO "THE NATIONAL ENQUIR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85720" y="762120"/>
            <a:ext cx="797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DON'T THINK YOUR OPPONENTS CAN MAKE THEIR CONTRACT IN BRIDGE, WHAT SHOULD YOU B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LOW  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19160" y="762120"/>
            <a:ext cx="7105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OVAN HIT SONG WAS ABOUT VIBRATORS, CONTAINING THE LYRICS "ELECTRICAL BAN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34920" y="762120"/>
            <a:ext cx="7272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IS ABOVE THE "CAPS LOCK" KEY ON MOST KEYBO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Y, HARD, POROUS FUEL DO YOU GET WHEN YOU HEAT COAL OR OIL IN THE ABSENCE OF 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 THE REMOTE CONTROL BUGGY IN "TOY S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SMALLEST CAR THAT AUSTIN-HEALEY MADE 1958-197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52400" y="4876920"/>
            <a:ext cx="763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OFT  DRI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6040" y="761760"/>
            <a:ext cx="8791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FOR MOONSHINE IS SOMETHING YOU WOULD SEE IN THE MORNING RATHER THAN AT 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47840" y="762120"/>
            <a:ext cx="8248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MOVEMENTS OF A BOAT, UP/DOWN IS CALLED "HEAVE", LEFT/RIGHT IS CALLED "ROLL", AND FRONT/BACK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BLOID DID ROBERT MURDOCH FOUND IN 1974 AS COMPETITION TO "THE NATIONAL ENQUIR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DON'T THINK YOUR OPPONENTS CAN MAKE THEIR CONTRACT IN BRIDGE, WHAT SHOULD YOU B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OVAN HIT SONG WAS ABOUT VIBRATORS, CONTAINING THE LYRICS "ELECTRICAL BANA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3640" y="762120"/>
            <a:ext cx="7234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IS ABOVE THE "CAPS LOCK" KEY ON MOST KEYBO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 THE REMOTE CONTROL BUGGY IN "TOY S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49:12Z</dcterms:modified>
  <cp:revision>445</cp:revision>
  <dc:subject/>
  <dc:title>Slide 1</dc:title>
</cp:coreProperties>
</file>