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DCBA-34E6-4F3B-B6CC-5F6083D9E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3E5E-353C-493A-9BF6-7DC430516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E7E5-ABB5-4CF0-A3CD-14CE55783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A170-1B04-481D-A1C2-4BD213F6E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EBE8-6934-4DB7-97DA-6C2830BA1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70C4-75D8-4566-8BDA-08C77221F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3313-32A6-4C33-ADF6-829C7815E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1A33-CBC3-43C8-B156-0E5F2730F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31B4-8FAB-4161-A1AB-431488839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D2F2-C9BC-417D-BC0B-60F582914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F10B-6D8D-49C4-A6D2-7558532AE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4C00-F6F0-449E-8B34-B10975C5C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EA09-C08B-4892-8D5F-F9479D81F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6C5D-6A1A-42D3-90AF-F987A57AB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B416-AC3D-436C-A37B-BCD6A31E4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CE2C-3622-4020-8C9E-5E9AF7BCE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F9D5-DBDA-41FE-8ACD-BDC6853B0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561B-DF4C-4173-8D67-47A5B565C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46F6-E26F-4812-9FA6-3F301D0D1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022B-4F72-405C-8AB3-CABDE2DCB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A58F-6488-43EF-9218-FC1391233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4147-58F4-4706-B649-B525BD985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AA4F-F307-4B1D-86D5-A8B9E5AB3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TICAL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ILLARY CLINTON'S RUNNING MATE IN THE 2016 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RICK  HEN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"GIVE ME LIBERTY OR GIVE ME DEA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JEFF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SECRETARY OF STATE, AND THE U.S. PRESIDENT DURING THE LOUISIANA PURCH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212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MUND  RANDOL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30080"/>
            <a:ext cx="6781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SECRETARY OF STATE AN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ATTORNEY GENE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TY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ICE PRESIDENT TO SUCCEED TO THE PRESIDENCY WITHOUT 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BY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MOCRATIC SENATOR LED THE "CONSERVATIVE COALITION" IN THE 1950'S AND 196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GLAS  WI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LECTED AFRICAN-AMERICAN GOVER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"GIVE ME LIBERTY OR GIVE ME DEA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W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VE THE KEYNOTE SPEECH AT THE 2008 DEMOCRATIC CONVENTION, BUT NEVER SOUGHT A PRESIDENTIAL NOMIN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K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ILLARY CLINTON'S RUNNING MATE IN THE 2016 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VERNORS  OF  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SECRETARY OF STATE, AND THE U.S. PRESIDENT DURING THE LOUISIANA PURCHA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81160" y="762120"/>
            <a:ext cx="678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SECRETARY OF STATE AN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ATTORNEY GENE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ICE PRESIDENT TO SUCCEED TO THE PRESIDENCY WITHOUT 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MOCRATIC SENATOR LED THE "CONSERVATIVE COALITION" IN THE 1950'S AND 196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LECTED AFRICAN-AMERICAN GOVERN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VE THE KEYNOTE SPEECH AT THE 2008 DEMOCRATIC CONVENTION, BUT NEVER SOUGHT A PRESIDENTIAL NOMIN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3:53:29Z</dcterms:created>
  <dc:creator>Jennifer Budzinski</dc:creator>
  <dc:description/>
  <dc:language>en-US</dc:language>
  <cp:lastModifiedBy>Erich Friedman</cp:lastModifiedBy>
  <dcterms:modified xsi:type="dcterms:W3CDTF">2020-08-24T17:48:51Z</dcterms:modified>
  <cp:revision>410</cp:revision>
  <dc:subject/>
  <dc:title>Slide 1</dc:title>
</cp:coreProperties>
</file>