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99295-E5D5-45CA-9176-E42FF9929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D7C6-317C-4DFE-9915-B2F4F9E27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D2C3-B637-4810-9D25-6EC8C924C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F520-7454-4A31-84F7-75218850A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B626-9090-424A-978C-F9CEDB20E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EEC1-4466-41DA-8F88-CC90DC425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3A10-11F6-4229-BD63-6EF7D0D51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C0B3-C213-42ED-A304-0DCD34EA0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37F3-74AD-4504-A573-EFA169733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BC67-37E6-4269-8914-7468DD331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D39D1-A1DD-47BB-9FB7-3DDBF2058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9C55-72CA-41BE-BEE7-731C6F3AB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CFF5-4118-4B21-AD24-2FD24AA11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1605-33A2-41C4-A00E-05779E800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6874-8ED5-40CC-A7E2-51456DFFA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9D66-6233-4423-B6EF-8296D8A6B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BB04-A4E5-4E81-9659-F7F6B5F23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27AB-A4CB-40DD-89ED-CFA3EFE46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ACBD-BECC-49DD-A385-83D5EA94A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A546-C03D-4438-8C36-C28BFAD54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3AFD-F410-42B8-A75B-AED1B7A3A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339D-3FA4-416B-B651-A3037B672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59C3-C02C-47BC-A744-9D33A7C5A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AL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ILLARY CLINTON'S RUNNING MATE IN THE 2016 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RICK  HEN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"GIVE ME LIBERTY OR GIVE ME DEA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JEFF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ECRETARY OF STATE, AND THE U.S. PRESIDENT DURING THE LOUISIANA PURCH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212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MUND  RANDOL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30080"/>
            <a:ext cx="6781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ECRETARY OF STATE AN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ATTORNEY GENE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TY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ICE PRESIDENT TO SUCCEED TO THE PRESIDENCY WITHOUT 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BY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MOCRATIC SENATOR LED THE "CONSERVATIVE COALITION" IN THE 1950'S AND 196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LAS  W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LECTED AFRICAN-AMERICAN GOVERN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ID "GIVE ME LIBERTY OR GIVE ME DEA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W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VE THE KEYNOTE SPEECH AT THE 2008 DEMOCRATIC CONVENTION, BUT NEVER SOUGHT A PRESIDENTIAL NOMI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K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HILLARY CLINTON'S RUNNING MATE IN THE 2016 EL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VERNORS  OF  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ECRETARY OF STATE, AND THE U.S. PRESIDENT DURING THE LOUISIANA PURCH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81160" y="762120"/>
            <a:ext cx="678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SECRETARY OF STATE AND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ATTORNEY GENE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ICE PRESIDENT TO SUCCEED TO THE PRESIDENCY WITHOUT ELE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MOCRATIC SENATOR LED THE "CONSERVATIVE COALITION" IN THE 1950'S AND 196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LECTED AFRICAN-AMERICAN GOVERN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GAVE THE KEYNOTE SPEECH AT THE 2008 DEMOCRATIC CONVENTION, BUT NEVER SOUGHT A PRESIDENTIAL NOMIN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2T13:53:29Z</dcterms:created>
  <dc:creator>Jennifer Budzinski</dc:creator>
  <dc:description/>
  <dc:language>en-US</dc:language>
  <cp:lastModifiedBy>Erich Friedman</cp:lastModifiedBy>
  <dcterms:modified xsi:type="dcterms:W3CDTF">2020-08-24T17:48:51Z</dcterms:modified>
  <cp:revision>410</cp:revision>
  <dc:subject/>
  <dc:title>Slide 1</dc:title>
</cp:coreProperties>
</file>