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9D21-6E2D-4FB5-B019-A9FEFCC12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534D-6638-491C-BFEA-9C6F2DCC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8E1B-6D4A-4468-B078-273684EDB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D3CA-2166-4BD7-A549-17FA95DF6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4643-68CE-4123-925B-5BADA2BF8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D661-6A2A-43C8-B525-CFF4A0D9B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BF3F-9157-41DF-A9EA-367A96687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CCD7-F522-4A4A-9821-F2B839183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0A8B-1C6E-4D2B-B754-8EA8F5A3E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D13A-DDDF-4716-8D3E-D913AD39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873C-5568-465F-BF9D-25F92872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8257-71D1-4552-A750-3DAD996F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CD78-6718-40A1-8963-94D2299DD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A29C-DBD9-4615-831D-3E0B60821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FC2C-B39E-43EB-B74A-74DBEDAC3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DCE9-9585-4895-83FB-54EAD97D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C78A-9155-4493-8810-EBC8A7A2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C1D6-EABE-4DB0-AA08-A7E235D1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611A-7CEA-4F49-A17C-C704E4E67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CA61-8879-4B73-8263-BB37D7567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AD9F-2EB9-4AD3-AA21-09F59A0C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A7CC-19E0-40BC-B9A8-136F3CA5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D404-9BE8-4057-843F-2620C3D77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ILLARY CLINTON'S RUNNING MATE IN THE 2016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K  HEN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GIVE ME LIBERTY OR GIVE ME DEA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, AND THE U.S. PRESIDENT DURING THE LOUISIANA PURCH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212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MUND  RANDOL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30080"/>
            <a:ext cx="6781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 AN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ATTORNEY GEN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ICE PRESIDENT TO SUCCEED TO THE PRESIDENCY WITHOUT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B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LED THE "CONSERVATIVE COALITION" IN THE 1950'S AND 19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GIVE ME LIBERTY OR GIVE ME DEA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W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2008 DEMOCRATIC CONVENTION, BUT NEVER SOUGHT A PRESIDENTIAL NOM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K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ILLARY CLINTON'S RUNNING MATE IN THE 2016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VERNORS  OF  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, AND THE U.S. PRESIDENT DURING THE LOUISIANA PURCH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 AN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ATTORNEY GEN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ICE PRESIDENT TO SUCCEED TO THE PRESIDENCY WITHOUT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LED THE "CONSERVATIVE COALITION" IN THE 1950'S AND 196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2008 DEMOCRATIC CONVENTION, BUT NEVER SOUGHT A PRESIDENTIAL NOM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3:53:29Z</dcterms:created>
  <dc:creator>Jennifer Budzinski</dc:creator>
  <dc:description/>
  <dc:language>en-US</dc:language>
  <cp:lastModifiedBy>Erich Friedman</cp:lastModifiedBy>
  <dcterms:modified xsi:type="dcterms:W3CDTF">2020-08-24T17:48:51Z</dcterms:modified>
  <cp:revision>410</cp:revision>
  <dc:subject/>
  <dc:title>Slide 1</dc:title>
</cp:coreProperties>
</file>