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072F-48B7-4153-BF39-7A2103375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5E74-37DE-4CD8-9695-F7EB7D428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7186-EA78-4A2F-8A70-27D256F44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6938-F455-4113-B8E2-3C5BC3C1E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2B9E-CB44-4730-9278-FFA98CFE9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DE2A-EB04-4A55-A4FB-3430FFC30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83F1-A94C-4239-8F53-64CF26001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A8F1-599E-479D-858E-18D6F02C5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3AA0-C4EA-4CB6-B1EE-B6B7793F1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52BB-0F65-4568-B58A-C2D322D67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027D-B56B-4999-890F-F278C6102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2DDD-DDB8-41C5-B58E-8FEAA2E23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C922-9CB8-4B6C-A128-91CE0ED86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A019-4F86-402A-947F-2458E29C5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C545-19E5-4232-AFFE-CC977512B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FAAF-B1BC-487A-8AF6-B0AEB1475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DDDE-723B-42F1-83ED-02B54ABA2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EC9A-FC75-4935-B8DB-95B658D23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90A4-06AD-47CA-87E4-FCFC2B546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F6A8-5445-4E53-9309-EC84D2BC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D573-68B2-43EF-AB46-31D71EF67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D024-2B80-418F-894A-919A57137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7759-B8B1-45B8-BC4E-38BBAAADF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38160" y="685440"/>
            <a:ext cx="7267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S OF THESE 3 VAN GOGH PAINT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385920" y="3270240"/>
            <a:ext cx="2438280" cy="20336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"/>
          <p:cNvPicPr/>
          <p:nvPr/>
        </p:nvPicPr>
        <p:blipFill>
          <a:blip r:embed="rId2"/>
          <a:stretch/>
        </p:blipFill>
        <p:spPr>
          <a:xfrm>
            <a:off x="3097080" y="327816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3"/>
          <a:stretch/>
        </p:blipFill>
        <p:spPr>
          <a:xfrm>
            <a:off x="6024600" y="3278160"/>
            <a:ext cx="2744640" cy="20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(GOTH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96696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MOST FAMOUS PAINTING BY GRANT W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TE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71640" y="762120"/>
            <a:ext cx="7200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CALIFORNIA WAS THE CAPITAL FROM 1777 TO 1854, JUST AFTER IT GAINED STATEH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95320" y="762120"/>
            <a:ext cx="7353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ROBIN WILLIAMS PLAY A BOY WHO AGES AT 4 TIMES THE NORMAL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RAYMOND ON "EVERYBODY LOVES RAYMO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NEED TO PLAY "CAT'S CRA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90640" y="762120"/>
            <a:ext cx="736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TOURNAMENT DO TEAMS PLAY TEAMS WITH SIMILAR RECORDS BUT NEVER THE SAME TEAM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LIGHT HAS A WAVELENGTH BETWEEN 450 AND 500 NANOME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MOST FAMOUS PAINTING BY GRANT W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SUNSHINE OF YOUR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380880" y="495792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T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955800" y="685800"/>
            <a:ext cx="7232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S OF THESE 3 VAN GOGH PAINT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017720" y="3247920"/>
            <a:ext cx="2093760" cy="17463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3432240" y="3247920"/>
            <a:ext cx="2279520" cy="1710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8" descr=""/>
          <p:cNvPicPr/>
          <p:nvPr/>
        </p:nvPicPr>
        <p:blipFill>
          <a:blip r:embed="rId3"/>
          <a:stretch/>
        </p:blipFill>
        <p:spPr>
          <a:xfrm>
            <a:off x="6032520" y="3247920"/>
            <a:ext cx="2317680" cy="171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1366920" y="4229280"/>
            <a:ext cx="6410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CHEE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CALIFORNIA WAS THE CAPITAL FROM 1777 TO 1854, JUST AFTER IT GAINED STATEH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66880" y="762120"/>
            <a:ext cx="7410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ROBIN WILLIAMS PLAY A BOY WHO AGES AT 4 TIMES THE NORMAL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RAYMOND ON "EVERYBODY LOVES RAYMO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NEED TO PLAY "CAT'S CRAD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TOURNAMENT DO TEAMS PLAY TEAMS WITH SIMILAR RECORDS BUT NEVER THE SAME TEAM TW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LIGHT HAS A WAVELENGTH BETWEEN 450 AND 500 NANOME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SUNSHINE OF YOUR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49:40Z</dcterms:modified>
  <cp:revision>444</cp:revision>
  <dc:subject/>
  <dc:title>Slide 1</dc:title>
</cp:coreProperties>
</file>