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C89A-FA13-48F7-93CF-D2379B63C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62F1-2BF7-46B2-A7BC-E97119EB8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5BDF-83C4-4B39-AA80-51432C3A3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91CA-7BB7-4B11-BFFD-C159FD13E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CC5F-253D-4854-B2A3-C04CC9C4A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02BB-CE76-4951-8505-0956C50E8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1F29-E260-45F9-BAF3-E867F0EE3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C5EB-27EF-450C-A409-DD1C8782A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3B63-4B40-44A5-BD99-41426464C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CCF4-1C81-4A77-9DE0-50116F9B5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1968-C30A-4855-A3C3-2D5D6A9D9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0493-CCDF-4AFC-BD06-C7CB0D150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B87A-F734-49D7-888B-5224C35F1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90CE-F7B3-45D7-B26E-D09525720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057A-674F-4806-9B67-197FE9B19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C0F9-2E85-4D4D-BDBC-19D5E6C43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FD13-B503-4100-A352-E407223EB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8A0E-49A2-4053-AFD1-FBC794830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0988-B9D9-4B87-A985-883B9B3AE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586A-FCB4-4F05-BB50-4C9AE23FD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5D12-4F4A-49BE-9E58-5EBF32E95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14CD-6D8D-4F71-8A8C-470F0FBFA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7501-B0CF-4F91-9E77-F48DCE965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38160" y="685440"/>
            <a:ext cx="7267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S OF THESE 3 VAN GOGH PAINT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385920" y="3270240"/>
            <a:ext cx="2438280" cy="20336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3097080" y="327816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3"/>
          <a:stretch/>
        </p:blipFill>
        <p:spPr>
          <a:xfrm>
            <a:off x="6024600" y="3278160"/>
            <a:ext cx="2744640" cy="20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(GOTHI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96696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MOST FAMOUS PAINTING BY GRANT W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E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CALIFORNIA WAS THE CAPITAL FROM 1777 TO 1854, JUST AFTER IT GAINED STATEH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95320" y="762120"/>
            <a:ext cx="7353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ROBIN WILLIAMS PLAY A BOY WHO AGES AT 4 TIMES THE NORMAL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RAYMOND ON "EVERYBODY LOVES RAYMO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NEED TO PLAY "CAT'S CRAD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90640" y="762120"/>
            <a:ext cx="736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RT OF TOURNAMENT DO TEAMS PLAY TEAMS WITH SIMILAR RECORDS BUT NEVER THE SAME TEAM TW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47760" y="762120"/>
            <a:ext cx="84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LIGHT HAS A WAVELENGTH BETWEEN 450 AND 500 NANOME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MOST FAMOUS PAINTING BY GRANT W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SUNSHINE OF YOUR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380880" y="495792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955800" y="685800"/>
            <a:ext cx="723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S OF THESE 3 VAN GOGH PAINT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1017720" y="3247920"/>
            <a:ext cx="2093760" cy="17463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3432240" y="3247920"/>
            <a:ext cx="2279520" cy="1710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3"/>
          <a:stretch/>
        </p:blipFill>
        <p:spPr>
          <a:xfrm>
            <a:off x="6032520" y="3247920"/>
            <a:ext cx="2317680" cy="171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1366920" y="4229280"/>
            <a:ext cx="6410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CHEES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CALIFORNIA WAS THE CAPITAL FROM 1777 TO 1854, JUST AFTER IT GAINED STATEH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66880" y="762120"/>
            <a:ext cx="7410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ROBIN WILLIAMS PLAY A BOY WHO AGES AT 4 TIMES THE NORMAL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RAYMOND ON "EVERYBODY LOVES RAYMO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NEED TO PLAY "CAT'S CRAD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RT OF TOURNAMENT DO TEAMS PLAY TEAMS WITH SIMILAR RECORDS BUT NEVER THE SAME TEAM TW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LIGHT HAS A WAVELENGTH BETWEEN 450 AND 500 NANOME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SUNSHINE OF YOUR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0:49:40Z</dcterms:modified>
  <cp:revision>444</cp:revision>
  <dc:subject/>
  <dc:title>Slide 1</dc:title>
</cp:coreProperties>
</file>