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B14-EDD2-493C-9D61-BBDD6EC4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685-6391-4678-A654-A8585C9C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9A6B-696E-4B62-A701-869B52D3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F65-F4F7-49B2-B329-EA70E402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07AF-5AFA-4A5F-97F6-5609AEF5A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505-3A87-4AC8-A88E-27D8F8D7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CD31-CF5D-45C5-AAA2-17C30B02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8ECC-3C30-4B3A-9B86-C52ABFD4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D0FD-6A0C-47E6-9C06-49B236580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D6C-B370-4E28-906A-9347CB0EE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506-F3BA-4603-8440-C3CC2BB7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8626-ACD2-4009-AEAA-4B9B29B0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782-F503-4AFE-9802-5F6D476B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D9A5-3BF2-493F-B99E-4EFDFDB77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43C-DC57-4E98-BA3B-D8AFA09B8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2D58-BC50-4CAA-BEB8-E0BEAC52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D7CD-7B84-4483-AAD9-149516278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5382-AAEF-4D8C-880D-39114477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50B9-BF30-41AA-91F9-E3884BFB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185B-DA6E-4849-9B10-14CC1D6B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1BB-CF07-48F4-83C9-96797932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BB7-16ED-4509-A356-24765903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15E4-435B-40FB-B86F-104BD48B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8160" y="685440"/>
            <a:ext cx="7267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S OF THESE 3 VAN GOGH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85920" y="3270240"/>
            <a:ext cx="2438280" cy="2033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3097080" y="327816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6024600" y="3278160"/>
            <a:ext cx="274464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(GOTH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96696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OST FAMOUS PAINTING BY GRANT 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CALIFORNIA WAS THE CAPITAL FROM 1777 TO 1854, JUST AFTER IT GAINED STATE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BOY WHO AGES AT 4 TIMES THE NORMAL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RAYMOND ON "EVERYBODY LOVES RAYM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NEED TO PLAY "CAT'S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90640" y="76212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OURNAMENT DO TEAMS PLAY TEAMS WITH SIMILAR RECORDS BUT NEVER THE SAME TEAM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LIGHT HAS A WAVELENGTH BETWEEN 450 AND 500 NANOME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OST FAMOUS PAINTING BY GRANT 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UNSHINE OF Y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95792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955800" y="685800"/>
            <a:ext cx="723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S OF THESE 3 VAN GOGH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017720" y="3247920"/>
            <a:ext cx="2093760" cy="1746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3432240" y="3247920"/>
            <a:ext cx="2279520" cy="1710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3"/>
          <a:stretch/>
        </p:blipFill>
        <p:spPr>
          <a:xfrm>
            <a:off x="6032520" y="3247920"/>
            <a:ext cx="2317680" cy="17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366920" y="4229280"/>
            <a:ext cx="6410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CHEE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CALIFORNIA WAS THE CAPITAL FROM 1777 TO 1854, JUST AFTER IT GAINED STATE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66880" y="762120"/>
            <a:ext cx="741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BOY WHO AGES AT 4 TIMES THE NORMAL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RAYMOND ON "EVERYBODY LOVES RAYMO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NEED TO PLAY "CAT'S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OURNAMENT DO TEAMS PLAY TEAMS WITH SIMILAR RECORDS BUT NEVER THE SAME TEAM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LIGHT HAS A WAVELENGTH BETWEEN 450 AND 500 NANOME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UNSHINE OF Y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49:40Z</dcterms:modified>
  <cp:revision>444</cp:revision>
  <dc:subject/>
  <dc:title>Slide 1</dc:title>
</cp:coreProperties>
</file>