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4132-E6F5-4C11-8605-FCCE204C9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0CDC-16C8-4217-A935-DA01E7A17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D9AA-AE5C-4460-ABA2-A7DA189F8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746B-C75B-45BC-B827-2A5D252C4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7122-8E60-4122-B880-1F55B47D5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53A7-4BA8-4849-A160-0F023C3D1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1465-750D-4DEE-A56E-7F2F73926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D5BE-F5BA-4793-AF39-FB64E8A3F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1879-F3A9-47E1-A0D1-2DD4EE7E4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505A-3B08-452F-BA95-28986DD89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FF79-E0CD-4CDA-BE1E-2D20081CD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B6E8-FF37-4A4E-B03F-DF7BAFDA8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2F07-096C-4959-8ACD-F115AF4AD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4889-14B9-4308-94AE-A22866546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6D02-4655-492B-A90B-30C865A69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F532-AF36-4898-9D7A-A00D23593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D84B-AD4A-46E1-A2E3-FA41BBAD2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271A-9F77-43FD-AB1B-9AF98D00B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2259-2797-4075-971B-1251CEFC1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4C84-211E-4E68-90A0-9E8A44E95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3B35-42A3-4272-9355-FBE23C090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C0A9-2510-4C99-82BE-2E59BC810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874C-5E04-447C-95D3-C5C36F6F9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53520" y="762120"/>
            <a:ext cx="8434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COVER DEVICES USED BY HUNTERS OR BIRD WATCHERS TO REMAIN UNDETEC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0680" y="762120"/>
            <a:ext cx="8162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ENTER OF THE TARGET CALLED IN CUR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VER  (PHOEN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90560" y="762120"/>
            <a:ext cx="7562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ACTOR OSCAR-NOMINATED FOR HIS ROLE IN "MY PRIVATE IDAH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9400" y="762120"/>
            <a:ext cx="7373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SORT   OF OPTION ALLOWS THE BUYER THE RIGHT TO BUY SOMETHING AT A FIXED PRICE AND FUTUR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3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7 FILM IS RICHARD DREYFUSS A PUBLIC DEFENDER TRYING TO PROVE BARBRA STREISAND IS SANE TO STAND T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95280" y="762120"/>
            <a:ext cx="83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SS, WHAT IS A THREAT TO CAPTURE THE KING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THE TERM FOR AN INTENTIONAL FALL TO DRAW A FO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77920" y="762120"/>
            <a:ext cx="858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RUSSIANS, FINNS, AND BELGIANS USE FOR "FOOSBALL", AND GERMANS USE FOR "SOCCER PLAY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ENTER OF THE TARGET CALLED IN CURL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1500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MOST OFTEN IN THE LYRICS OF THE TRAMMPS' SONG "DISCO INFER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61800" y="762120"/>
            <a:ext cx="8401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COVER DEVICES USED BY HUNTERS OR BIRD WATCHERS TO REMAIN UNDET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3400" y="4800600"/>
            <a:ext cx="693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ER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ACTOR OSCAR-NOMINATED FOR HIS ROLE IN "MY PRIVATE IDAH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41400" y="762120"/>
            <a:ext cx="726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SORT  OF OPTION ALLOWS THE BUYER THE RIGHT TO BUY SOMETHING AT A FIXED PRICE AND FUTUR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7 FILM IS RICHARD DREYFUSS A PUBLIC DEFENDER TRYING TO PROVE BARBRA STREISAND IS SANE TO STAND T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SS, WHAT IS A THREAT TO CAPTURE THE KING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09680" y="761760"/>
            <a:ext cx="8324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THE TERM FOR AN INTENTIONAL FALL TO DRAW A FOU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25440" y="762120"/>
            <a:ext cx="849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RUSSIANS, FINNS, AND BELGIANS USE FOR "FOOSBALL", AND GERMANS USE FOR "SOCCER PLAY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MOST OFTEN IN THE LYRICS OF THE TRAMMPS' SONG "DISCO INFER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50:00Z</dcterms:modified>
  <cp:revision>453</cp:revision>
  <dc:subject/>
  <dc:title>Slide 1</dc:title>
</cp:coreProperties>
</file>