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3C87-6A90-491B-8A27-C9CD27948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074A-4403-4AC8-9184-7614AE30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7BBE-F190-4905-ABC4-80A7FFF32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D63-0786-4A76-8BAA-3614AAD57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D4A3-D86F-4CA8-8427-AF9E29C3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1995-5ACB-4FD3-93AE-C58ED725B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2C8B-689C-43DD-959F-4FEDA1CC6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BB94-2FB8-4BC6-847B-283382097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97EF-CA79-4E59-BE3E-019709BE4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C2AD-6FA3-4B21-AE22-802681C77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6962-94D4-4900-A3A5-656EE2824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7228-6444-4A44-A0EF-A61C9B4C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0BEA-E2AE-492F-8527-366ACCF7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B84F-BB8E-41F3-A184-0C4C62C4A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75F7-82AC-4B0F-8354-87EB5033E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5BD2-09B3-47A7-BC3A-6C690D4A4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CF16-5EE7-41E9-B556-9DFD410A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8CC7-4182-4E90-9ECC-A64FF5F6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22B1-00CB-40A3-B298-A5B1D4F62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4193-93D6-41A1-973F-74318AC1A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F60D-245F-42F9-9336-CDD98EB5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8BB6-79CB-4D10-8DEB-01B7BAC47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B240-5169-4CB2-A278-2BEB2D47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COVER DEVICES USED BY HUNTERS OR BIRD WATCHERS TO REMAIN UNDETE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0680" y="762120"/>
            <a:ext cx="8162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ENTER OF THE TARGET CALLED IN CUR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VER  (PHOEN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0560" y="762120"/>
            <a:ext cx="756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CTOR OSCAR-NOMINATED FOR HIS ROLE IN "MY PRIVATE IDA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9400" y="762120"/>
            <a:ext cx="7373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SORT   OF OPTION ALLOWS THE BUYER THE RIGHT TO BUY SOMETHING AT A FIXED PRICE AND FUTUR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FILM IS RICHARD DREYFUSS A PUBLIC DEFENDER TRYING TO PROVE BARBRA STREISAND IS SANE TO STAND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5280" y="762120"/>
            <a:ext cx="83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IS A THREAT TO CAPTURE THE K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TERM FOR AN INTENTIONAL FALL TO DRAW A FO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77920" y="762120"/>
            <a:ext cx="858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RUSSIANS, FINNS, AND BELGIANS USE FOR "FOOSBALL", AND GERMANS USE FOR "SOCCER P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ENTER OF THE TARGET CALLED IN CUR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1500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61800" y="762120"/>
            <a:ext cx="8401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COVER DEVICES USED BY HUNTERS OR BIRD WATCHERS TO REMAIN UNDET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3400" y="4800600"/>
            <a:ext cx="6935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ACTOR OSCAR-NOMINATED FOR HIS ROLE IN "MY PRIVATE IDAH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41400" y="762120"/>
            <a:ext cx="726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SORT  OF OPTION ALLOWS THE BUYER THE RIGHT TO BUY SOMETHING AT A FIXED PRICE AND FUTUR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FILM IS RICHARD DREYFUSS A PUBLIC DEFENDER TRYING TO PROVE BARBRA STREISAND IS SANE TO STAND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IS A THREAT TO CAPTURE THE K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WHAT IS THE TERM FOR AN INTENTIONAL FALL TO DRAW A FOU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RUSSIANS, FINNS, AND BELGIANS USE FOR "FOOSBALL", AND GERMANS USE FOR "SOCCER P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50:00Z</dcterms:modified>
  <cp:revision>453</cp:revision>
  <dc:subject/>
  <dc:title>Slide 1</dc:title>
</cp:coreProperties>
</file>