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4463-D8B5-4F90-B03F-2CE402D88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512A-2B2B-4CEA-806A-C8E023F54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1313-6E38-4F1B-B79E-EBBCB49A7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A4E7-2A6F-4DF2-AEDB-F25706C71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2A3A-5392-4112-B5DA-FA9A317B0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91A6-ADE3-4124-8561-C351F7CD3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FD36-7C6B-4CFE-92F6-5C45B9CFA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207B-2A72-4073-B87D-434EA467D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4E7B-D1A5-491A-8EF3-DE42CA48F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E1F8-89AE-4BD1-A655-705E4A6E5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4BA3-81C7-4D57-B712-2FE6818F9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02E7-1A2E-4F1F-8A43-CC985500E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F667-737E-4D27-84DC-508F1D4C1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15B5-D12B-4100-A2A5-66ACD261B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50F2-4156-4144-9F2E-6157F0849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501F-859F-4692-9290-6E8589DE5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9A07-E673-47DB-87D9-B06456EA3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6727-DEBE-4FEC-BFDD-0B9188694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D88F-F192-4764-ADB1-654F608FC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F0B6-D6DB-4978-BE19-01A1B37DF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9339-23A4-44C0-A218-E5DECBFF0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B7BA-E7D2-4CAD-81D0-85488BCF5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2B26-C92D-42A2-8F98-4F92E8E9A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53520" y="762120"/>
            <a:ext cx="8434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COVER DEVICES USED BY HUNTERS OR BIRD WATCHERS TO REMAIN UNDETEC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U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0680" y="762120"/>
            <a:ext cx="8162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ENTER OF THE TARGET CALLED IN CUR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800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VER  (PHOENI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90560" y="762120"/>
            <a:ext cx="7562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ACTOR OSCAR-NOMINATED FOR HIS ROLE IN "MY PRIVATE IDAH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79400" y="762120"/>
            <a:ext cx="7373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INANCE, WHAT SORT   OF OPTION ALLOWS THE BUYER THE RIGHT TO BUY SOMETHING AT A FIXED PRICE AND FUTUR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3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7 FILM IS RICHARD DREYFUSS A PUBLIC DEFENDER TRYING TO PROVE BARBRA STREISAND IS SANE TO STAND TR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95280" y="762120"/>
            <a:ext cx="83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SS, WHAT IS A THREAT TO CAPTURE THE KING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KETBALL, WHAT IS THE TERM FOR AN INTENTIONAL FALL TO DRAW A FOU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77920" y="762120"/>
            <a:ext cx="8588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RUSSIANS, FINNS, AND BELGIANS USE FOR "FOOSBALL", AND GERMANS USE FOR "SOCCER PLAY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66560" y="762120"/>
            <a:ext cx="8210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ENTER OF THE TARGET CALLED IN CURL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1500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MOST OFTEN IN THE LYRICS OF THE TRAMMPS' SONG "DISCO INFER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61800" y="762120"/>
            <a:ext cx="8401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COVER DEVICES USED BY HUNTERS OR BIRD WATCHERS TO REMAIN UNDETE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03400" y="4800600"/>
            <a:ext cx="6935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KER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09560" y="761760"/>
            <a:ext cx="7724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ACTOR OSCAR-NOMINATED FOR HIS ROLE IN "MY PRIVATE IDAH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41400" y="762120"/>
            <a:ext cx="7261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INANCE, WHAT SORT  OF OPTION ALLOWS THE BUYER THE RIGHT TO BUY SOMETHING AT A FIXED PRICE AND FUTUR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7 FILM IS RICHARD DREYFUSS A PUBLIC DEFENDER TRYING TO PROVE BARBRA STREISAND IS SANE TO STAND TRI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SS, WHAT IS A THREAT TO CAPTURE THE KING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09680" y="761760"/>
            <a:ext cx="8324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KETBALL, WHAT IS THE TERM FOR AN INTENTIONAL FALL TO DRAW A FOU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25440" y="762120"/>
            <a:ext cx="849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RUSSIANS, FINNS, AND BELGIANS USE FOR "FOOSBALL", AND GERMANS USE FOR "SOCCER PLAY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MOST OFTEN IN THE LYRICS OF THE TRAMMPS' SONG "DISCO INFERN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9-01T00:50:00Z</dcterms:modified>
  <cp:revision>453</cp:revision>
  <dc:subject/>
  <dc:title>Slide 1</dc:title>
</cp:coreProperties>
</file>