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6786-3D11-4413-8F41-36D5A7EC4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2A85-2512-45EA-9DE8-D0026F91D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DA91-C17F-4B15-BAF9-28036F189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AF37-60C4-4D2D-90B0-3C2C6229C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1BA1-D874-4958-A186-388F11F88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0A0F-2EF2-4090-B99E-AC48EF60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77858-B18D-4D8F-8652-31934498A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46B0-1E98-4602-8AFD-4A3D3B106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EEC5-896A-44DF-A397-4BD41E6A1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C6F1-172E-424C-8632-37B4F4F05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632E-EBD8-4C44-905B-6B2B9CA52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E587-0352-45D1-A66D-5AFD029EA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2811-D277-4947-BCBF-E2FD09A56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CFB2-BE0B-49F7-92CC-F78AE3C86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BDAB-259E-46DA-A09D-DD6A3142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88CC-BBC6-4BF3-92A2-E5F0A3E2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C97E-A20F-43B5-B1EB-A368FBCBB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E876-AC31-4F34-AEDE-CE308D726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8B81-9430-4AA1-A399-8F36739EB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BC96-4EDE-4DE5-8FC5-F44B9A87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B518-987E-480A-A2F2-E69E89D38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FC26-DA94-45B9-8561-AABF3A5C4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18F6-E9EA-42D5-83D3-93CC2FC8E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DYSS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74640" y="762120"/>
            <a:ext cx="779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EENAGER NOMINATED FOR AN OSCAR, FOR THE 1939 FILM "BABES IN AR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ERSON TO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9400" y="762120"/>
            <a:ext cx="758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HEMIPTER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RU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CAL STATE BAKERSFIELD (AND ORANGE CITY GRADE SCHOO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DWARF PLANET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HIS ROMANTIC PARTNER'S ADOPTED DAUGHTER, SOON-YI PREV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0360" y="762120"/>
            <a:ext cx="78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BASEBALL IS 90% MENTAL AND THE OTHER HALF IS PHYSIC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TEENAGER NOMINATED FOR AN OSCAR, FOR THE 1939 FILM "BABES IN AR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PEOPLE HAVE BEEN NOMINATED FOR BEST ACTOR AND BEST ORIGINAL SCREENPLAY FOR THE SAME FILM: CHARLIE CHAPLIN, ORSON WELLES, AND WHO EL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DYSS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3400" y="4267080"/>
            <a:ext cx="6935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ARTOON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ERSON TO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41400" y="762120"/>
            <a:ext cx="726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HEMIPTER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CAL STATE BAKERSFIELD (AND ORANGE CITY GRADE SCHOO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DWARF PLANET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09680" y="761760"/>
            <a:ext cx="83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HIS ROMANTIC PARTNER'S ADOPTED DAUGHTER, SOON-YI PREV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BASEBALL IS 90% MENTAL AND THE OTHER HALF IS PHYSIC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 PEOPLE HAVE BEEN NOMINATED FOR BEST ACTOR AND BEST ORIGINAL SCREENPLAY FOR THE SAME FILM: CHARLIE CHAPLIN, ORSON WELLES, AND WHO EL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8:27:37Z</dcterms:modified>
  <cp:revision>449</cp:revision>
  <dc:subject/>
  <dc:title>Slide 1</dc:title>
</cp:coreProperties>
</file>