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DD07-9786-4C8C-AE6C-9186C9C23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3030-20A2-4CE2-9118-4093A3FF7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E24D-631F-435D-85DF-8171FF127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8562-15A4-4668-A5CC-B12669DC1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E335-B824-46D3-A04A-F4AA6B7C0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CF7E-2ADE-4FDA-81BA-5A4B3832B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CE28-E67D-4960-A1EB-6AD37BFBE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D129-8807-4215-B22D-88CB434A0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D8AB-B1A9-465E-B2DC-A199403CB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34BE-33BD-4FCD-BD6D-13C02FBB6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4E9D-7613-48A2-B8DE-2544ECDE1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1DBA-9A1F-4BE9-9722-407D20688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BF57-9A8E-4E00-851F-831806C55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E18B-AF88-4634-A4C1-BFD3005B3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BC1C-4DCB-498E-8AA9-C7DE81F82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FBB8-B014-4749-AC67-D1029D1F3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1AA1-2F23-4AE4-A00E-E1140CD05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45A2-CF7A-4CF6-9986-357F81A8C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C937-E16E-4F51-BAE2-FC4DD6D6C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2AEC-D1F6-4E7A-86A0-4BBAC7321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1F29-3934-4153-9E38-5F711B73C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9FB2-BF19-4FC8-B580-4133760F7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0CFD-9D46-4E0F-ACF7-AF992B6AB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DYSSE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R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74640" y="762120"/>
            <a:ext cx="779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TEENAGER NOMINATED FOR AN OSCAR, FOR THE 1939 FILM "BABES IN AR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ALD  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PERSON TO BECO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B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9400" y="762120"/>
            <a:ext cx="758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HEMIPTERA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DRU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THLETIC TEAMS OF CAL STATE BAKERSFIELD (AND ORANGE CITY GRADE SCHOOL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 WAS DEMOTED TO DWARF PLANET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HIS ROMANTIC PARTNER'S ADOPTED DAUGHTER, SOON-YI PREV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GI  B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30360" y="762120"/>
            <a:ext cx="788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BASEBALL IS 90% MENTAL AND THE OTHER HALF IS PHYSIC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TEENAGER NOMINATED FOR AN OSCAR, FOR THE 1939 FILM "BABES IN ARM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1500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LVESTER  STAL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PEOPLE HAVE BEEN NOMINATED FOR BEST ACTOR AND BEST ORIGINAL SCREENPLAY FOR THE SAME FILM: CHARLIE CHAPLIN, ORSON WELLES, AND WHO EL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DYSSE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3400" y="4267080"/>
            <a:ext cx="6935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CARTOON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PERSON TO BECOM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41400" y="762120"/>
            <a:ext cx="726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HEMIPTERA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THLETIC TEAMS OF CAL STATE BAKERSFIELD (AND ORANGE CITY GRADE SCHOO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 WAS DEMOTED TO DWARF PLANET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09680" y="761760"/>
            <a:ext cx="8324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HIS ROMANTIC PARTNER'S ADOPTED DAUGHTER, SOON-YI PREV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3120" y="762120"/>
            <a:ext cx="7996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BASEBALL IS 90% MENTAL AND THE OTHER HALF IS PHYSIC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0200" y="762120"/>
            <a:ext cx="828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PEOPLE HAVE BEEN NOMINATED FOR BEST ACTOR AND BEST ORIGINAL SCREENPLAY FOR THE SAME FILM: CHARLIE CHAPLIN, ORSON WELLES, AND WHO EL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8:27:37Z</dcterms:modified>
  <cp:revision>449</cp:revision>
  <dc:subject/>
  <dc:title>Slide 1</dc:title>
</cp:coreProperties>
</file>