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A398-2E8E-4982-99B4-838F02A50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24E3-0F18-49F5-AF74-AF6FE012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F60-7B0A-4A38-8BCB-BE6354F5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08B-1145-4321-B736-7B8DC0F0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571-AE64-4A64-BE39-9C815A7A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8E1-7C0B-4AF6-A87F-616B70A0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013-520C-4686-BCEA-730F0F19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ECD-8F47-4F19-8CC4-36187E01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A89E-E8B6-4BCA-849E-E86449D8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E6B-87FD-4CE6-AE6A-B42975285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691-67D0-4ADC-9C02-1A538ACA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CDA9-7FA1-4798-B1B1-7FA96B32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34A-EBA8-45C1-AF90-BFBD12B4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074F-2FEA-4629-A3BC-4779FD6B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8FBA-9F8C-4205-8FF7-C5A52088C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E41-90D3-448D-A28E-3D758D9C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C416-C20F-4C44-A500-8CE3DD6F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C84-DD02-4260-8AAC-2419A5C77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E640-8D66-4F92-8282-2BE080BE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BCF-326E-4923-A26B-9828D097C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19C-5936-4D90-9154-79115C96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B191-20BF-4901-BE61-3CE46A88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9B7C-D030-479D-A85C-E68D2B48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58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0360" y="762120"/>
            <a:ext cx="78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267080"/>
            <a:ext cx="6935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ARTOON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8:27:37Z</dcterms:modified>
  <cp:revision>449</cp:revision>
  <dc:subject/>
  <dc:title>Slide 1</dc:title>
</cp:coreProperties>
</file>