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B404-1534-460E-BA44-8562770E4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608F-51EB-4581-9524-A3732284F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6B24-FA34-4059-953A-C0748CD09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31A1-6110-4117-A3E1-F68975FF8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CA1E-CE77-4942-B93F-F6401BF9A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5FE1-358A-450D-9BAC-BD821E847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45BA-414F-4FDA-8F33-CB4F341F2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CFE3-0581-4E0D-9DA6-DA11693DE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9776-67B8-4986-A72D-4AA89C5CB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3B2B-BC67-47FA-8667-C91CDDF42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76C3-B610-40E1-A1BF-30D9DFDB1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F142-62CC-4983-9562-795302FC3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E197-99D7-4353-BE50-1A1B311E7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B02A-46F4-4E7E-8543-041118451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6776-D5B5-452F-B0B3-8A3046B55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A402-C5F9-40E1-939B-135B7C55C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A058-2DC7-4673-82E4-35FA1EAB5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9646-8C16-46E8-81FE-E5890D88D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8945-F9D1-438E-9643-75CD4DCAD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2E4A-C642-4D8F-B950-983650E10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0F50-FDEB-4B18-B044-FCD1A1863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F407-6D64-4642-AF45-B8FC69213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CCDC-5838-4395-B3D3-0A4FEF611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33240" y="762120"/>
            <a:ext cx="7877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EXPRESSION x</a:t>
            </a:r>
            <a:r>
              <a:rPr b="0" lang="en-US" sz="4000" spc="-1" strike="noStrike" baseline="4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n IS CALLED THE EXPONENT, AND x IS CALLED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I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74640" y="762120"/>
            <a:ext cx="7794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INSTRUMENT DID "ZIGGY STARDUST" PLAY IN HIS BAND, ACCORDING TO THE DAVID BOWIE SONG OF THE SAM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86080" y="4800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R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71640" y="762120"/>
            <a:ext cx="720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EST BANK SITS BETWEEN ISRAEL AND WHAT OTHER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15800" y="762120"/>
            <a:ext cx="8248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EOMETRY, CONIC SECTIONS ARE PRODUCED BY INTERSECTING A CONE WITH WHAT INFINITE SURF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DITIO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FIRST HIT THE MARKET IN 1987, PERT PLUS WAS THE FIRST "TWO-IN-ONE" PRODUCT TO COMBINE SHAMPOO WITH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IS THE MOST POPULAR INSECTIC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90640" y="762120"/>
            <a:ext cx="7362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E COMES IN RUBY, TAWNY, OR WH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006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47760" y="762120"/>
            <a:ext cx="8448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WORD IN THE TITLES OF ALL 5 OF THE FILMS IN WHICH MATT DAMON PLAYS A CIA ASSASS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INSTRUMENT DID "ZIGGY STARDUST" PLAY IN HIS BAND, ACCORDING TO THE DAVID BOWIE SONG OF THE SAM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71680" y="481500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WTON'S SECOND LAW OF PHYSICS IS A FORMULA TO CALCULATE WHAT QUANT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EXPRESSION x</a:t>
            </a:r>
            <a:r>
              <a:rPr b="0" lang="en-US" sz="4000" spc="-1" strike="noStrike" baseline="4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n IS CALLED THE EXPONENT, AND x IS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84360" y="4800600"/>
            <a:ext cx="7775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AI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61920" y="761760"/>
            <a:ext cx="7220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EST BANK SITS BETWEEN ISRAEL AND WHAT OTHER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33440" y="762120"/>
            <a:ext cx="8277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EOMETRY, CONIC SECTIONS ARE PRODUCED BY INTERSECTING A CONE WITH WHAT INFINITE SURF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FIRST HIT THE MARKET IN 1987, PERT PLUS WAS THE FIRST "TWO-IN-ONE" PRODUCT TO COMBINE SHAMPOO WITH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IS THE MOST POPULAR INSECTIC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E COMES IN RUBY, TAWNY, OR WHI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09600" y="762120"/>
            <a:ext cx="8524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WORD IN THE TITLES OF ALL 5 OF THE FILMS IN WHICH MATT DAMON PLAYS A CIA ASSASS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80960" y="762120"/>
            <a:ext cx="8182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WTON'S SECOND LAW OF PHYSICS IS A FORMULA TO CALCULATE WHAT QUANT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9-01T00:50:41Z</dcterms:modified>
  <cp:revision>449</cp:revision>
  <dc:subject/>
  <dc:title>Slide 1</dc:title>
</cp:coreProperties>
</file>