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BBBE-4D77-4A95-9D0C-3DA5C3F5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227-029A-4050-9000-B175DCAA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561-633C-4947-8A83-38921FA2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BCC-B882-49E0-972A-19E58ED41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F3C8-616E-46A8-8E97-1B38BC57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2A1-1E04-4A54-8555-8B44DAA3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283-5733-437C-9E62-072ED3E8C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9736-5994-4E6C-85DE-D57AF536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873-03E1-4F2F-B518-DBB5F66B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9627-168F-4D8E-9E2B-5D007181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A1D-F7B3-46CA-99A4-AA0B905D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7D6-7B5B-44A2-8B32-2109A31F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1B1-F34C-4145-BE14-319463AB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472-2310-4C48-83B2-622E7C10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15E-EF21-4799-96FA-36BFAD24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02E-66A9-4652-8FAE-2C7B305C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0BF-E7DA-43B5-8887-3FDE570A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7E69-B75D-4067-936B-A0F25FD4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758-094A-4E69-959A-3C2EF640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BA7E-7E0F-4F7D-8FEA-EE2A28F4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096-AB6C-4A7B-81C5-392C5D9A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AFA-F350-44BA-8101-8DF6E167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7A2A-61C1-408C-92FB-B567290F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5800" y="762120"/>
            <a:ext cx="8248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D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4360" y="4800600"/>
            <a:ext cx="777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I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41Z</dcterms:modified>
  <cp:revision>449</cp:revision>
  <dc:subject/>
  <dc:title>Slide 1</dc:title>
</cp:coreProperties>
</file>