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665C-F182-4154-ADDB-8B814D861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B536-9375-41F1-9065-374F7586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8F28-6CA5-4D12-BAE2-CCA99724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6F8-6CC6-44A2-BC12-6BF033225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99F0-2BAF-42C4-81DF-2E83A3AA4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1202-171F-4C82-9914-C8119FE1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FD15-C831-4BE3-AAD1-43CA3F62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71B4-3AB5-441A-ACB8-D5F90829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541A-8829-4C7A-9D59-A45985731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688E-A1B8-4363-B3BC-747C6CDA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644D-26F4-49FC-B199-A809EB1BC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8707-2A10-44CA-9CDE-B4A20E46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4B6-7653-4824-94F2-EA4C9540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6C14-B90A-49B9-9BCA-4E4F0614A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796-1F55-44DB-908F-B1F004E38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A51B-EE5E-4FC8-A6B5-FFD17CDE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B349-4AF1-4A19-B0FF-5A3FDF73B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B1A5-E959-495D-B70E-780A374B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F5E5-6A13-433D-B477-94E55A4F6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ECA5-A81B-4C68-9E6F-D773F6A3B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35C2-6C47-4EE5-AC59-DE35749E5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9F30-99CE-4FBE-A448-364E578D7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55EE-3807-4E63-A0F0-DC97ED6DA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4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, AND x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74640" y="762120"/>
            <a:ext cx="779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DID "ZIGGY STARDUST" PLAY IN HIS BAND, ACCORDING TO THE DAVID BOWIE SONG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 BANK SITS BETWEEN ISRAEL AND WHAT 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5800" y="762120"/>
            <a:ext cx="8248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OMETRY, CONIC SECTIONS ARE PRODUCED BY INTERSECTING A CONE WITH WHAT INFINITE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DITIO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FIRST HIT THE MARKET IN 1987, PERT PLUS WAS THE FIRST "TWO-IN-ONE" PRODUCT TO COMBINE SHAMPOO WITH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IS THE MOST POPULAR INSECTIC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90640" y="76212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E COMES IN RUBY, TAWNY, OR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WORD IN THE TITLES OF ALL 5 OF THE FILMS IN WHICH MATT DAMON PLAYS A CIA ASSAS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DID "ZIGGY STARDUST" PLAY IN HIS BAND, ACCORDING TO THE DAVID BOWIE SONG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'S SECOND LAW OF PHYSICS IS A FORMULA TO CALCULATE WHAT QUANT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XPRESSION x</a:t>
            </a:r>
            <a:r>
              <a:rPr b="0" lang="en-US" sz="4000" spc="-1" strike="noStrike" baseline="4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 IS CALLED THE EXPONENT, AND x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4360" y="4800600"/>
            <a:ext cx="7775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AI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ST BANK SITS BETWEEN ISRAEL AND WHAT 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OMETRY, CONIC SECTIONS ARE PRODUCED BY INTERSECTING A CONE WITH WHAT INFINITE SUR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FIRST HIT THE MARKET IN 1987, PERT PLUS WAS THE FIRST "TWO-IN-ONE" PRODUCT TO COMBINE SHAMPOO WITH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IS THE MOST POPULAR INSECTIC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E COMES IN RUBY, TAWNY, OR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WORD IN THE TITLES OF ALL 5 OF THE FILMS IN WHICH MATT DAMON PLAYS A CIA ASSAS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TON'S SECOND LAW OF PHYSICS IS A FORMULA TO CALCULATE WHAT QUANT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50:41Z</dcterms:modified>
  <cp:revision>449</cp:revision>
  <dc:subject/>
  <dc:title>Slide 1</dc:title>
</cp:coreProperties>
</file>